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4A8-4938-4ED0-B698-5A47079731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370-FAE1-47A6-AF07-8DE142C3C1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AB0F-A8BC-484A-961E-EE6B6C4BAC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EB57-AFC1-426A-B3E5-2F6CB1F6CC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F2C-E911-498E-A265-49199ACCEC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7AF-80CE-42F0-9838-744D78B46B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C6A-E48A-4F3A-9DB6-726853B07B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C0E-DFAB-4152-951C-7430D4D2D9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18F-46BF-450B-9759-733530D091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399-C2D7-4932-B806-2CE8352D7F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56B-4F7B-4845-A4C3-363D8B7623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646-A9F4-4539-AA6E-0A2BDF557D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4ED6-FEAA-4ECF-A481-823FB1C590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F6E6-2DA2-4040-AB14-FD1067291C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133-674D-40A3-BE4F-A8254327A6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ECA-8F67-4EA3-9E53-E25F97064F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573-171D-4509-BDF4-A887AE3635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8EE5-AA55-44E3-8C37-6CBDED9429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8A02-7D4A-475E-9250-935AE054CC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D059-A350-4542-9A2C-6CF8BB4BEB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1205-5DD5-4098-8974-DA3C18EFA0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196-4D76-4E24-B512-D5AD33B2C2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B44-1965-4C90-A399-AE2D63572E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F1C0-3590-4221-AA60-D876B27E59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5E2-1102-4AD1-9718-9A095C3749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D86-999A-4CAC-B30C-BE0DEC8D18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461-C7AD-4F99-9D2B-DAF0B57F43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8978-3197-4D34-8240-FB54BBB4B9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CDE3-4F67-41D4-A8BF-132F7F3F27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CCF-3FC5-4574-A2F7-1EAB4F5242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73D-80A7-4871-87D9-C5CEF378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E93-6EDD-41E4-B32F-D4C1E72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CBE-28FD-438A-83F2-27052FE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821-8DFD-429F-9AB6-970F8B7D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51C4-9E97-4076-B32F-7370D40B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CF05-E8BE-4D53-A077-902B73B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E740-1914-4BCA-94F0-2EC3715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1B7D-66CB-4ADD-8903-01E9850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D64-A722-4BBF-9D51-40A22693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4B1-1F54-4FD2-83F7-D561E79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FA4-DF9B-423D-AC16-A0783D3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56A-E696-4633-B23D-ACD1702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58C-A2C3-436E-979E-B632C4D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1D94-F14F-481F-939D-A2F5EBE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23DE-6449-41F6-9496-BDD5AEE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4DE0-C466-46D2-951A-EB5F5FE0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57C-E393-48C5-98B9-6C2EECB3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C2C-C62E-4FFF-A975-5C0B9EC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E9E-C9C5-441C-9D79-4751468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151-03EC-4715-9A3A-7C69934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846-4F0C-48B4-AED3-1207521F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871-78A2-4946-B051-6DFF3AAA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BD2-17E2-4BF8-8CBF-4A588C0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7A3-29EE-46B2-84E4-873CAA4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CDD-A0FA-4DBB-8D5F-ABC8DB58331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e Desen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611280" cy="6741720"/>
            <a:chOff x="0" y="0"/>
            <a:chExt cx="611280" cy="674172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1182600" y="1182600"/>
              <a:ext cx="29462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-972360" y="5188320"/>
              <a:ext cx="2555280" cy="5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3018600"/>
              <a:ext cx="611280" cy="102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953-2898-45CC-AB67-E78316707CB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360" y="189000"/>
            <a:ext cx="1403640" cy="6481440"/>
            <a:chOff x="-360" y="189000"/>
            <a:chExt cx="1403640" cy="64814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749520" y="938160"/>
              <a:ext cx="283248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-527760" y="4809240"/>
              <a:ext cx="245664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0" y="3090960"/>
              <a:ext cx="14032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40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Desenho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geométricas - descritíveis por fórmulas matem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primeiro gra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dr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segundo gra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úb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terceiro gra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não-geométr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e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apas de pixels embutidos nos desenh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dos como texto artístico ou importados de processadores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7129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bidimensionais 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ar de po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ig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aberta de po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íg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fechada de pontos (pode ter interi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âng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so particular de polí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bidimensionais quadr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itiva básica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p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ír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so particular da elip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ções de formas lineares e quadráticas  (por exemplo, retângulo arredond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s cúb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das por concatenação de trechos de curva descritos por polinômios do terceiro gra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mais comun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s de Béz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plin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ma curva paramétrica definida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ntos de c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rvas de Bézi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Segmento de curva definido por quatro pon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rvam a curvatura nas ampli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modelagem rápida e flexível de contornos arbitrários e desenhados à mão liv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093000"/>
            <a:ext cx="777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em da área de desenho em engenharia, em que um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pedaço de madeira ou metal flexível usado para desenhar curvas su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das curvas de Béz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rechos são separado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orma de cada trecho é determinada pel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ntos de cont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controle: nodos e extremidades das tangentes à curva nos n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 de Béz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2354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os textos (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 ser tratado posterior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s das 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(negrito, itálico, sublinh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e ori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Desenh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b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ear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escritíveis por fórmulas matemáticas do primeiro gra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-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ão-descritíveis por fórmulas matemáticas do primeiro gr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de esca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salh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l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7600" y="2590920"/>
            <a:ext cx="73882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escala unifor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7200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escala diferen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64785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08012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salh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2795760"/>
            <a:ext cx="65070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as transformaçõe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ção do aspecto de primitivas e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ção de primitivas e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mo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de visu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b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redução e ampl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cor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iminação das partes da figura externas a uma figura de recor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visu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visualização mais aproximada da figura impr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s para efeitos espe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pseudotridimensionai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r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lsa perspectiv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ormações não-lineare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voltór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amorfos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desenh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no espaço de objetos = representação vetorial (geométri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 gráf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nidade de dado geométr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idade gráf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imitiva ou coleção de prim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0674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31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de modelos geomét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arquivos gráf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rquivos de desenho acessíveis a aplica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ão de 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senh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m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tor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mage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meta-arquivos gráf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G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drão independente de fabric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X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ormato 3D  do  Autocad, com subconjunto 2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M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drão do Wind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ormato avançado do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arquivos de impre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dispositivos Postscri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versão   encapsulada  da linguagem Postscri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PG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para  “plotters” compatíveis com H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dos arquivos 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menor que o dos arquivos de im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rvação da precisão nas ampli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as operações de processamento é feita de forma muito mais fácil e 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s arquivos 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adequação para imagens natur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 dependente do programa e do dispositivo de exibi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para exibição proporcional à complexidade do mod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de um editor gráfico 2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primitiv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ão de atribu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estruturas gráf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lineares e não-linea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u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7T16:38:42Z</dcterms:modified>
  <cp:revision>466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