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A915-DCCE-4911-866F-14F3EAE9B72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1403-20D1-4484-A362-76E9AD88A0E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98A1-62A2-43C6-9D18-E092606F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D9C-6219-492A-978D-40FD2E2D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6C78-0A4F-435F-8650-0029B3E9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798-0835-494D-9642-AC6F1132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5723-BE93-456A-A62B-5DEA2552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AA11-456A-414B-A525-431F80A9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78D1-638A-4CFE-B64D-4E63F182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00BE-9743-4DBD-A6B6-36E37256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E1D3-DAD6-4C9A-A064-547895A0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B8E6-7901-4FAE-962B-E2E4A4DA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25A7-1C61-41A9-B0DD-EA712885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7960-32B8-43B4-A4A7-76895858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9A21-50E8-40F9-BD13-929244A1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6E17-1A8A-4C08-99C8-BC034776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2443-D7C1-4708-83D9-E63B5BB1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AA42-F0E2-4B98-8A60-457DCFD2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6CD9-14BE-46A5-860B-96E1CED8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B12C-A0C7-4542-9534-65D68809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3DDC-49D5-42A3-84E9-2095F8F3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32D-ECDC-4683-8032-3F59B314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8FA-FDCF-4E43-A5CC-EB79277D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595B-B1C3-44D1-B248-1A133692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86A3-FE37-44C9-82D5-62F38682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F7D-4A9D-4353-8361-5817D0AB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640C-6D8B-4454-BF32-DFB9DA29250C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755640" cy="6858000"/>
            <a:chOff x="0" y="0"/>
            <a:chExt cx="755640" cy="685800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447840"/>
              <a:ext cx="755640" cy="9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vid5" descr=""/>
            <p:cNvPicPr/>
            <p:nvPr/>
          </p:nvPicPr>
          <p:blipFill>
            <a:blip r:embed="rId3"/>
            <a:srcRect l="0" t="0" r="0" b="29904"/>
            <a:stretch/>
          </p:blipFill>
          <p:spPr>
            <a:xfrm>
              <a:off x="0" y="1284120"/>
              <a:ext cx="755640" cy="11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" name=""/>
            <p:cNvGrpSpPr/>
            <p:nvPr/>
          </p:nvGrpSpPr>
          <p:grpSpPr>
            <a:xfrm>
              <a:off x="0" y="2292480"/>
              <a:ext cx="755280" cy="360000"/>
              <a:chOff x="0" y="2292480"/>
              <a:chExt cx="755280" cy="360000"/>
            </a:xfrm>
          </p:grpSpPr>
          <p:pic>
            <p:nvPicPr>
              <p:cNvPr id="9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0" y="2292480"/>
                <a:ext cx="25200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251640" y="2292480"/>
                <a:ext cx="253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502560" y="2292480"/>
                <a:ext cx="252720" cy="360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" name="" descr=""/>
            <p:cNvPicPr/>
            <p:nvPr/>
          </p:nvPicPr>
          <p:blipFill>
            <a:blip r:embed="rId7"/>
            <a:stretch/>
          </p:blipFill>
          <p:spPr>
            <a:xfrm>
              <a:off x="0" y="2652840"/>
              <a:ext cx="755640" cy="84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" descr=""/>
            <p:cNvPicPr/>
            <p:nvPr/>
          </p:nvPicPr>
          <p:blipFill>
            <a:blip r:embed="rId8"/>
            <a:stretch/>
          </p:blipFill>
          <p:spPr>
            <a:xfrm>
              <a:off x="0" y="6546960"/>
              <a:ext cx="75564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" descr=""/>
            <p:cNvPicPr/>
            <p:nvPr/>
          </p:nvPicPr>
          <p:blipFill>
            <a:blip r:embed="rId9"/>
            <a:stretch/>
          </p:blipFill>
          <p:spPr>
            <a:xfrm>
              <a:off x="0" y="3471840"/>
              <a:ext cx="75564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" name="vid5" descr=""/>
            <p:cNvPicPr/>
            <p:nvPr/>
          </p:nvPicPr>
          <p:blipFill>
            <a:blip r:embed="rId10"/>
            <a:srcRect l="0" t="0" r="0" b="29904"/>
            <a:stretch/>
          </p:blipFill>
          <p:spPr>
            <a:xfrm>
              <a:off x="0" y="4308480"/>
              <a:ext cx="755640" cy="111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" name=""/>
            <p:cNvGrpSpPr/>
            <p:nvPr/>
          </p:nvGrpSpPr>
          <p:grpSpPr>
            <a:xfrm>
              <a:off x="0" y="5316480"/>
              <a:ext cx="755280" cy="360000"/>
              <a:chOff x="0" y="5316480"/>
              <a:chExt cx="755280" cy="360000"/>
            </a:xfrm>
          </p:grpSpPr>
          <p:pic>
            <p:nvPicPr>
              <p:cNvPr id="17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0" y="5316480"/>
                <a:ext cx="25200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251640" y="5316480"/>
                <a:ext cx="253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502560" y="5316480"/>
                <a:ext cx="252720" cy="360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" name="" descr=""/>
            <p:cNvPicPr/>
            <p:nvPr/>
          </p:nvPicPr>
          <p:blipFill>
            <a:blip r:embed="rId14"/>
            <a:stretch/>
          </p:blipFill>
          <p:spPr>
            <a:xfrm>
              <a:off x="0" y="5676840"/>
              <a:ext cx="75564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15"/>
            <a:stretch/>
          </p:blipFill>
          <p:spPr>
            <a:xfrm>
              <a:off x="0" y="0"/>
              <a:ext cx="755640" cy="4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" name=""/>
          <p:cNvSpPr/>
          <p:nvPr/>
        </p:nvSpPr>
        <p:spPr>
          <a:xfrm>
            <a:off x="900000" y="115920"/>
            <a:ext cx="7993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dificação/Compressão de Ví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D45C-D8BA-4C14-A872-488FBF007C6B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0"/>
            <a:ext cx="1403280" cy="6858000"/>
            <a:chOff x="0" y="0"/>
            <a:chExt cx="1403280" cy="685800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0" y="447840"/>
              <a:ext cx="1403280" cy="9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vid5" descr=""/>
            <p:cNvPicPr/>
            <p:nvPr/>
          </p:nvPicPr>
          <p:blipFill>
            <a:blip r:embed="rId3"/>
            <a:srcRect l="0" t="0" r="0" b="29904"/>
            <a:stretch/>
          </p:blipFill>
          <p:spPr>
            <a:xfrm>
              <a:off x="0" y="1284120"/>
              <a:ext cx="1403280" cy="11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"/>
            <p:cNvGrpSpPr/>
            <p:nvPr/>
          </p:nvGrpSpPr>
          <p:grpSpPr>
            <a:xfrm>
              <a:off x="0" y="2292480"/>
              <a:ext cx="1402560" cy="360000"/>
              <a:chOff x="0" y="2292480"/>
              <a:chExt cx="1402560" cy="360000"/>
            </a:xfrm>
          </p:grpSpPr>
          <p:pic>
            <p:nvPicPr>
              <p:cNvPr id="70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0" y="2292480"/>
                <a:ext cx="46800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68000" y="2292480"/>
                <a:ext cx="47016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932760" y="2292480"/>
                <a:ext cx="469800" cy="360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3" name="" descr=""/>
            <p:cNvPicPr/>
            <p:nvPr/>
          </p:nvPicPr>
          <p:blipFill>
            <a:blip r:embed="rId7"/>
            <a:stretch/>
          </p:blipFill>
          <p:spPr>
            <a:xfrm>
              <a:off x="0" y="2652840"/>
              <a:ext cx="1403280" cy="84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8"/>
            <a:stretch/>
          </p:blipFill>
          <p:spPr>
            <a:xfrm>
              <a:off x="0" y="6546960"/>
              <a:ext cx="140328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9"/>
            <a:stretch/>
          </p:blipFill>
          <p:spPr>
            <a:xfrm>
              <a:off x="0" y="3471840"/>
              <a:ext cx="140328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vid5" descr=""/>
            <p:cNvPicPr/>
            <p:nvPr/>
          </p:nvPicPr>
          <p:blipFill>
            <a:blip r:embed="rId10"/>
            <a:srcRect l="0" t="0" r="0" b="29904"/>
            <a:stretch/>
          </p:blipFill>
          <p:spPr>
            <a:xfrm>
              <a:off x="0" y="4308480"/>
              <a:ext cx="1403280" cy="111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"/>
            <p:cNvGrpSpPr/>
            <p:nvPr/>
          </p:nvGrpSpPr>
          <p:grpSpPr>
            <a:xfrm>
              <a:off x="0" y="5316480"/>
              <a:ext cx="1402560" cy="360000"/>
              <a:chOff x="0" y="5316480"/>
              <a:chExt cx="1402560" cy="360000"/>
            </a:xfrm>
          </p:grpSpPr>
          <p:pic>
            <p:nvPicPr>
              <p:cNvPr id="78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0" y="5316480"/>
                <a:ext cx="46800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468000" y="5316480"/>
                <a:ext cx="47016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932760" y="5316480"/>
                <a:ext cx="469800" cy="360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1" name="" descr=""/>
            <p:cNvPicPr/>
            <p:nvPr/>
          </p:nvPicPr>
          <p:blipFill>
            <a:blip r:embed="rId14"/>
            <a:stretch/>
          </p:blipFill>
          <p:spPr>
            <a:xfrm>
              <a:off x="0" y="5676840"/>
              <a:ext cx="140328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15"/>
            <a:stretch/>
          </p:blipFill>
          <p:spPr>
            <a:xfrm>
              <a:off x="0" y="0"/>
              <a:ext cx="1403280" cy="4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O Víde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I - Adicional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2124000" y="1989000"/>
            <a:ext cx="4897440" cy="4435560"/>
            <a:chOff x="2124000" y="1989000"/>
            <a:chExt cx="4897440" cy="443556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2124000" y="1989000"/>
              <a:ext cx="4897440" cy="44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528640" y="6021360"/>
              <a:ext cx="44391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"Padrões básicos" para DCT 4 x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2411280" y="1844640"/>
            <a:ext cx="4896000" cy="4357800"/>
            <a:chOff x="2411280" y="1844640"/>
            <a:chExt cx="4896000" cy="435780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2411280" y="1844640"/>
              <a:ext cx="4896000" cy="414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680920" y="5803560"/>
              <a:ext cx="44406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"Padrões básicos" para DCT 8 x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"padrões básicos" são compostos pela combinação de funções cosseno horizontal e vert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bloco de imagem pode ser reconstruído pela combinação de todos o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"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drões básicos", com cada base multiplicada pelo fator de peso apropriado (coeficie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2975" t="2612" r="3863" b="12577"/>
          <a:stretch/>
        </p:blipFill>
        <p:spPr>
          <a:xfrm>
            <a:off x="1258920" y="1700280"/>
            <a:ext cx="6696000" cy="463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1258920" y="63817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ansformada Inversa (ID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Destaque de um bloco de uma imagem (4 x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7741"/>
          <a:stretch/>
        </p:blipFill>
        <p:spPr>
          <a:xfrm>
            <a:off x="2556000" y="2205000"/>
            <a:ext cx="4367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0" t="0" r="0" b="11002"/>
          <a:stretch/>
        </p:blipFill>
        <p:spPr>
          <a:xfrm>
            <a:off x="1332000" y="2492280"/>
            <a:ext cx="6408720" cy="3313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00000" y="1700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 Bloco da imagem (4 x 4) e coeficientes DCT correspond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00000" y="5877000"/>
            <a:ext cx="7272360" cy="39888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Qual o ganho com essa representação (não é óbvio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60360" y="1773360"/>
            <a:ext cx="1944720" cy="16185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s é possível descartar muitos coeficient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05200" y="1557360"/>
            <a:ext cx="5230800" cy="5073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00000" y="4221000"/>
            <a:ext cx="2808360" cy="19234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É possível reconstruir uma cópia aproximada do bloco a partir de um subconjunto de 16 coeficientes D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00000" y="162864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CT 2-D direta (FDCT 2-D) e DCT 2-D inversa (IDCT 2-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atriz T (Y) contém um conjunto de valores chamado freqüências espaci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freqüências espaciais refletem quanto é que o valor da luminância (P[i][j]) varia de acordo com a sua posição no blo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[0][0] - coeficiente DC - relacionado ao valor médio dos valores P[i][j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qualquer T[i][j] há contribuição de todos os P[x][y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i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0 e j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0, T[i][j] são os coeficientes AC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valores maiores de i e j, os valores são multiplicados por funções coss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661160" cy="4752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71640" y="5445000"/>
            <a:ext cx="784836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lores de P variam uniformemente; muitos coeficientes AC são 0 -&gt; imagem com poucos detal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047000" cy="4352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5373720"/>
            <a:ext cx="7848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lores de P variam muito ao longo da imagem - corresponde a uma zona com muitos detalhes. Os coeficientes AC são todos não nul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ídeo (Codificação + Compress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CT e Quantiz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971280" y="1700280"/>
            <a:ext cx="765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a luminância varia muito, os coeficientes DC não são nulos; estes coeficientes são uma medida da variação entre pix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imagem com poucas variações será mais fácil de comprimir que uma imagem com muitos detal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CT não tem perdas (a menos dos arredondament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artir das freqüências espaciais é possível reconstruir o valor dos pix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00000" y="1700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ferenças de implementação MPEG4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H2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H.264 pode aplicar a DCT 2-D sobre blocos 4x4 (8x8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High Profil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 reduzindo a complexidade computacional deste cálcul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CT 2-D utiliza apenas cálculos inteiros ao invés das tradicionais DCTs com cálculos em ponto flutu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resultados finais da transformada inteira são, na verdade, uma aproximação dos resultados reais da DCT 2-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971640" y="2060640"/>
            <a:ext cx="7920000" cy="3030480"/>
            <a:chOff x="971640" y="2060640"/>
            <a:chExt cx="7920000" cy="303048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971640" y="2060640"/>
              <a:ext cx="7920000" cy="30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971640" y="4221000"/>
              <a:ext cx="93636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280" y="162864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ferenças de implementação MPEG4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H2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3808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execução de uma transformada inteira traz vantagens importa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03360" indent="-34272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a transformada não usa multiplicadores, somente somas e deslocamentos são necessários para executar seus cálcul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03360" indent="-34272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dução da complexidade computacional, simplificando a tarefa de projeto do hardwar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03360" indent="-34272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uso de números inteiros faz com que a transformação seja mais rápida e com menor consumo de potência, permitindo o uso do H.264 em aplicações móve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CT não reduz diretamente o número de bits requerido o blo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um bloco de 8 x 8 pixels, a DCT produz um bloco de 8 x 8 coeficientes, com no mínimo 11 bits/coeficiente para permitir reversibilidade sem erros de truncamento excess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omo ocorre a redução do número de b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64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Redução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deriva do fato de que para blocos típicos de imagens naturais, a distribuição de coeficientes não é uniforme - a transformação tende a concentrar a energia nos coeficientes de baixa freqüência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Os demais coeficientes possuem valor próximo a zero, podendo ser descart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A redução da taxa de bits é obtida através da não transmissão dos coeficientes </a:t>
            </a:r>
            <a:r>
              <a:rPr b="1" i="1" lang="pt-BR" sz="20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1" lang="pt-BR" sz="2000" spc="-1" strike="noStrike" baseline="-25000">
                <a:solidFill>
                  <a:srgbClr val="000099"/>
                </a:solidFill>
                <a:latin typeface="Arial"/>
              </a:rPr>
              <a:t>kl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 de valor próximo a zero (os quais serão zerados pelo processo de quantização) e codificação dos coeficientes remanescent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istribuição não uniforme dos coeficiente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um resultado da redundância espacial presente no bloco original 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j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99640" y="177336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CT 2-D direta (FDCT 2-D) e DCT 2-D inversa (IDCT 2-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ntra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Matriz de amostras (pix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aí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Matriz de coeficie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jetiv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Transformar os dados de entrada para o domínio da freqüência, possibilitando eliminar as freqüências que são menos importantes para a percepção do sistema visual hum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formação da matriz em x,y,Ys para um formato mais facilmente comprimí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formada Discreta do Cosseno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iscrete Cosine Transfor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DC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era sobr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um bloc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ostras (tipicamente amostras de imagens ou valores residuais obtidos após a prediçã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um bloc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coefici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ção da DCT (e da inversa, IDCT): uso de uma matriz de transformação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2565360"/>
            <a:ext cx="7777080" cy="2735280"/>
          </a:xfrm>
          <a:prstGeom prst="ellipse">
            <a:avLst/>
          </a:prstGeom>
          <a:solidFill>
            <a:srgbClr val="ff99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DC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FDCT) de um bloco co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ostr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DC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matriz de amostra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triz de coefi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matriz de transformad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48000" y="2133720"/>
            <a:ext cx="3024360" cy="993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419640" y="3789360"/>
            <a:ext cx="244944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8055000" cy="831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42920" y="3860640"/>
            <a:ext cx="7723080" cy="2467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00000" y="1628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33577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-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7128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 forma matric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71629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900000" y="0"/>
            <a:ext cx="7992360" cy="6463440"/>
            <a:chOff x="900000" y="0"/>
            <a:chExt cx="7992360" cy="6463440"/>
          </a:xfrm>
        </p:grpSpPr>
        <p:grpSp>
          <p:nvGrpSpPr>
            <p:cNvPr id="144" name=""/>
            <p:cNvGrpSpPr/>
            <p:nvPr/>
          </p:nvGrpSpPr>
          <p:grpSpPr>
            <a:xfrm>
              <a:off x="1116000" y="0"/>
              <a:ext cx="7776360" cy="6463440"/>
              <a:chOff x="1116000" y="0"/>
              <a:chExt cx="7776360" cy="646344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1486440" y="0"/>
                <a:ext cx="7405920" cy="6463440"/>
                <a:chOff x="1486440" y="0"/>
                <a:chExt cx="7405920" cy="6463440"/>
              </a:xfrm>
            </p:grpSpPr>
            <p:pic>
              <p:nvPicPr>
                <p:cNvPr id="14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486440" y="0"/>
                  <a:ext cx="7405920" cy="646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" name=""/>
                <p:cNvSpPr/>
                <p:nvPr/>
              </p:nvSpPr>
              <p:spPr>
                <a:xfrm>
                  <a:off x="1634760" y="4746960"/>
                  <a:ext cx="2961720" cy="371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1116000" y="2521440"/>
                <a:ext cx="741240" cy="44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55760" y="3634920"/>
                <a:ext cx="59256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900000" y="364500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Outra representaçã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00000" y="333360"/>
              <a:ext cx="719280" cy="172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726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aída da FDC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um conjunt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eficientes que representam o bloco de imagem no domínio da D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coeficientes podem ser considerados os "pesos" de um conjunto de "padrões básicos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4-30T16:13:20Z</dcterms:modified>
  <cp:revision>458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