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615D-237E-49DB-9DDC-CCB97805CA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5F70-C138-4514-BB78-767F9E59F5B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BA5-37AB-4DB8-99D3-D548AE90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9C7-FDA2-4B79-AE2B-D71A4D43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212-BDDF-4983-BBCE-75035FBD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42D-E01E-4E30-817B-323AF99F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71CA-9094-4B46-BAA6-ADD953C7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B733-A135-4C97-8095-DF6579E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0559-EB54-4CA7-AA5C-0AAA58ED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78AF-7639-46FD-AA38-734D9732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1D97-372B-4549-AE48-29C9749E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3ECC-E9D3-4786-A49E-9C857023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97A8-9C74-42A8-B181-43FCFAB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1E7-13E4-4489-A1F2-C6D6F9E7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E1D2-C0EC-473E-8E89-3E2302A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D966-8D34-483C-95A6-055BC6A8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98DB-C8A8-4447-9F68-B775D379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522F-AE66-400E-B32D-B938FD09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ECDD-94F1-4405-BA49-78075958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F39-178A-4E7B-958B-02E49ECC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699-5029-4FBB-8F9D-151BCB0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D2F-592B-4AC6-979B-328F7357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E1A-A22C-4E0C-A192-2DBF9B64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44C-6F88-4693-81F5-BE6E44F5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339-E308-4FAC-9BCF-877483D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FF4-79AD-42D3-8DF5-92226D76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5A76-AF90-4490-8F40-128DD87974D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447840"/>
              <a:ext cx="75564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vid5" descr=""/>
            <p:cNvPicPr/>
            <p:nvPr/>
          </p:nvPicPr>
          <p:blipFill>
            <a:blip r:embed="rId3"/>
            <a:srcRect l="0" t="0" r="0" b="29904"/>
            <a:stretch/>
          </p:blipFill>
          <p:spPr>
            <a:xfrm>
              <a:off x="0" y="1284120"/>
              <a:ext cx="755640" cy="11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" name=""/>
            <p:cNvGrpSpPr/>
            <p:nvPr/>
          </p:nvGrpSpPr>
          <p:grpSpPr>
            <a:xfrm>
              <a:off x="0" y="2292480"/>
              <a:ext cx="755280" cy="360000"/>
              <a:chOff x="0" y="2292480"/>
              <a:chExt cx="755280" cy="360000"/>
            </a:xfrm>
          </p:grpSpPr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0" y="2292480"/>
                <a:ext cx="252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251640" y="2292480"/>
                <a:ext cx="253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02560" y="2292480"/>
                <a:ext cx="25272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0" y="2652840"/>
              <a:ext cx="75564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8"/>
            <a:stretch/>
          </p:blipFill>
          <p:spPr>
            <a:xfrm>
              <a:off x="0" y="6546960"/>
              <a:ext cx="75564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" descr=""/>
            <p:cNvPicPr/>
            <p:nvPr/>
          </p:nvPicPr>
          <p:blipFill>
            <a:blip r:embed="rId9"/>
            <a:stretch/>
          </p:blipFill>
          <p:spPr>
            <a:xfrm>
              <a:off x="0" y="3471840"/>
              <a:ext cx="7556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vid5" descr=""/>
            <p:cNvPicPr/>
            <p:nvPr/>
          </p:nvPicPr>
          <p:blipFill>
            <a:blip r:embed="rId10"/>
            <a:srcRect l="0" t="0" r="0" b="29904"/>
            <a:stretch/>
          </p:blipFill>
          <p:spPr>
            <a:xfrm>
              <a:off x="0" y="4308480"/>
              <a:ext cx="755640" cy="11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5316480"/>
              <a:ext cx="755280" cy="360000"/>
              <a:chOff x="0" y="5316480"/>
              <a:chExt cx="755280" cy="3600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0" y="5316480"/>
                <a:ext cx="252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251640" y="5316480"/>
                <a:ext cx="253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02560" y="5316480"/>
                <a:ext cx="25272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" name="" descr=""/>
            <p:cNvPicPr/>
            <p:nvPr/>
          </p:nvPicPr>
          <p:blipFill>
            <a:blip r:embed="rId14"/>
            <a:stretch/>
          </p:blipFill>
          <p:spPr>
            <a:xfrm>
              <a:off x="0" y="5676840"/>
              <a:ext cx="7556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75564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14DE-DA82-4A4A-9237-3477EBC66ED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1403280" cy="6858000"/>
            <a:chOff x="0" y="0"/>
            <a:chExt cx="1403280" cy="685800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0" y="447840"/>
              <a:ext cx="140328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vid5" descr=""/>
            <p:cNvPicPr/>
            <p:nvPr/>
          </p:nvPicPr>
          <p:blipFill>
            <a:blip r:embed="rId3"/>
            <a:srcRect l="0" t="0" r="0" b="29904"/>
            <a:stretch/>
          </p:blipFill>
          <p:spPr>
            <a:xfrm>
              <a:off x="0" y="1284120"/>
              <a:ext cx="1403280" cy="11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0" y="2292480"/>
              <a:ext cx="1402560" cy="360000"/>
              <a:chOff x="0" y="2292480"/>
              <a:chExt cx="1402560" cy="360000"/>
            </a:xfrm>
          </p:grpSpPr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0" y="2292480"/>
                <a:ext cx="468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68000" y="2292480"/>
                <a:ext cx="47016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932760" y="2292480"/>
                <a:ext cx="46980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0" y="2652840"/>
              <a:ext cx="140328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0" y="6546960"/>
              <a:ext cx="1403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0" y="3471840"/>
              <a:ext cx="140328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vid5" descr=""/>
            <p:cNvPicPr/>
            <p:nvPr/>
          </p:nvPicPr>
          <p:blipFill>
            <a:blip r:embed="rId10"/>
            <a:srcRect l="0" t="0" r="0" b="29904"/>
            <a:stretch/>
          </p:blipFill>
          <p:spPr>
            <a:xfrm>
              <a:off x="0" y="4308480"/>
              <a:ext cx="1403280" cy="11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"/>
            <p:cNvGrpSpPr/>
            <p:nvPr/>
          </p:nvGrpSpPr>
          <p:grpSpPr>
            <a:xfrm>
              <a:off x="0" y="5316480"/>
              <a:ext cx="1402560" cy="360000"/>
              <a:chOff x="0" y="5316480"/>
              <a:chExt cx="1402560" cy="360000"/>
            </a:xfrm>
          </p:grpSpPr>
          <p:pic>
            <p:nvPicPr>
              <p:cNvPr id="77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0" y="5316480"/>
                <a:ext cx="468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68000" y="5316480"/>
                <a:ext cx="47016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932760" y="5316480"/>
                <a:ext cx="46980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0" y="5676840"/>
              <a:ext cx="14032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140328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Víde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xa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úmero de imagens que passadas em cada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valor pode se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 fps (também designado por FULL MOT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 f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 f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 f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ixo das 10 fps perde-se totalmente a noção de movimento. O melhor será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ent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16 e 2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 da im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paleta de cores) - tem a ver com a quantidade de informação que será captada por cada fr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qualidade: 8 bits - apenas 25% do total da informação da imagem é armazena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a qualidade: 32 bits - a informação sobre a imagem é armazenada a 1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solução poderá ser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50-75%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a qualidade da imagem (ou seja, paleta de 16 ou 24 bi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de víde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televi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gravação e reprodução de vídeo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os sistemas atuais são ainda analógicos, na maior p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cnologia digital avança rapid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PEG, DVD, HDTV, videoconfer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de telev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aracterísticas do sinal de vídeo são determinadas pelos padrões de televi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padrões exis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visão em preto-e-bran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visão colori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visão de alta definição - HD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levisão em preto-e-bran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padrão americano e brasileir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 vertical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adros por seg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redura entrelaçada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ampos por segund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25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has por quadro, das quais aproximadamente 480 vis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o padrão de vídeo em preto-e-bran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zão de aspect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monitores: 4/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varred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não devem sobrar margens negras nas imag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rda de seguran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área da imagem que pode ficar sob a moldura e não deve conter info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o padrão de vídeo em preto-e-bran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agem é dividida em linh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e visível da linha é um sinal positivo, que representa a luminâ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ulsos de sincronismo horizontal  e vert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is negativos que iniciam linha e ca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drões de televisão color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existen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TSC (american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C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-M (brasilei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drões de televisão color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tíveis com vídeo preto-e-bran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ncronis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uminâ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ominâ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presentação da informação de c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levisão color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rominância representa o matiz e a saturação codificados sobre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tadora de c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jada de c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inal que serve de referência de portadora de cor para cada linh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 vertical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9,97 Hz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eliminar a crominância na recepção em preto-e-bra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deo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de sinal de vídeo color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 ordem decrescente de qualidade e cust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G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árias aditivas em cabos separ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er monitores multissincronizáve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ntes: transmissão de diferenças, sincronis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de sinal de vídeo color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 ordem decrescente de qualidade e cust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I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rivado do RGB por codificação em amplitude (I) e fase (Q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eita menor sensibilidade da visão ao matiz e satur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em U-Matic, D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de sinal de vídeo color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 ordem decrescente de qualidade e cust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ídeo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 I e Q em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em S-VHS e Betac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ídeo compo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 Y e C em sinal NTS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em VHS e TV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íveis de sistema de víde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umidor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uipamentos domést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dustr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rodutoras de vídeo e de multimíd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u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missoras de T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DT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lta defin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sistemas de víde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idor: VHS, 8m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ustrial: Hi8, S-VHS, Betacam, Betacam SP, U-Mat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usão: Tipo C, sistemas digit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stituição por sistemas digit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idor: D-VH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ustrial: DVC, DVCAM, DVCPRO, Digital Betac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usão: D-1, D-2, D-3, D-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DTV: D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ções do código de tempo SMPTE (quadros/segund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in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TV europé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TV americana preto-e-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9,97 (“Drop-frame’’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TV americana colo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mais popul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I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udio-Video Interleav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senvolvido pela Microsoft para ambiente Window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QuickTime Movie Forma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senvolvido pela Apple para ambiente Macinto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PEG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oving Picture Experts Grou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AV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ilar ao MOV, este formato combina a produção e reprodução de áudio e vídeo simultane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formato pode ser convertido para M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 vários tipos de compr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MO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  - é um formato de arquivo padronizado para produção e reprodução que permite que o vídeo e o áudio sejam capturados e combinados num arquivo único, para uma determinada máquina, e reproduzidos em conjunto em qualquer outra máquina que utilize o Quick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 vários tipos de compr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- conjunto de imagens, por exemplo,  bitmap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“passadas” em seqüência a determinada velocidade, para nos transmitir a idéia de mo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úmero de imagens que são “passadas” em cada segundo designa-se, vulgarmente, por tax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númer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r segund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MPE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 vantagem do MPEG em relação a outros formatos para a codificação de vídeo e áudio: os arquivos MPEG são bem menores para a mesma qu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 técnicas de compressão muito sofisticadas atingindo taxas na ordem dos 200:1 com imagens e sons de qualidade extremamente a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MPE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 vantagem do MPEG em relação a outros formatos para a codificação de vídeo e áudio: os arquivos MPEG são bem menores para a mesma qu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 técnicas de compressão muito sofisticadas atingindo taxas na ordem dos 200:1 com imagens e sons de qualidade extremamente a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res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s algoritmos de compressão são absolutamente indispensáveis no caso do vídeo, por duas raz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0600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que não ultrapassem a taxa de transferência de dados permitida pelo suporte em que estão armazenados (se isso acontecer não são reproduzidos de forma regular mas aos “pulo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0600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ocuparem menos espaço pois, sem compressão, os valores são assustad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2680" indent="-254880">
              <a:spcBef>
                <a:spcPts val="45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segundo de vídeo a 30 fps pode ocupar 30 M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2680" indent="-254880">
              <a:spcBef>
                <a:spcPts val="45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minuto de vídeo a 30 fps pode ocupar 1,8 G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cesso de compressão de vídeo é o mais complexo de todos, existindo dezenas de algoritmos de compressão difer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155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nema: 2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ídeo: Sistema Eletrônico (PAL, SECAM, utilizado em países da Europa): 25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ídeo: Sistema Eletrônico NTSC (utilizado na América): 30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ídeo tem a capacidade de comunicar a maior quantidade de informação, no menor espaço de tempo e com o maior impa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ídeo confere aos documentos a noção de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 provado que colocar movimento numa apresentação p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er o interesse e a atenção da audiên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unicar conceitos e idéias abstrat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mular respostas emo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vantagen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x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ome quantidade elevada de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: uma seqüência de vídeo de 30 segundos sem compressão, transmitida a 30 fps e com imagens de 640x480 pixels (cada um codificado com 24 bits), atinge cerca de 1 Gb de infor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ídeo em um Produto Multimíd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bservar a relação custo x benefí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91592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s de ca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formato ana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formato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âmetros import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cap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transferência de dados do suporte de armazena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 da jan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idade da imagem (paleta de c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xa de transferência de dados do suporte de armazen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rtes mais rápidos são:Discos rígidos, DVD’s e CD-ROM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s não oferecem a taxa de transferência desejável, ou seja, os 30 Mb/s necessários ao processamento de um segundo de vídeo digital não comprim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manho da janel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Quanto menor for a janela mais rapidamente a informação poderá ser process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es com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40x480 pix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20x24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240x180 pixel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solução mais utilizad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60x12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 Fechine</cp:lastModifiedBy>
  <dcterms:modified xsi:type="dcterms:W3CDTF">2007-04-26T12:32:55Z</dcterms:modified>
  <cp:revision>397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