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1519-6FCE-409F-82E8-22C3521B78F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BEC0-A7CB-42A5-A0BF-89B1BE67A7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E59-4889-4309-B865-6467B3D1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0E9-699E-43FB-BAB8-9071EADF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29C-16F5-49AB-96E3-EBCA3CD7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126-30BC-495C-B955-14317CB1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4F18-82AD-4C11-BF3E-7CE16415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73B7-FA16-4CDD-AE6A-B5247625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F07-E47C-4243-A139-A20B8911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3D28-1301-4EEE-8748-B495D011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3079-AF13-4B06-8B96-FE91703F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8E0B-0D1E-4F8A-B687-A20777EC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CE0-B131-4D6B-A1F3-6EAD6D40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C58-B6F6-4D13-AA79-52FF789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3FE7-249F-4480-B1C4-940C52F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FCD6-F215-49F6-98EB-82962F1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1C95-AA72-4385-9302-7510EACD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1C05-B408-425F-B381-CC50293E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B69B-AAB5-49C8-8B18-FFF64C65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CFE-24CF-4444-8A73-E944F9BA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BCE-078B-4705-B88A-42ACD452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45E-3E14-41F5-887A-02144EDF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DAF-19B3-4565-9451-C10D36BE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AC5-9497-453C-A5F9-4F856230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173-A9E5-46F0-88A7-8A0921B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22F-87D9-423B-8B53-9864EAF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5E4D-6DD6-42BE-B9AD-1969E939FC0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247-D697-486F-B354-18912E81A9A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V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exão entre dois teclad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04840" y="2981160"/>
          <a:ext cx="6667560" cy="20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81160"/>
                    <a:ext cx="666756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uem microcontroladores que interpretam os códigos MIDI e executam algoritmos de sínte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onectados em série, formando uma re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uncionamento depende dos modos supor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 - mo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MNI O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esponde a todos os canais) ×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MNI OFF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esponde só a um can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uma nota de cada vez)  ×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várias notas simultâneas, segundo o grau de polifoni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timbral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olifonia com vários tim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 - 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lados sintetiz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ódulos sintetiz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utadores com portos MIDI (com ou sem sintetizadores intern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ódulos seqüenci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mentos acústicos com transd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trumentos MIDI - exempl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terias eletrôn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ódulos de efeitos (processadores de sinai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adores (de volume, de afinação etc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amentos de áudio com controle MI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amentos teatrais com controle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de no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ligar e deslig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de progra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udanças de timb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de contro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ncronismo, imitação de controles de pain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nsagens exclusiv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ependentes de fabric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 campos das mensagen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 de oper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 da nota (número na escala musica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nsidade sonora (“velocidade”, na terminologia MID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dos em trilhas que representam voz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ilhas são seqüências de even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entos são mensagens MIDI com tempos associados ou metaev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qüenciadores (editores MID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m arquivos MIDI e formatos propriet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tas possí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lh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los de piano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640" y="1557360"/>
            <a:ext cx="4896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trilh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738036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 sintetizado (MI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79640" y="1628640"/>
            <a:ext cx="446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ro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85152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640" y="1557360"/>
            <a:ext cx="4824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even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702480" cy="46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seqüenciador (pau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769440" cy="47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 dos seqüenci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globais sobre trilh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nças de volume, programa e ca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ções internas às trilhas, até o nível de no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ipulação do and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ção de "performances" em instrumentos MID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ões dos seqüenciad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dublagem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aybac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transformação mus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danças de esca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ção de voz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erações de dinâ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quant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de "randomização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a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as de programa: relacionam os números de programa dos arquivos MID com os programas de cada sintetizad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pas de teclas: relacionam números de teclas com as notas efetivas do sintetizad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genérico: general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4032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a de 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7391520" cy="45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6000" y="1557360"/>
            <a:ext cx="3816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pa de percus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467480" cy="46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ntagens dos arquivos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muito menor que os WA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ptam com precisão a expressão musi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m alterações dos timb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  consumo computacional: apropriados para aplicações de tempo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s dos arquiv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oduzem apenas música (inadequados para voz e efeit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qualidade do som depende do sintetizador empreg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êm dificuldades com música não-conve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m ou música digitalizada (arquivos de som ou música que o computador pode tocar) pode ser de doi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 sintetiz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IDI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usical Instrument Digital Interf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produzido através de um sintetizador chamado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udio digi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presentação digital de um sinal analóg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ntes de arquivos MI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vação via seqüenci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bliotecas comerciais ou de domínio públ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de outros arqu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ição de partitu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de compos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48247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editor de parti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92360" y="1930320"/>
            <a:ext cx="6446880" cy="48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58560" y="1484280"/>
            <a:ext cx="5041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captura de "performanc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3849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46483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la de ferramenta de compos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165720" cy="47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erramenta de composição auto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37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contrário do áudio digital, o MIDI é genericamente livre de ruído uma vez que é sintet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nto, as técnicas de filtragem de ruído não precisam ser aplicadas a arquivos MI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221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uído e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 sinte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s sons são gravados como comandos e por isso requerem muito menos espaço de armazenamento que os outros s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tipo de representação preserva a descrição semântica d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udio dig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 som é digitalizado, amostras da onda são captadas a intervalos fixos de tem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ais amostras forem colhidas e quanto mais informação for gravada por cada amostra, maior a qualidade do som que se conseguirá reproduz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 tipo de representação não preserva a descrição semântica do s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tocolo de comunicação para que instrumentos eletrônicos possam comunicar entre si, como por exemplo, sintetizad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ambém é usado na comunicação musical entre computadores, desde que estes possuam os componentes de hardware necessá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senvolvido no início dos anos 80, serve para a representação simbólica da mús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fine e indica ao sintetizador, como codificar todos os elementos da música tais como, seqüências de notas, condições de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im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qual o instrumento utilizado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MID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ão muito menores que os arquivos WA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mazenam apenas  as notas da can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êm apenas as instruções para controlar como e quando os meios, (normalmente sintetizadores eletrônicos), produzem os s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guem produzir música a partir de placas de som (são sons sintetizados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ão podem ser usados para gravar sons reais (Ex.: alguém falando/cantan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modificáveis (permite modificar facilmente os tempos ou instrumentos utilizados na músi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MID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10 minutos de música nos dois formatos gera valores muito diferentes, nomeada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MIDI - aproximadamente 200 K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Áudio digital de boa qualidade - aproximadamente       106 Mb (se for WAV) ou 10 Mb (se for MP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om Sintetizad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protocolo MIDI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igital de eventos music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de rede local para instrumentos eletrônicos digi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drão de arquivo de eventos musi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IDI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5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sistema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57480" y="2362320"/>
          <a:ext cx="6895800" cy="385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2362320"/>
                    <a:ext cx="689580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 Fechine</cp:lastModifiedBy>
  <dcterms:modified xsi:type="dcterms:W3CDTF">2007-04-23T20:22:03Z</dcterms:modified>
  <cp:revision>379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