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163F-D31D-4B4A-82C2-C7573B5425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2BE5-4C9B-4ADD-9B51-C678538393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B5A3-6791-4CAB-BD44-E464DEA094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F8BC-8642-4B18-A696-BDA9EB1B78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205-A67C-4D12-AFC9-56383EDED4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AF6-94F8-4DDC-B952-6B361A2DDC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0800" y="4630320"/>
            <a:ext cx="503244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D1C-14CF-4E8D-9D16-24699787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E3D-3077-49C8-A2A9-6868230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3A4-2567-44EA-A8E7-C294E87F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F5F-542B-433B-9C0F-EA4A2012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734-8E9D-4697-86A7-E7DDA524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FF10-C65B-45CC-9AC9-FE5ED06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9C56-5D25-4D5C-A325-014E13F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E479-15DC-4C00-B663-F159145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50A1-FC0E-48CB-A0DE-0A672DCA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BB16-5BF7-4E58-9CF9-DA29AA3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94D5-4B99-4C2C-93B6-903E259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C02-6F0A-42A0-8C74-8B1087A5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7D5C-8151-4CCE-8926-8BC53F21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3644-B338-4BAE-9C88-DDD6B71F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B71B-59DA-49C7-8CBD-0D670E4C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B005-1463-4158-82C2-6C0E1D50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D49-D27A-44E0-AAB0-476C21C0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78E-643E-4FAB-983B-0CFA2FC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28C-4A34-49A2-B1ED-E3E5A223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6FB-496C-4839-A3F7-3B255327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0D5-6FA0-4023-ABA3-718C7C7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3C7-0793-44BA-9770-A35DAED4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BE2-CBCC-419A-9F4C-9809EFEA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3EB-8D7C-4321-B226-07A7261C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EEB-A73A-41D8-80A9-35528F23EB3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8860-3F9D-485B-9E67-D64F47434C8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 - Adiciona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spectos relevantes da compressão de áudio (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24360" y="5445000"/>
            <a:ext cx="287964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Escala para a Intensidade – o dB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cala usual de intensidade usada em acústica: o 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fine-se como o logaritmo base 10 do quociente entre duas inten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Bel= log (I / I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1 Bel é demasiado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sa-se 1 décimo, ou seja o deciBel 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o I=k p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, tem-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B=10 log(p/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ef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B=20 log(p/p</a:t>
            </a:r>
            <a:r>
              <a:rPr b="0" lang="pt-PT" sz="2400" spc="-1" strike="noStrike" baseline="-25000">
                <a:solidFill>
                  <a:srgbClr val="000000"/>
                </a:solidFill>
                <a:latin typeface="Arial"/>
              </a:rPr>
              <a:t>ref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Valores de refer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valor de referência mais importante para a pressão é de 20 micro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20 x 10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ste caso tem-se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ound Pressure Level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(S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aracterísticas da escal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m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og(10)=1,  log(100)=2, log(1000000)=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0 dB  não significa ausênci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O que signif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ão se pode” expressar ausênci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A que valor corresponde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ão se adiciona/subtrai dire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soma de dois sinais de 94 dB SPL não resulta em um de 188 dB S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0000"/>
                </a:solidFill>
                <a:latin typeface="Arial"/>
              </a:rPr>
              <a:t>Qual é o resul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94 dB + 94 dB= 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nverter para pressões, somar e converter  de vo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03280" y="2206800"/>
                <a:ext cx="4608720" cy="45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P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≃</m:t>
                        </m:r>
                        <m:r>
                          <m:rPr>
                            <m:lit/>
                            <m:nor/>
                          </m:rPr>
                          <m:t xml:space="preserve">10000000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man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mos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164360" y="4076640"/>
            <a:ext cx="1752480" cy="1905120"/>
          </a:xfrm>
          <a:prstGeom prst="wedgeRoundRectCallout">
            <a:avLst>
              <a:gd name="adj1" fmla="val -119837"/>
              <a:gd name="adj2" fmla="val 6516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x+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2*x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=&gt; + 6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18T05:03:22Z</dcterms:modified>
  <cp:revision>353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