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7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8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9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6600-F871-42FB-8798-513AF9E4EC0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259B-89A9-4C81-8340-CA2452D6672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049400" y="770040"/>
            <a:ext cx="4821120" cy="36162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42840" y="4618080"/>
            <a:ext cx="50342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EC8A-FAF3-4B0B-95AC-6FC9A8877A3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049400" y="770040"/>
            <a:ext cx="4821120" cy="36162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42840" y="4618080"/>
            <a:ext cx="50342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C333-40F1-4234-B157-FF131EC0519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049400" y="770040"/>
            <a:ext cx="4821120" cy="36162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42840" y="4618080"/>
            <a:ext cx="50342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F955-4B0E-4411-A77E-881238CDD11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049400" y="770040"/>
            <a:ext cx="4821120" cy="36162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42840" y="4618080"/>
            <a:ext cx="50342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1457-2377-4588-8F07-686C1F690A4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049400" y="770040"/>
            <a:ext cx="4821120" cy="36162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42840" y="4618080"/>
            <a:ext cx="50342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6AE5-169E-42B2-B987-E0416421F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581C-8931-4906-B0C3-F0FB6E96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9EEA-4590-47E5-B77A-F0D4C26ED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CEC1-3BDB-4267-B8FB-BEBD7BD05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C25E6-3D57-4D08-A4B9-186DD2BA5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0A70A-B127-4E0D-9341-34D51ECB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3289-CD46-4FF2-8181-E53C8D8F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2F6B-FA85-48C6-BA0F-8CA9DA8D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C705-CAB4-4C82-B6B4-8F241027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EF18-DC22-42AF-9823-B27D88E8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4635-98A7-4A26-AA18-CA8E53EA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5A1B-FF08-4066-AA31-0608E41E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94EB-816D-4000-BA4E-450337D5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A6014-B6DB-40D9-A533-7330E2BD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F4FB-26D4-484E-86F8-D37738DE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1BE7-E292-4EBE-A975-F41FE52FA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79B9-06BE-4B95-BC40-66798818A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FD5B-C4E7-4F7D-8BB5-19AF18DE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B60F-E771-4BE4-896A-446E60C0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2191-39DF-44CE-A9A0-01A87F17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F8A2-4192-4420-BEDB-D1CD57B6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FFE3-CDD1-4B76-9D4D-F45AB204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9D91-9828-467B-A7EE-E7DECB69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7E8C-4016-4DE0-BCB7-891E6178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1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6.wmf"/><Relationship Id="rId11" Type="http://schemas.openxmlformats.org/officeDocument/2006/relationships/image" Target="../media/image4.jpeg"/><Relationship Id="rId12" Type="http://schemas.openxmlformats.org/officeDocument/2006/relationships/image" Target="../media/image5.jpe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1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6.wmf"/><Relationship Id="rId11" Type="http://schemas.openxmlformats.org/officeDocument/2006/relationships/image" Target="../media/image4.jpeg"/><Relationship Id="rId12" Type="http://schemas.openxmlformats.org/officeDocument/2006/relationships/image" Target="../media/image5.jpe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72D7-7A0E-4884-9D1F-B8AC1198AB72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971640" cy="6858000"/>
            <a:chOff x="0" y="0"/>
            <a:chExt cx="971640" cy="6858000"/>
          </a:xfrm>
        </p:grpSpPr>
        <p:pic>
          <p:nvPicPr>
            <p:cNvPr id="7" name="" descr=""/>
            <p:cNvPicPr/>
            <p:nvPr/>
          </p:nvPicPr>
          <p:blipFill>
            <a:blip r:embed="rId2"/>
            <a:stretch/>
          </p:blipFill>
          <p:spPr>
            <a:xfrm>
              <a:off x="0" y="549360"/>
              <a:ext cx="927000" cy="10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0" y="1557360"/>
              <a:ext cx="927000" cy="68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" descr=""/>
            <p:cNvPicPr/>
            <p:nvPr/>
          </p:nvPicPr>
          <p:blipFill>
            <a:blip r:embed="rId4"/>
            <a:stretch/>
          </p:blipFill>
          <p:spPr>
            <a:xfrm>
              <a:off x="0" y="4429080"/>
              <a:ext cx="927000" cy="103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" descr=""/>
            <p:cNvPicPr/>
            <p:nvPr/>
          </p:nvPicPr>
          <p:blipFill>
            <a:blip r:embed="rId5"/>
            <a:stretch/>
          </p:blipFill>
          <p:spPr>
            <a:xfrm>
              <a:off x="0" y="5410080"/>
              <a:ext cx="927000" cy="6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" descr=""/>
            <p:cNvPicPr/>
            <p:nvPr/>
          </p:nvPicPr>
          <p:blipFill>
            <a:blip r:embed="rId6"/>
            <a:stretch/>
          </p:blipFill>
          <p:spPr>
            <a:xfrm>
              <a:off x="0" y="2205000"/>
              <a:ext cx="92700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" descr=""/>
            <p:cNvPicPr/>
            <p:nvPr/>
          </p:nvPicPr>
          <p:blipFill>
            <a:blip r:embed="rId7"/>
            <a:stretch/>
          </p:blipFill>
          <p:spPr>
            <a:xfrm>
              <a:off x="0" y="3781440"/>
              <a:ext cx="927000" cy="68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" name=""/>
            <p:cNvGrpSpPr/>
            <p:nvPr/>
          </p:nvGrpSpPr>
          <p:grpSpPr>
            <a:xfrm>
              <a:off x="0" y="0"/>
              <a:ext cx="971640" cy="698400"/>
              <a:chOff x="0" y="0"/>
              <a:chExt cx="971640" cy="698400"/>
            </a:xfrm>
          </p:grpSpPr>
          <p:pic>
            <p:nvPicPr>
              <p:cNvPr id="1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0"/>
                <a:ext cx="429480" cy="68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83760" y="0"/>
                <a:ext cx="587880" cy="698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6" name="" descr=""/>
            <p:cNvPicPr/>
            <p:nvPr/>
          </p:nvPicPr>
          <p:blipFill>
            <a:blip r:embed="rId10"/>
            <a:stretch/>
          </p:blipFill>
          <p:spPr>
            <a:xfrm>
              <a:off x="0" y="2852640"/>
              <a:ext cx="927000" cy="955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" name=""/>
            <p:cNvGrpSpPr/>
            <p:nvPr/>
          </p:nvGrpSpPr>
          <p:grpSpPr>
            <a:xfrm>
              <a:off x="0" y="6159600"/>
              <a:ext cx="971640" cy="698400"/>
              <a:chOff x="0" y="6159600"/>
              <a:chExt cx="971640" cy="698400"/>
            </a:xfrm>
          </p:grpSpPr>
          <p:pic>
            <p:nvPicPr>
              <p:cNvPr id="18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6159600"/>
                <a:ext cx="429480" cy="68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83760" y="6159600"/>
                <a:ext cx="587880" cy="698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324000" y="6165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238E-60DF-49A9-8C58-A6F0DE0DA6F1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03280" y="2997360"/>
            <a:ext cx="37450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48360" y="2997360"/>
            <a:ext cx="3995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0" y="0"/>
            <a:ext cx="1476000" cy="6858000"/>
            <a:chOff x="0" y="0"/>
            <a:chExt cx="1476000" cy="6858000"/>
          </a:xfrm>
        </p:grpSpPr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0" y="549360"/>
              <a:ext cx="1408320" cy="10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0" y="1557360"/>
              <a:ext cx="1408320" cy="68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4"/>
            <a:stretch/>
          </p:blipFill>
          <p:spPr>
            <a:xfrm>
              <a:off x="0" y="4429080"/>
              <a:ext cx="1408320" cy="103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0" y="5410080"/>
              <a:ext cx="1408320" cy="6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0" y="2205000"/>
              <a:ext cx="140832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7"/>
            <a:stretch/>
          </p:blipFill>
          <p:spPr>
            <a:xfrm>
              <a:off x="0" y="3781440"/>
              <a:ext cx="1408320" cy="68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" name=""/>
            <p:cNvGrpSpPr/>
            <p:nvPr/>
          </p:nvGrpSpPr>
          <p:grpSpPr>
            <a:xfrm>
              <a:off x="0" y="0"/>
              <a:ext cx="1476000" cy="698400"/>
              <a:chOff x="0" y="0"/>
              <a:chExt cx="1476000" cy="698400"/>
            </a:xfrm>
          </p:grpSpPr>
          <p:pic>
            <p:nvPicPr>
              <p:cNvPr id="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0"/>
                <a:ext cx="652680" cy="68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82840" y="0"/>
                <a:ext cx="893160" cy="698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2" name="" descr=""/>
            <p:cNvPicPr/>
            <p:nvPr/>
          </p:nvPicPr>
          <p:blipFill>
            <a:blip r:embed="rId10"/>
            <a:stretch/>
          </p:blipFill>
          <p:spPr>
            <a:xfrm>
              <a:off x="0" y="2852640"/>
              <a:ext cx="1408320" cy="955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" name=""/>
            <p:cNvGrpSpPr/>
            <p:nvPr/>
          </p:nvGrpSpPr>
          <p:grpSpPr>
            <a:xfrm>
              <a:off x="0" y="6159600"/>
              <a:ext cx="1476000" cy="698400"/>
              <a:chOff x="0" y="6159600"/>
              <a:chExt cx="1476000" cy="698400"/>
            </a:xfrm>
          </p:grpSpPr>
          <p:pic>
            <p:nvPicPr>
              <p:cNvPr id="7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6159600"/>
                <a:ext cx="652680" cy="68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82840" y="6159600"/>
                <a:ext cx="893160" cy="698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mp3dev.org/mp3/" TargetMode="External"/><Relationship Id="rId2" Type="http://schemas.openxmlformats.org/officeDocument/2006/relationships/hyperlink" Target="http://www.mp3-tech.org/index.html" TargetMode="External"/><Relationship Id="rId3" Type="http://schemas.openxmlformats.org/officeDocument/2006/relationships/hyperlink" Target="http://www.mpeg.org/MPEG/index.html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52360" y="189000"/>
            <a:ext cx="7991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63800" y="2133720"/>
            <a:ext cx="432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908000" y="314172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O Áudi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(Parte IV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a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71280" y="1483920"/>
            <a:ext cx="770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racterísticas da Audição Hum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lcance de Freqüênci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ser humano pode perceber sons na faixa de freqüências de 20 Hz a 20 kHz devido às limitações físicas do ouvi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alcance de freqüências muda com a idade, perdemos a habilidade de ouvir as freqüências mais altas ao envelhec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lcance Dinâmic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menor variação de pressão do ar que um humano pode detectar (20 micro Pascal) medido nas freqüências na qual somos mais sensíveis, é usada como referência (0 dB) para medir a intensidade de outros s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ressão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971640" y="6093000"/>
            <a:ext cx="81010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Relembrando: Uma conversa normal: entre 50-60 dB e som do trânsito de carros: é aproximadamente de 80 dB. O máximo som que o ouvido pode tolerar é 130 dB, o que dá um alcance dinâmico de 0 a 130 d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scaramento Auditiv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finição:  corresponde à "audibilidade diminuída de um som devido à presença de outro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mascaramento auditivo consiste de mascaramento em freqüência e mascaramento tempo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ressão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936360" y="1634760"/>
            <a:ext cx="817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scaramento Auditiv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scaramento em Freqüênci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mbém chamado mascaramento simultâne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Dado um som forte com uma freqüência de 1000 Hz, e também um som na freqüência de 1100 Hz que está a 18 dB por baixo do anterior, o som de 1100 Hz não pode ser ouvido porque está sendo mascarado pelo som mais forte de 1000 Hz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sto ocorre porque o som de 1000 Hz é mais forte e está perto em freqüência. Quanto mais perto em freqüência estão, mais fortes são os sons que podem ser mascarados pelo som mais for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ressão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ressão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30813" t="36221" r="24154" b="27366"/>
          <a:stretch/>
        </p:blipFill>
        <p:spPr>
          <a:xfrm>
            <a:off x="1332000" y="1773360"/>
            <a:ext cx="6840360" cy="41479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403280" y="5950080"/>
            <a:ext cx="720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71640" y="5950080"/>
            <a:ext cx="81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scaramento Psicoacústic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o sinal marcado com * não será mascar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scaramento Auditiv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scaramento Tempor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corre antes e depois de um som for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um som é mascarado depois de um som mais forte é chamado pós-mascaramento, e se é mascarado antes em tempo é chamado pré-mascaramen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pré-mascaramento existe só por um curto momento (20 m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pós-mascaramento tem efeito até por 200 m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ressão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16000" y="2852640"/>
            <a:ext cx="7561440" cy="25941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scaramento Auditiv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Explorando os mascarament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(em freqüência e temporal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é possível reduzir substancialmente a informação de áudio, sem uma mudança audível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ressão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dundância Estereofônic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fato do ouvido humano não poder detectar a direção das baixas freqüências é chamado Redundância Estereofôni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as imperfeições, ou limitações na audição, possibilitam "jogar fora" certa informação de áudio, sem afetar o que ouvim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ressão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042560" y="1557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dificadores por Forma de Onda e Perceptu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Tipos de codificadores de áudi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odificadores por forma de o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ntam reconstruir o sinal tão exatamente quanto seja possível depois de codificar e decodific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odificadores perceptuai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ão tentam manter o sinal exatamente como era antes da etapa de codificação e decodificaç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curam assegurar que a saída seja percebida como o original pelo ouvido huma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roveita conhecimentos sobre as propriedades do ouvido e as limitações da audição humana, para eliminar parte do sinal que nós não podemos perceb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ressão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042560" y="1557000"/>
            <a:ext cx="7921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dificadores Perceptu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se todos transformam o som do domínio do tempo para o domínio da freqüência, e separaram as diferentes freqüências em sub-band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am o conhecimento de como o ouvido funciona para eliminar informação não necessár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efeito de mascaramento é o fenômeno auditivo mais habitualmente explor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s de codificadores perceptua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odos os codificadores de áudio MPEG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codificador ATRAC da Sony, usado nos seus sistemas MiniDis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ressão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042560" y="1628640"/>
            <a:ext cx="7921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PEG-1 Layer III (MP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gumas das razões pelas quais MP3 é a principal ferramenta para a distribuição de áudio pela Interne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drão aberto: Qualquer pessoa interessada pode implementar 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standard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o formato esta bem defini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sponibilidade de codificadores e decodificado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istência de tecnologia de apoio: amplo uso de placas de som para computadores, computadores suficientemente rápidos para rodar programas de codificação e decodificação de áudio e acesso rápido a Internet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ressão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187280" y="2060280"/>
            <a:ext cx="734544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Tóp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spectos relevantes da compressão de áu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971280" y="1628640"/>
            <a:ext cx="8101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isão geral do algoritmo codificador de MP3 (MPEG-1 layer III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ressão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042920" y="2349360"/>
            <a:ext cx="7885080" cy="35020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266840" y="6091920"/>
            <a:ext cx="7489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tiv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produzir um "stream" de bits de acordo com o padrão MPEG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beçalho do quadro do MPEG Audio Layer I/II/III (MPEG Layer 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arquivo de áudio MPEG é formado de uma sucessão de partes menores chamadas quadros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fram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quadro é um bloco de dados com o seu próprio cabeçalho e informação de áud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caso de Layer III os quadros não são sempre independentes devido ao possível uso do "byte reservoir" (reservatório de bytes), uma espécie de "buffer". No pior caso 9 quadros podem ser necessários antes da decodificação de um quadr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cabeçalho do quadro tem um comprimento de 32 bits (4 bytes) . Os primeiros onze bits são sempre posicionados em 1 e são chamados "sincronismo de quadro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ressão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beçalho do quadro do MPEG Audio Layer I/II/III (MPEG Layer 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caracteres A até M do cabeçalho são usados para indicar os diferentes camp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orma: AAAAAAAA AAABBCCD EEEEFFGH IIJJKLMM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ressão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crição do cabeçalho d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MPEG Layer III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9391" t="39174" r="31544" b="13585"/>
          <a:stretch/>
        </p:blipFill>
        <p:spPr>
          <a:xfrm>
            <a:off x="1258920" y="2133720"/>
            <a:ext cx="7416720" cy="44496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ressão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ressão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1270" t="25343" r="41146" b="8658"/>
          <a:stretch/>
        </p:blipFill>
        <p:spPr>
          <a:xfrm>
            <a:off x="1763640" y="1628640"/>
            <a:ext cx="590544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ressão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1270" t="22415" r="41146" b="8658"/>
          <a:stretch/>
        </p:blipFill>
        <p:spPr>
          <a:xfrm>
            <a:off x="1619280" y="1628640"/>
            <a:ext cx="576108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ressão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1270" t="21465" r="41146" b="6684"/>
          <a:stretch/>
        </p:blipFill>
        <p:spPr>
          <a:xfrm>
            <a:off x="1835280" y="1557360"/>
            <a:ext cx="5616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11564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is informaç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http://www.mp3dev.org/mp3/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http://www.mp3-tech.org/index.htm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http://www.mpeg.org/MPEG/index.htm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ressão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116000" y="1773000"/>
            <a:ext cx="734544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l a largura de banda necessária para transmitir áudio codificado a uma freqüência de amostragem de 44.1 kHz, 16 bits por amostra, estéreo (qualidade de CD)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ressão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63640" y="2276640"/>
            <a:ext cx="6337440" cy="576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258920" y="2349360"/>
            <a:ext cx="7345440" cy="28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44100x16x2 = 1.411.200 bits por segund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sto significa que para transmitir tal arquivo por uma rede, é necessária uma largura de banda d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,41 Mbits/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ressão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116000" y="1773000"/>
            <a:ext cx="734544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música de três minutos (180 segundos) de áudio nestas condições (freqüência de amostragem de 44.1 kHz, 16 bits por amostra, estéreo) utiliza quanto (MB) de armazenamento em um computado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ressão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763640" y="2133720"/>
            <a:ext cx="6337440" cy="64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116000" y="1773000"/>
            <a:ext cx="734544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80x44100x16x2 = 254.016.000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mais de 30 MB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 armazenamento no computad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es dois exemplos dão uma idéia da importância da compressão de so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ressão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42560" y="1699920"/>
            <a:ext cx="770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sistema MP3 aproveita, além das técnicas habituais de compressão, o conhecimento das imperfeições ou limitações na audição, para eliminar certas informações sem afetar o que ouvimos, conseguindo níveis de compressão de até 12 vez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ressão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115640" y="1699920"/>
            <a:ext cx="770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racterísticas da Audição Hum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audição humana não é perfeita. Além das limitações físicas do ouvido, depois o som tem que viajar através dos nervos até o córtex auditivo do cérebro onde é transformado em diferentes percepções das quais tomamos consciênc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ressão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115640" y="1699920"/>
            <a:ext cx="770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racterísticas da Audição Hum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onoridade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Loudnes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ois sons com a mesma amplitude podem ser percebidos com intensidade distinta dependendo das freqüências que tê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percepção da intensidade de um som não é constante com a freqüênc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ouvido humano tem maior sensibilidade ao som entre os 1000 e os 5000 Hz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ressão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</cp:lastModifiedBy>
  <dcterms:modified xsi:type="dcterms:W3CDTF">2007-04-16T15:43:15Z</dcterms:modified>
  <cp:revision>352</cp:revision>
  <dc:subject/>
  <dc:title>Sistemas Multimí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