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10.wmf" ContentType="image/x-wmf"/>
  <Override PartName="/ppt/media/image4.jpeg" ContentType="image/jpeg"/>
  <Override PartName="/ppt/media/image9.png" ContentType="image/png"/>
  <Override PartName="/ppt/media/image13.png" ContentType="image/png"/>
  <Override PartName="/ppt/media/image20.png" ContentType="image/png"/>
  <Override PartName="/ppt/media/image2.wmf" ContentType="image/x-wmf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wmf" ContentType="image/x-wmf"/>
  <Override PartName="/ppt/media/image3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0723-7502-4E59-9A0B-E8EC9029DAB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4F60-014A-4A8D-982C-88D80877EC4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1971-5ED7-4E11-AC19-B88DEDDB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9A8-D1CC-45FD-90BD-86401AE7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7D66-A75E-4043-A160-26ED0D36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DCA-38A5-4E39-A328-5960EBB5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DC45-4BAA-4BE4-95BD-A66AA7C9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F721-2AAB-4724-B313-1C0373FF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DA41-A4F3-455F-813C-315D848E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4F94-3485-4C4A-9D76-53CE6A8A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BE12-4830-4F10-BAF9-634CADE1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2B61-6A30-4301-9D97-22D7F695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CB35-756E-49C9-8F14-FE5F9293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501D-68DB-479C-8763-5D095ED9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77F3-4E0F-4F13-8210-FBB923F1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E102-A0D9-4760-AA01-A880CB2C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942F-4840-467F-97F3-9A45F6A6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B51B-81B9-40DA-9E63-6C39679F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3BC4-17A4-45CB-9737-64082106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EB0-BADB-495F-A51F-4A509CF7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365C-76EA-436A-B859-9EEEEEC4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2E1-CD52-4B1D-89AE-AAEDD05F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DC1-2158-49CB-AEC9-EBEA7DBF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BAE5-1BA5-4970-B098-631E9539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977B-ED02-4146-A7CE-600108F3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83B6-1C2B-4D07-BA46-67BBA7CE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wmf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43B9-1885-4141-ABC7-8A965C94B03A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971640" cy="6858000"/>
            <a:chOff x="0" y="0"/>
            <a:chExt cx="971640" cy="6858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92700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92700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0" y="4429080"/>
              <a:ext cx="92700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5"/>
            <a:stretch/>
          </p:blipFill>
          <p:spPr>
            <a:xfrm>
              <a:off x="0" y="5410080"/>
              <a:ext cx="92700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6"/>
            <a:stretch/>
          </p:blipFill>
          <p:spPr>
            <a:xfrm>
              <a:off x="0" y="2205000"/>
              <a:ext cx="92700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7"/>
            <a:stretch/>
          </p:blipFill>
          <p:spPr>
            <a:xfrm>
              <a:off x="0" y="3781440"/>
              <a:ext cx="927000" cy="6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" name=""/>
            <p:cNvGrpSpPr/>
            <p:nvPr/>
          </p:nvGrpSpPr>
          <p:grpSpPr>
            <a:xfrm>
              <a:off x="0" y="0"/>
              <a:ext cx="971640" cy="698400"/>
              <a:chOff x="0" y="0"/>
              <a:chExt cx="971640" cy="698400"/>
            </a:xfrm>
          </p:grpSpPr>
          <p:pic>
            <p:nvPicPr>
              <p:cNvPr id="1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4294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83760" y="0"/>
                <a:ext cx="587880" cy="698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" name="" descr=""/>
            <p:cNvPicPr/>
            <p:nvPr/>
          </p:nvPicPr>
          <p:blipFill>
            <a:blip r:embed="rId10"/>
            <a:stretch/>
          </p:blipFill>
          <p:spPr>
            <a:xfrm>
              <a:off x="0" y="2852640"/>
              <a:ext cx="927000" cy="95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" name=""/>
            <p:cNvGrpSpPr/>
            <p:nvPr/>
          </p:nvGrpSpPr>
          <p:grpSpPr>
            <a:xfrm>
              <a:off x="0" y="6159600"/>
              <a:ext cx="971640" cy="698400"/>
              <a:chOff x="0" y="6159600"/>
              <a:chExt cx="971640" cy="698400"/>
            </a:xfrm>
          </p:grpSpPr>
          <p:pic>
            <p:nvPicPr>
              <p:cNvPr id="1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6159600"/>
                <a:ext cx="4294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83760" y="6159600"/>
                <a:ext cx="58788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AE99-023A-44BB-B5F0-22FD50B40571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0"/>
            <a:ext cx="1476000" cy="6858000"/>
            <a:chOff x="0" y="0"/>
            <a:chExt cx="1476000" cy="685800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1408320" cy="10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0" y="1557360"/>
              <a:ext cx="1408320" cy="6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0" y="4429080"/>
              <a:ext cx="1408320" cy="103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0" y="5410080"/>
              <a:ext cx="140832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0" y="2205000"/>
              <a:ext cx="140832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7"/>
            <a:stretch/>
          </p:blipFill>
          <p:spPr>
            <a:xfrm>
              <a:off x="0" y="3781440"/>
              <a:ext cx="1408320" cy="68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"/>
            <p:cNvGrpSpPr/>
            <p:nvPr/>
          </p:nvGrpSpPr>
          <p:grpSpPr>
            <a:xfrm>
              <a:off x="0" y="0"/>
              <a:ext cx="1476000" cy="698400"/>
              <a:chOff x="0" y="0"/>
              <a:chExt cx="1476000" cy="698400"/>
            </a:xfrm>
          </p:grpSpPr>
          <p:pic>
            <p:nvPicPr>
              <p:cNvPr id="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0"/>
                <a:ext cx="6526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82840" y="0"/>
                <a:ext cx="893160" cy="698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" name="" descr=""/>
            <p:cNvPicPr/>
            <p:nvPr/>
          </p:nvPicPr>
          <p:blipFill>
            <a:blip r:embed="rId10"/>
            <a:stretch/>
          </p:blipFill>
          <p:spPr>
            <a:xfrm>
              <a:off x="0" y="2852640"/>
              <a:ext cx="1408320" cy="955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" name=""/>
            <p:cNvGrpSpPr/>
            <p:nvPr/>
          </p:nvGrpSpPr>
          <p:grpSpPr>
            <a:xfrm>
              <a:off x="0" y="6159600"/>
              <a:ext cx="1476000" cy="698400"/>
              <a:chOff x="0" y="6159600"/>
              <a:chExt cx="1476000" cy="698400"/>
            </a:xfrm>
          </p:grpSpPr>
          <p:pic>
            <p:nvPicPr>
              <p:cNvPr id="7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6159600"/>
                <a:ext cx="652680" cy="68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82840" y="6159600"/>
                <a:ext cx="89316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O Áudi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I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Formatos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O A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ormato de áudio digital utilizado pela Sun e pelo sistema operacional Uni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 extensão destes arquivos é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O 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ormato semelhante ao formato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utilizado inicialmente pela Ap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 extensão destes arquivos é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snd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50920" y="1557360"/>
            <a:ext cx="7993080" cy="47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quivos RIFF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(Wav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: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6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presentação digital de sinais contínu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26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dos armazenados na forma de pequenos fragmentos (“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hunk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30440" y="2924280"/>
            <a:ext cx="5863680" cy="351108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amanh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cri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RIFF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manho do chunk (32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WAV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fm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manho da descrição do arqu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 by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lag para mono (0x01) ou estéreo (0x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xa de amostr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ytes/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 by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inhamento do blo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 by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its/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dat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 byt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manho do segmento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n bytes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anipulação de Sinais de Áudi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1116000" y="4359240"/>
            <a:ext cx="8064000" cy="1268280"/>
            <a:chOff x="1116000" y="4359240"/>
            <a:chExt cx="8064000" cy="1268280"/>
          </a:xfrm>
        </p:grpSpPr>
        <p:sp>
          <p:nvSpPr>
            <p:cNvPr id="149" name=""/>
            <p:cNvSpPr/>
            <p:nvPr/>
          </p:nvSpPr>
          <p:spPr>
            <a:xfrm>
              <a:off x="1670400" y="4359240"/>
              <a:ext cx="1714680" cy="12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hunk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orm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ubchunk1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lockAlig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ubchunk2S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16000" y="4623480"/>
              <a:ext cx="302040" cy="168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16000" y="4369680"/>
              <a:ext cx="302040" cy="1688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16000" y="4877280"/>
              <a:ext cx="302040" cy="1688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39200" y="4369680"/>
              <a:ext cx="302040" cy="168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39200" y="4623480"/>
              <a:ext cx="302040" cy="168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39200" y="4877280"/>
              <a:ext cx="302040" cy="1688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13080" y="4369680"/>
              <a:ext cx="301320" cy="1688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13080" y="4623480"/>
              <a:ext cx="301320" cy="1688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13080" y="4877280"/>
              <a:ext cx="301320" cy="16884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43280" y="4359240"/>
              <a:ext cx="1714320" cy="12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hunkS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ubchunk1Siz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udioForm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itsPerSam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most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65680" y="4359240"/>
              <a:ext cx="1714320" cy="101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NumChanne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ampleR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yteR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ubchunk2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16000" y="5120280"/>
              <a:ext cx="302040" cy="168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39200" y="5120280"/>
              <a:ext cx="302040" cy="168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12360" y="5120280"/>
              <a:ext cx="302040" cy="1688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16000" y="5374080"/>
              <a:ext cx="302040" cy="1688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39200" y="5374080"/>
              <a:ext cx="302040" cy="168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187280" y="1916280"/>
            <a:ext cx="7632720" cy="47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eitura de um arquivo de áudio (format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wav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8920" y="2564640"/>
            <a:ext cx="6624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0:  </a:t>
            </a:r>
            <a:r>
              <a:rPr b="1" lang="es-ES_tradnl" sz="1200" spc="-1" strike="noStrike">
                <a:solidFill>
                  <a:srgbClr val="333399"/>
                </a:solidFill>
                <a:latin typeface="Courier New"/>
              </a:rPr>
              <a:t>52  49  46  46</a:t>
            </a: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1200" spc="-1" strike="noStrike">
                <a:solidFill>
                  <a:srgbClr val="ff0000"/>
                </a:solidFill>
                <a:latin typeface="Courier New"/>
              </a:rPr>
              <a:t>EE  2B  00  00</a:t>
            </a: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1200" spc="-1" strike="noStrike">
                <a:solidFill>
                  <a:srgbClr val="33cccc"/>
                </a:solidFill>
                <a:latin typeface="Courier New"/>
              </a:rPr>
              <a:t>57  41  56  45  </a:t>
            </a:r>
            <a:r>
              <a:rPr b="1" lang="es-ES_tradnl" sz="1200" spc="-1" strike="noStrike">
                <a:solidFill>
                  <a:srgbClr val="0000ff"/>
                </a:solidFill>
                <a:latin typeface="Courier New"/>
              </a:rPr>
              <a:t>66  6D  74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pt-BR" sz="1200" spc="-1" strike="noStrike">
                <a:solidFill>
                  <a:srgbClr val="333399"/>
                </a:solidFill>
                <a:latin typeface="Courier New"/>
              </a:rPr>
              <a:t>R   I   F   F  </a:t>
            </a:r>
            <a:r>
              <a:rPr b="1" lang="pt-BR" sz="1200" spc="-1" strike="noStrike">
                <a:solidFill>
                  <a:srgbClr val="ff0000"/>
                </a:solidFill>
                <a:latin typeface="Courier New"/>
              </a:rPr>
              <a:t>11246 bits</a:t>
            </a:r>
            <a:r>
              <a:rPr b="1" lang="pt-BR" sz="12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pt-BR" sz="1200" spc="-1" strike="noStrike">
                <a:solidFill>
                  <a:srgbClr val="33cccc"/>
                </a:solidFill>
                <a:latin typeface="Courier New"/>
              </a:rPr>
              <a:t>W   A   V   E</a:t>
            </a:r>
            <a:r>
              <a:rPr b="1" lang="pt-BR" sz="12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pt-BR" sz="1200" spc="-1" strike="noStrike">
                <a:solidFill>
                  <a:srgbClr val="0000ff"/>
                </a:solidFill>
                <a:latin typeface="Courier New"/>
              </a:rPr>
              <a:t>f   m   t</a:t>
            </a:r>
            <a:r>
              <a:rPr b="1" lang="pt-BR" sz="1200" spc="-1" strike="noStrike">
                <a:solidFill>
                  <a:srgbClr val="333399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1:  </a:t>
            </a:r>
            <a:r>
              <a:rPr b="1" lang="pt-BR" sz="1200" spc="-1" strike="noStrike">
                <a:solidFill>
                  <a:srgbClr val="999999"/>
                </a:solidFill>
                <a:latin typeface="Courier New"/>
              </a:rPr>
              <a:t>10  00  00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00ff00"/>
                </a:solidFill>
                <a:latin typeface="Courier New"/>
              </a:rPr>
              <a:t>01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cc99ff"/>
                </a:solidFill>
                <a:latin typeface="Courier New"/>
              </a:rPr>
              <a:t>01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666699"/>
                </a:solidFill>
                <a:latin typeface="Courier New"/>
              </a:rPr>
              <a:t>80  </a:t>
            </a:r>
            <a:r>
              <a:rPr b="1" lang="pt-BR" sz="1200" spc="-1" strike="noStrike">
                <a:solidFill>
                  <a:srgbClr val="333399"/>
                </a:solidFill>
                <a:latin typeface="Courier New"/>
              </a:rPr>
              <a:t>3E</a:t>
            </a:r>
            <a:r>
              <a:rPr b="1" lang="pt-BR" sz="1200" spc="-1" strike="noStrike">
                <a:solidFill>
                  <a:srgbClr val="666699"/>
                </a:solidFill>
                <a:latin typeface="Courier New"/>
              </a:rPr>
              <a:t>  00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808000"/>
                </a:solidFill>
                <a:latin typeface="Courier New"/>
              </a:rPr>
              <a:t>00  7D  00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t-BR" sz="1200" spc="-1" strike="noStrike">
                <a:solidFill>
                  <a:srgbClr val="999999"/>
                </a:solidFill>
                <a:latin typeface="Courier New"/>
              </a:rPr>
              <a:t>16 bytes    </a:t>
            </a:r>
            <a:r>
              <a:rPr b="1" lang="pt-BR" sz="1200" spc="-1" strike="noStrike">
                <a:solidFill>
                  <a:srgbClr val="00ff00"/>
                </a:solidFill>
                <a:latin typeface="Courier New"/>
              </a:rPr>
              <a:t>1(PCM)  </a:t>
            </a:r>
            <a:r>
              <a:rPr b="1" lang="pt-BR" sz="1200" spc="-1" strike="noStrike">
                <a:solidFill>
                  <a:srgbClr val="cc99ff"/>
                </a:solidFill>
                <a:latin typeface="Courier New"/>
              </a:rPr>
              <a:t>1(Mono)    </a:t>
            </a:r>
            <a:r>
              <a:rPr b="1" lang="pt-BR" sz="1200" spc="-1" strike="noStrike">
                <a:solidFill>
                  <a:srgbClr val="666699"/>
                </a:solidFill>
                <a:latin typeface="Courier New"/>
              </a:rPr>
              <a:t>16000 Hz         </a:t>
            </a:r>
            <a:r>
              <a:rPr b="1" lang="pt-BR" sz="1200" spc="-1" strike="noStrike">
                <a:solidFill>
                  <a:srgbClr val="808000"/>
                </a:solidFill>
                <a:latin typeface="Courier New"/>
              </a:rPr>
              <a:t>32000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2:  </a:t>
            </a:r>
            <a:r>
              <a:rPr b="1" lang="pt-BR" sz="1200" spc="-1" strike="noStrike">
                <a:solidFill>
                  <a:srgbClr val="993300"/>
                </a:solidFill>
                <a:latin typeface="Courier New"/>
              </a:rPr>
              <a:t>02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10  00  </a:t>
            </a:r>
            <a:r>
              <a:rPr b="1" lang="pt-BR" sz="1200" spc="-1" strike="noStrike">
                <a:solidFill>
                  <a:srgbClr val="008000"/>
                </a:solidFill>
                <a:latin typeface="Courier New"/>
              </a:rPr>
              <a:t>64  61  74  61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3366ff"/>
                </a:solidFill>
                <a:latin typeface="Courier New"/>
              </a:rPr>
              <a:t>80  2B  00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200" spc="-1" strike="noStrike">
                <a:solidFill>
                  <a:srgbClr val="33cccc"/>
                </a:solidFill>
                <a:latin typeface="Courier New"/>
              </a:rPr>
              <a:t>CF  FF  84  FF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993300"/>
                </a:solidFill>
                <a:latin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16 bits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d   a   t   a     </a:t>
            </a:r>
            <a:r>
              <a:rPr b="1" lang="en-US" sz="1200" spc="-1" strike="noStrike">
                <a:solidFill>
                  <a:srgbClr val="3366ff"/>
                </a:solidFill>
                <a:latin typeface="Courier New"/>
              </a:rPr>
              <a:t>11136 bits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:  </a:t>
            </a:r>
            <a:r>
              <a:rPr b="1" lang="en-US" sz="1200" spc="-1" strike="noStrike">
                <a:solidFill>
                  <a:srgbClr val="33cccc"/>
                </a:solidFill>
                <a:latin typeface="Courier New"/>
              </a:rPr>
              <a:t>69  FF  67  FF  89  FF  B7  FF  9B  FF  5A  FF  86  FF  61  F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:  </a:t>
            </a:r>
            <a:r>
              <a:rPr b="1" lang="en-US" sz="1200" spc="-1" strike="noStrike">
                <a:solidFill>
                  <a:srgbClr val="33cccc"/>
                </a:solidFill>
                <a:latin typeface="Courier New"/>
              </a:rPr>
              <a:t>3F  FF  8A  FF  9B  FF  EC  FF  0E  00  3C  00  39  00  D1  F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9120" y="2805120"/>
            <a:ext cx="360" cy="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19120" y="2805120"/>
            <a:ext cx="38160" cy="19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3880" y="5867280"/>
            <a:ext cx="65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Representação hexadecimal de um trecho de um arquivo WAV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anipulação de Sinais de Áudi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2 49 46 46 24 08 00 00 57 41 56 45 66 6d 74 20 10 00 00 00 01 00 02 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2 56 00 00 88 58 01 00 04 00 10 00 64 61 74 61 00 08 00 00 00 00 00 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4 17 1e f3 3c 13 3c 14 16 f9 18 f9 34 e7 23 a6 3c f2 24 f2 11 ce 1a 0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6732720" cy="44924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6553080"/>
            <a:ext cx="792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Fonte: http://geocities.yahoo.com.br/d_godoi/pg4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4508640"/>
            <a:ext cx="1042920" cy="165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Formatos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7040" indent="-34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Musical Instrument Digita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73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Um padrão que permite conectar sintetizadores, teclados eletrônicos e outros instrumentos eletrônicos ao computad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73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s arquivos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midi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não são exatamente um formato de arquivo de áudio, mas, por armazenarem notas musicais, encontram-se dentro desta categoria e têm a extensão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mid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midi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040" indent="-347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ompact Disc Digital A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73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ormato usado para codificar música em discos comerci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73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ste formato não é usualmente armazenado diretamente nos comput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273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 extensão destes arquivos é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cd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erente de imagens ou vídeo, existe pouca relação entre amostras vizinhas ou quadros consecutivos para o áud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níveis de compressão práticos são limitados para muito menos de 10:1 (compressão de vídeo de 25:1 pode ser produzid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777708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s algoritmos de compressão funcionam de forma similar à compressão de image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rquivos comprimidos ocupam menos espaço que os arquivos iniciais e resultam da eliminação de informação redundante e outras informações de áudio com pouca influência na qualidade do me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ormas de compressão de um arquivo de áudi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Com perdas de inform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em perdas de inform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ormatos de compressão com per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s mais populares provêm da família dos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Motion Picture Experts Group (MPEG)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2714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MPEG - refere-se a uma família de </a:t>
            </a:r>
            <a:r>
              <a:rPr b="0" i="1" lang="pt-PT" sz="2000" spc="-1" strike="noStrike">
                <a:solidFill>
                  <a:srgbClr val="000000"/>
                </a:solidFill>
                <a:latin typeface="Arial"/>
              </a:rPr>
              <a:t>padrõ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para áudio e vídeo que inclui o MPEG-1, MPEG-2, MPEG-1 Layer 3 (MP3) e o MPEG-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187280" y="1700280"/>
          <a:ext cx="7560000" cy="4741920"/>
        </p:xfrm>
        <a:graphic>
          <a:graphicData uri="http://schemas.openxmlformats.org/drawingml/2006/table">
            <a:tbl>
              <a:tblPr/>
              <a:tblGrid>
                <a:gridCol w="1595520"/>
                <a:gridCol w="59644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EG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rão para vídeo e CD-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EG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rão para DVD e TV dig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EG-1 – Layer 3 (MP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arquivos apresentam tamanhos pequenos e com um som de qualidade. A sua característica principal é a sua universalidad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EG – Layer 3 (MP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 muito utilizado nas transmissões de música pela Internet. O seu processo de compactação funciona através da eliminação de frequências sonoras não audíveis pelo ouvido humano. Transforma arquivos com 40MB de tamanho em 4MB, mantendo uma qualidade razoáve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EG 4 Audio AA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</a:t>
                      </a: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EG-4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é o padrão que permite introduzir áudio e vídeo na Internet, em dispositivos móveis, em jogos e em aparelhos sem fios,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97128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Outros formatos de compressão com perda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QuickTime Audi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é essencialmente a tecnologia MPEG-4, suportando áudio, vídeo e o formato MP3. A extensão dos arquivos é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qt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Windows Media Audi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é um formato de áudio digital da Microsoft, desenvolvido como um formato alternativo ao MP3. A extensão de arquivos é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w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anipulação de Sinais de V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re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orm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Formatos de compressão sem per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Windows Media Audio Loss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ormato da Microsoft, disponível nas versões 9 e 10 do Windows Media Play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Usa a mesma extensão do formato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wm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pple Lossless Audio Co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ormato disponível para ser usado com o iTunes e o iPod da Ap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 extensão dos arquivos é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m4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Compressão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ditores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ol Edit 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envolvido pela Sytreilium Software Corporation para plataforma Wind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ui uma elevada variedade de efeitos DSP, e suporte para um grande número de formatos de arquiv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Wave Surg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 como objetivos automatizar o processo de edição de amostras de áudio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und Forg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32-b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icado para a criação e edição de som digital sob Window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ditor de áudio de uso fácil, apresenta diversos recursos úteis ao desenvolvimento de projetos em multimí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Softwar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87280" y="1989000"/>
          <a:ext cx="7561440" cy="4535640"/>
        </p:xfrm>
        <a:graphic>
          <a:graphicData uri="http://schemas.openxmlformats.org/drawingml/2006/table">
            <a:tbl>
              <a:tblPr/>
              <a:tblGrid>
                <a:gridCol w="2592720"/>
                <a:gridCol w="287280"/>
                <a:gridCol w="288720"/>
                <a:gridCol w="287280"/>
                <a:gridCol w="289080"/>
                <a:gridCol w="287280"/>
                <a:gridCol w="936720"/>
                <a:gridCol w="1079640"/>
                <a:gridCol w="151272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s formatos supor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vador de Áud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e gravar, reproduzir e gerar efeitos em arquivos de áudi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836000" y="27813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3539880" y="230184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p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3670200" y="23871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e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4152960" y="226440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di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4296240" y="23734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ver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3948480" y="2971080"/>
            <a:ext cx="22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Gravação em suporte óp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76360" y="4292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13086" t="22636" r="59604" b="56711"/>
          <a:stretch/>
        </p:blipFill>
        <p:spPr>
          <a:xfrm>
            <a:off x="1258920" y="4869000"/>
            <a:ext cx="23763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Softwar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87280" y="1989000"/>
          <a:ext cx="7561440" cy="4535640"/>
        </p:xfrm>
        <a:graphic>
          <a:graphicData uri="http://schemas.openxmlformats.org/drawingml/2006/table">
            <a:tbl>
              <a:tblPr/>
              <a:tblGrid>
                <a:gridCol w="2592720"/>
                <a:gridCol w="287280"/>
                <a:gridCol w="288720"/>
                <a:gridCol w="287280"/>
                <a:gridCol w="289080"/>
                <a:gridCol w="287280"/>
                <a:gridCol w="936720"/>
                <a:gridCol w="1079640"/>
                <a:gridCol w="151272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s formatos supor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D MP3 Sound Rec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e gravar, reproduzir e gerar efeitos em arquivos de áudi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, WAV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load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com/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D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nd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er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G2/3000-2140_4-10594670.htm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1836000" y="27813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3539880" y="230184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p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3670200" y="23871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e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4152960" y="226440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di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4296240" y="23734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ver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3948480" y="2971080"/>
            <a:ext cx="22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Gravação em suporte óp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76360" y="4292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58920" y="4797360"/>
            <a:ext cx="237492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Softwar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187280" y="1989000"/>
          <a:ext cx="7561440" cy="4535640"/>
        </p:xfrm>
        <a:graphic>
          <a:graphicData uri="http://schemas.openxmlformats.org/drawingml/2006/table">
            <a:tbl>
              <a:tblPr/>
              <a:tblGrid>
                <a:gridCol w="2592720"/>
                <a:gridCol w="287280"/>
                <a:gridCol w="288720"/>
                <a:gridCol w="287280"/>
                <a:gridCol w="289080"/>
                <a:gridCol w="287280"/>
                <a:gridCol w="936720"/>
                <a:gridCol w="1079640"/>
                <a:gridCol w="151272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s formatos supor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Voice Rec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e a gravação de áudio a partir de editores de música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programurl.com/stepvoice-recorder.ht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1836000" y="27813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3539880" y="230184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p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3670200" y="23871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e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152960" y="226440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di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4296240" y="23734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ver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3948480" y="2971080"/>
            <a:ext cx="22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Gravação em suporte óp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76360" y="4292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58920" y="4869000"/>
            <a:ext cx="237636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Softwar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187280" y="1989000"/>
          <a:ext cx="7561440" cy="4535640"/>
        </p:xfrm>
        <a:graphic>
          <a:graphicData uri="http://schemas.openxmlformats.org/drawingml/2006/table">
            <a:tbl>
              <a:tblPr/>
              <a:tblGrid>
                <a:gridCol w="2592720"/>
                <a:gridCol w="287280"/>
                <a:gridCol w="288720"/>
                <a:gridCol w="287280"/>
                <a:gridCol w="289080"/>
                <a:gridCol w="287280"/>
                <a:gridCol w="936720"/>
                <a:gridCol w="1079640"/>
                <a:gridCol w="151272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s formatos supor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Media Play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e reproduzir filmes, músicas, sintonizar rádios através da internet, criar CD de música, 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F, Real Audio, Real Video, QuickTime, AVI, WAV, MP3 e Netshow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1836000" y="27813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3539880" y="230184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p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3670200" y="23871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e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4152960" y="226440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di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4296240" y="23734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ver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3948480" y="2971080"/>
            <a:ext cx="22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Gravação em suporte óp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76360" y="4292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539" t="6684" r="539" b="4730"/>
          <a:stretch/>
        </p:blipFill>
        <p:spPr>
          <a:xfrm>
            <a:off x="1258920" y="4724280"/>
            <a:ext cx="244944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Softwar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187280" y="1989000"/>
          <a:ext cx="7561440" cy="4535640"/>
        </p:xfrm>
        <a:graphic>
          <a:graphicData uri="http://schemas.openxmlformats.org/drawingml/2006/table">
            <a:tbl>
              <a:tblPr/>
              <a:tblGrid>
                <a:gridCol w="2592720"/>
                <a:gridCol w="287280"/>
                <a:gridCol w="288720"/>
                <a:gridCol w="287280"/>
                <a:gridCol w="289080"/>
                <a:gridCol w="287280"/>
                <a:gridCol w="936720"/>
                <a:gridCol w="1079640"/>
                <a:gridCol w="151272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s formatos supor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Play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e reproduzir músicas, sintonizar rádios através da internet, .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, WAV, cda, wma,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real.com/international/player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1836000" y="27813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539880" y="230184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p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3670200" y="23871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e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6200000">
            <a:off x="4152960" y="226440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di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4296240" y="23734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ver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3948480" y="2971080"/>
            <a:ext cx="22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Gravação em suporte óp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76360" y="4292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1466" t="0" r="2931" b="4513"/>
          <a:stretch/>
        </p:blipFill>
        <p:spPr>
          <a:xfrm>
            <a:off x="1332000" y="4635360"/>
            <a:ext cx="230328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Softwar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187280" y="1989000"/>
          <a:ext cx="7632720" cy="4535640"/>
        </p:xfrm>
        <a:graphic>
          <a:graphicData uri="http://schemas.openxmlformats.org/drawingml/2006/table">
            <a:tbl>
              <a:tblPr/>
              <a:tblGrid>
                <a:gridCol w="2592720"/>
                <a:gridCol w="287280"/>
                <a:gridCol w="288720"/>
                <a:gridCol w="287280"/>
                <a:gridCol w="289080"/>
                <a:gridCol w="287280"/>
                <a:gridCol w="936720"/>
                <a:gridCol w="1079640"/>
                <a:gridCol w="158400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s formatos supor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a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 que reproduz arquivos em vários format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, MP2, MOD, S3M, MTM, ULT, XM, IT, 669, CDs de audio e WAV,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winamp.com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1836000" y="27813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3539880" y="230184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p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3670200" y="23871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e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4152960" y="226440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di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6200000">
            <a:off x="4296240" y="23734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ver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6200000">
            <a:off x="3948480" y="2971080"/>
            <a:ext cx="22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Gravação em suporte óp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58920" y="4581360"/>
            <a:ext cx="2449440" cy="18608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476360" y="4292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Softwar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187280" y="1989000"/>
          <a:ext cx="7632720" cy="4535640"/>
        </p:xfrm>
        <a:graphic>
          <a:graphicData uri="http://schemas.openxmlformats.org/drawingml/2006/table">
            <a:tbl>
              <a:tblPr/>
              <a:tblGrid>
                <a:gridCol w="2592720"/>
                <a:gridCol w="287280"/>
                <a:gridCol w="288720"/>
                <a:gridCol w="287280"/>
                <a:gridCol w="289080"/>
                <a:gridCol w="287280"/>
                <a:gridCol w="936720"/>
                <a:gridCol w="1079640"/>
                <a:gridCol w="158400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s formatos supor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tAud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 Player completo com capacidade de gravação e reprodução do conteúdo de C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, WAV, Ogg Vorbis, Windows Media e Monkeys Aud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jetaudio.com/download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1836000" y="27813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3539880" y="230184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p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3670200" y="23871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e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4152960" y="226440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di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4296240" y="23734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ver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3948480" y="2971080"/>
            <a:ext cx="22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Gravação em suporte óp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258920" y="4581360"/>
            <a:ext cx="2449440" cy="18608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476360" y="4292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Softwar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87280" y="1989000"/>
          <a:ext cx="7632720" cy="4535640"/>
        </p:xfrm>
        <a:graphic>
          <a:graphicData uri="http://schemas.openxmlformats.org/drawingml/2006/table">
            <a:tbl>
              <a:tblPr/>
              <a:tblGrid>
                <a:gridCol w="2592720"/>
                <a:gridCol w="287280"/>
                <a:gridCol w="288720"/>
                <a:gridCol w="287280"/>
                <a:gridCol w="289080"/>
                <a:gridCol w="287280"/>
                <a:gridCol w="936720"/>
                <a:gridCol w="1079640"/>
                <a:gridCol w="158400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s formatos supor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oundStud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e transformar o PC em um estúdio de composição musica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, MP3, 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softbull.com/mysoundstudio.htm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1836000" y="27813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3539880" y="230184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p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3670200" y="23871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e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4152960" y="226440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di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4296240" y="23734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ver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6200000">
            <a:off x="3948480" y="2971080"/>
            <a:ext cx="22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Gravação em suporte óp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76360" y="4292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58920" y="4653000"/>
            <a:ext cx="24480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1981080"/>
            <a:ext cx="72752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scrição simplificada de uma placa de 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7772400" cy="3265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098000" y="6359400"/>
            <a:ext cx="5370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http://paginas.terra.com.br/lazer/py4zbz/teoria/digitaliz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anipulação de Sinais de Áudi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Softwar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187280" y="1989000"/>
          <a:ext cx="7705800" cy="4535640"/>
        </p:xfrm>
        <a:graphic>
          <a:graphicData uri="http://schemas.openxmlformats.org/drawingml/2006/table">
            <a:tbl>
              <a:tblPr/>
              <a:tblGrid>
                <a:gridCol w="2592720"/>
                <a:gridCol w="287280"/>
                <a:gridCol w="288720"/>
                <a:gridCol w="287280"/>
                <a:gridCol w="289080"/>
                <a:gridCol w="287280"/>
                <a:gridCol w="936720"/>
                <a:gridCol w="1079640"/>
                <a:gridCol w="165708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s formatos supor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BurnerXP P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e a gravação de CD de áudio, reprodução e gravação de arquivos de á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, MP3, 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cdburnerxp.se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1836000" y="27813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6200000">
            <a:off x="3539880" y="230184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p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3670200" y="23871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e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4152960" y="226440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di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4296240" y="23734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ver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3948480" y="2971080"/>
            <a:ext cx="22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Gravação em suporte óp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292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547640" y="45482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Softwar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187280" y="1989000"/>
          <a:ext cx="7705800" cy="4535640"/>
        </p:xfrm>
        <a:graphic>
          <a:graphicData uri="http://schemas.openxmlformats.org/drawingml/2006/table">
            <a:tbl>
              <a:tblPr/>
              <a:tblGrid>
                <a:gridCol w="2592720"/>
                <a:gridCol w="287280"/>
                <a:gridCol w="288720"/>
                <a:gridCol w="287280"/>
                <a:gridCol w="289080"/>
                <a:gridCol w="287280"/>
                <a:gridCol w="936720"/>
                <a:gridCol w="1079640"/>
                <a:gridCol w="1657080"/>
              </a:tblGrid>
              <a:tr h="21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s formatos supor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iz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3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e a gravação de CD e DV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, MP3, 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cdburnerxp.se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1836000" y="278136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6200000">
            <a:off x="3539880" y="230184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p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3670200" y="2387160"/>
            <a:ext cx="10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eprodu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4152960" y="226440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di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4296240" y="23734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onver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3948480" y="2971080"/>
            <a:ext cx="22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Gravação em suporte óp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76360" y="4292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28794" t="7880" r="6984" b="26544"/>
          <a:stretch/>
        </p:blipFill>
        <p:spPr>
          <a:xfrm>
            <a:off x="1332000" y="4653000"/>
            <a:ext cx="23050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42920" y="1700280"/>
            <a:ext cx="7777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acterísticas de placas de som de má qu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777080" cy="38689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anipulação de Sinais de Áudi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42920" y="1700280"/>
            <a:ext cx="7777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acterísticas de placas de som de boa qu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7537320" cy="37180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anipulação de Sinais de Áudi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Formatos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básicos de formatos de arqu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arâmetros de dados de áudio e codificação são feitos explicitamente em alguma forma de cabeçalh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arâmetros de dados de áudio e codificação são fix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Formatos de Áudio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00"/>
                </a:solidFill>
                <a:uFillTx/>
                <a:latin typeface="Arial"/>
              </a:rPr>
              <a:t>Não comprim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7400" indent="-2574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mostragem </a:t>
            </a:r>
            <a:r>
              <a:rPr b="0" lang="pt-P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quantização </a:t>
            </a:r>
            <a:r>
              <a:rPr b="0" lang="pt-P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dificação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CM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ulse </a:t>
            </a: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ode </a:t>
            </a: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odulation</a:t>
            </a:r>
            <a:r>
              <a:rPr b="1" i="1" lang="pt-PT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7400" indent="-2574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CM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- Padrão básico para conversão de sinais analógicos para armazenamento ou transmissão em dispositivos digit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7400" indent="-2574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Esta codificação é feita sem uso de algoritmos de compres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7400" indent="-2574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maior parte dos formatos de arquivos não comprimidos é própria de sistemas operacionais específic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Verdana"/>
              </a:rPr>
              <a:t>Formatos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Waveform Audi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ormato de áudio digital do Wind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Desenvolvido pela IBM para o Windows 9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Os arquivos neste formato utilizam a extensão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IFF Wavefor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to de som Wave da Microsoft Window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do para o sistema de som Window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rquivos Waveform RIFF têm extensão WA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udio Interchange File Format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AIF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Formato de áudio utilizado pela Ap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A extensão destes arquivos pode ser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iff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aif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 de voz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re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to de som da Sound Bl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 a extensão VO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 de Amostra de 8 bits crus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(R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formato do som não contém codificação ou compres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Formatos de Áudi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4-11T23:07:10Z</dcterms:modified>
  <cp:revision>342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