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2.wmf" ContentType="image/x-wmf"/>
  <Override PartName="/ppt/media/image13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28.wmf" ContentType="image/x-wmf"/>
  <Override PartName="/ppt/media/image10.png" ContentType="image/png"/>
  <Override PartName="/ppt/media/image6.wmf" ContentType="image/x-wmf"/>
  <Override PartName="/ppt/media/image29.wmf" ContentType="image/x-wmf"/>
  <Override PartName="/ppt/media/image31.jpeg" ContentType="image/jpeg"/>
  <Override PartName="/ppt/media/image8.wmf" ContentType="image/x-wmf"/>
  <Override PartName="/ppt/media/image4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9223-EEDD-415A-914C-239C935CD8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657B-3BEB-40B4-BA71-3AADE98F4D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78F-8817-46D8-80B3-60D80FA9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AAE-C6D4-4B3A-9165-EF519B1E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DE7-3B7D-4EC5-9FFE-33B5B9C7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43B-DE62-4A72-A7EE-CB5D3EA7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A28A-26E5-494B-A06F-77A6CF1B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BAA8-7538-4A87-AC32-1652C0C0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2A0B-9E35-4927-92A0-AFD75092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8079-E917-4250-9014-6889AA0A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341C-4A4C-4B30-AE43-F091BE66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1955-8A15-42C9-A166-EB8A2BBD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1E7D-752B-4074-919C-A0C48360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CB3-C092-4C52-B35F-16DB17C0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CAF9-54A7-44D1-926B-B25FFDF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6E9D-C456-49FC-9622-6452A253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FE44-2FCF-4FD1-9D8E-9CDDFA2F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F0C8-E875-4853-B858-6FF2721E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D004-B361-470F-87AC-70335D26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C98-5A62-4E81-8403-A112FE11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406-13AD-4756-B968-B9BFF4B7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9A6-1981-41C5-ABF6-BFAD74AF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29D-0DE9-467B-9636-2D30100D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F77-040A-417C-AAB4-A43B8B4D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B46-3677-4DE8-B456-BC32F4AC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E8B-4B09-4F87-A3DD-C174B0F6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E31E-56CA-4EC1-B2DC-809AEB74F6B8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0636-5E00-4A16-A7BA-BBAC24AD9B2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j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um sinal contínuo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a Transformada de Fouri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ortante: Fórmula de Eu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95640" y="5589720"/>
            <a:ext cx="3671640" cy="458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47640" y="3645000"/>
            <a:ext cx="6553440" cy="917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059280" y="2521080"/>
            <a:ext cx="3528720" cy="6984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omínio da Frequênc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umas Transformadas de Four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4154" t="27366" r="10872" b="30319"/>
          <a:stretch/>
        </p:blipFill>
        <p:spPr>
          <a:xfrm>
            <a:off x="1042920" y="2421000"/>
            <a:ext cx="7777080" cy="3798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omínio da Frequênc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76360" y="1916280"/>
            <a:ext cx="6324480" cy="47322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628280"/>
            <a:ext cx="7715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érie de Fourier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omínio da Frequ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81520" y="2133720"/>
            <a:ext cx="5083200" cy="3984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26920" y="1557360"/>
            <a:ext cx="5791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spectro de freqü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cala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cala 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ogarítmica 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dB)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dB= 10 log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72160" y="2251080"/>
            <a:ext cx="73656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5440" y="18194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55560" y="18572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5*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58760" y="18446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3*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013360" y="2189160"/>
            <a:ext cx="1511280" cy="11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241960" y="2201760"/>
            <a:ext cx="2628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omínio da Frequênc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8200"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cessamento digital de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Operações de processamento digital de s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Processamento no domínio do t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perações feitas sobre as amostras separ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Processamento no domínio da freqüênc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24"/>
              </a:spcBef>
              <a:buClr>
                <a:srgbClr val="0033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perações requerem a análise de seqüências de amostras de s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spcBef>
                <a:spcPts val="524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69608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Processamento no domínio do temp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rmazenar e recuperar arquivos de som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rtar, copiar e colar segmentos de arquivos de som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alçar, atenuar e mixar segmentos de arquivos de s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971280" y="476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8200"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cessamento digital de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o Tempo - Exempl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06360" y="2616120"/>
            <a:ext cx="3791160" cy="2973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130720" y="2616120"/>
            <a:ext cx="3791160" cy="2973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71640" y="3362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67320" y="33750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8520" y="184464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Remoção da mé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7280" y="1700280"/>
            <a:ext cx="7715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mplificaçã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029200" y="2687760"/>
            <a:ext cx="3790800" cy="2973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104840" y="2687760"/>
            <a:ext cx="3791160" cy="2973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o Tempo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560" y="1844640"/>
            <a:ext cx="7715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ormalização no temp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42920" y="2781360"/>
            <a:ext cx="3791160" cy="2973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967280" y="2781360"/>
            <a:ext cx="3790800" cy="2973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o Tempo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1916280"/>
            <a:ext cx="77151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Normalização na amplitude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70000" y="3583080"/>
            <a:ext cx="3197160" cy="2506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883040" y="2873520"/>
            <a:ext cx="3791160" cy="1846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788000" y="3933720"/>
            <a:ext cx="4138560" cy="2028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943440" y="2670120"/>
                <a:ext cx="102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70440" y="5030640"/>
                <a:ext cx="10922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o Tempo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presentação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1988640"/>
            <a:ext cx="7715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Suavização (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smoothing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340000" y="2708280"/>
            <a:ext cx="4680000" cy="353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o Tempo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plicações do processamento no domínio da freqüênc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ltragem digital e recuperação de gravaçõ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justes de duração e altura de amostras de som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várias técnicas de síntese musica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dentificação e reconhecimento de voz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5157720"/>
            <a:ext cx="7620120" cy="1015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imento importa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da Discreta de Fourier (D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971280" y="476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8200"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Processamento digital de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537080" cy="2936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979640" y="4610160"/>
            <a:ext cx="4608360" cy="2131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a Freqüência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51240" cy="2751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340000" y="4508640"/>
            <a:ext cx="4538520" cy="2100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a Freqüência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379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iltro de 1ª Or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pas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= 5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stop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= 8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96000" y="1599840"/>
            <a:ext cx="3790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iltro de 2ª Or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pas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= 5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stop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= 6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42920" y="3068640"/>
            <a:ext cx="3673440" cy="3011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076720" y="306864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Verdana"/>
              </a:rPr>
              <a:t>Processamento no Domínio da Freqüência - 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79560" indent="0"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Formas de Representação do S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Domínio do T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Domínio da Freqüênc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724280"/>
            <a:ext cx="7620120" cy="1015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imento importa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da de Four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3213000"/>
            <a:ext cx="503280" cy="1368360"/>
          </a:xfrm>
          <a:prstGeom prst="line">
            <a:avLst/>
          </a:prstGeom>
          <a:ln w="5076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3284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tro do s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239240" cy="5078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76520" y="6019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a de editor de á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58920" y="5734080"/>
            <a:ext cx="7275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pectro de um s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925040" cy="3668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79560" indent="0"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7280" y="2106720"/>
            <a:ext cx="7525080" cy="3483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79640" y="57801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tro tridimensional de um 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1552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87280" y="5805000"/>
            <a:ext cx="72756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Sonograma de um s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713720" cy="35701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71280" y="47628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presentação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Espectrogram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3320" y="1600200"/>
            <a:ext cx="57787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Domínio da Frequênc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379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érie de Fouri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odos os sinais se podem ser decompostos numa soma de seno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003640" y="1700280"/>
            <a:ext cx="38275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02T16:19:39Z</dcterms:modified>
  <cp:revision>314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