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B6E4-27BB-498A-89A1-673342B0D9F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E6B8-D69D-459C-B7C0-06F8269BEDA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468-83E9-45B8-BD51-A51419DD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0EF6-481F-412A-915F-8CF566FB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FA91-E943-4688-A5B9-AD48E29E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FBC4-FC5B-4A61-9080-2FC8B31A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1640-D817-4978-BC92-C8976773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1698-3058-445C-A95A-A5DEBF4D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77B5-BF9C-4C99-BF2E-9161AC32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56A6-7364-4433-9F62-F28E5DA5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8270-7E91-4822-B898-76BE9E35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43C1-AC45-45AC-92C3-22ED5CB9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6927-8029-452B-AA77-9D3BBE02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F284-D48C-45DA-ACF0-EB89F3D2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8244-C602-4DD1-9424-2472AF4D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5022-D2FA-42E9-BF16-5536A41E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BE90-9BD5-45EE-932A-04B1097E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9895-4B05-4614-A8FB-F6467D5C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6838-CF84-4157-9093-08A387FF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9CE-D917-46F1-AF9A-1C8A6BBB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848D-CF44-4E11-B401-31388FEC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EB3-A8AD-4713-900A-24401310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116B-6A11-4185-9B18-F6DF9C0E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E7ED-C10B-4DE1-9AD2-114877DB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C1A1-0013-4A60-849E-0D0F1951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439-7CDA-4694-BF70-B3B789E9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459A-DA54-4D88-A4F1-05CA44954FB5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42920" cy="6858000"/>
            <a:chOff x="0" y="0"/>
            <a:chExt cx="1042920" cy="685800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1042920" cy="6858000"/>
              <a:chOff x="0" y="0"/>
              <a:chExt cx="1042920" cy="6858000"/>
            </a:xfrm>
          </p:grpSpPr>
          <p:pic>
            <p:nvPicPr>
              <p:cNvPr id="8" name="" descr=""/>
              <p:cNvPicPr/>
              <p:nvPr/>
            </p:nvPicPr>
            <p:blipFill>
              <a:blip r:embed="rId2"/>
              <a:srcRect l="35239" t="31294" r="20477" b="25393"/>
              <a:stretch/>
            </p:blipFill>
            <p:spPr>
              <a:xfrm>
                <a:off x="0" y="6012000"/>
                <a:ext cx="865080" cy="84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" name=""/>
              <p:cNvSpPr/>
              <p:nvPr/>
            </p:nvSpPr>
            <p:spPr>
              <a:xfrm>
                <a:off x="675360" y="0"/>
                <a:ext cx="0" cy="68580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" name=""/>
              <p:cNvGrpSpPr/>
              <p:nvPr/>
            </p:nvGrpSpPr>
            <p:grpSpPr>
              <a:xfrm>
                <a:off x="188280" y="6165720"/>
                <a:ext cx="541080" cy="620640"/>
                <a:chOff x="188280" y="6165720"/>
                <a:chExt cx="541080" cy="62064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188280" y="6662520"/>
                  <a:ext cx="541080" cy="1238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2600" dir="162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pt-BR" sz="500" spc="-1" strike="noStrike">
                      <a:solidFill>
                        <a:srgbClr val="ffcc00"/>
                      </a:solidFill>
                      <a:latin typeface="Humanst521 BT"/>
                    </a:rPr>
                    <a:t>DSC/CEEI/UFCG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406800" y="6362280"/>
                  <a:ext cx="295560" cy="27180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flipH="1" flipV="1">
                  <a:off x="214200" y="6165720"/>
                  <a:ext cx="294480" cy="27288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408600" y="6372000"/>
                  <a:ext cx="295200" cy="27180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flipV="1">
                  <a:off x="214200" y="6174720"/>
                  <a:ext cx="296280" cy="27288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1042920" cy="9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907920"/>
                <a:ext cx="860400" cy="172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" name="" descr=""/>
              <p:cNvPicPr/>
              <p:nvPr/>
            </p:nvPicPr>
            <p:blipFill>
              <a:blip r:embed="rId5"/>
              <a:srcRect l="35239" t="31294" r="20477" b="25393"/>
              <a:stretch/>
            </p:blipFill>
            <p:spPr>
              <a:xfrm>
                <a:off x="0" y="2565360"/>
                <a:ext cx="865080" cy="84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354560"/>
                <a:ext cx="860400" cy="17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429000"/>
                <a:ext cx="1042920" cy="917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" name=""/>
            <p:cNvSpPr/>
            <p:nvPr/>
          </p:nvSpPr>
          <p:spPr>
            <a:xfrm>
              <a:off x="900000" y="0"/>
              <a:ext cx="0" cy="6858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EFC9-630B-4241-93DE-CAC28774D7D5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0"/>
            <a:ext cx="1389240" cy="6858000"/>
            <a:chOff x="0" y="0"/>
            <a:chExt cx="1389240" cy="6858000"/>
          </a:xfrm>
        </p:grpSpPr>
        <p:pic>
          <p:nvPicPr>
            <p:cNvPr id="65" name="" descr=""/>
            <p:cNvPicPr/>
            <p:nvPr/>
          </p:nvPicPr>
          <p:blipFill>
            <a:blip r:embed="rId2"/>
            <a:srcRect l="35239" t="31294" r="20477" b="25393"/>
            <a:stretch/>
          </p:blipFill>
          <p:spPr>
            <a:xfrm>
              <a:off x="0" y="6012000"/>
              <a:ext cx="115236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900000" y="0"/>
              <a:ext cx="0" cy="6858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50920" y="6165720"/>
              <a:ext cx="720720" cy="620640"/>
              <a:chOff x="250920" y="6165720"/>
              <a:chExt cx="720720" cy="620640"/>
            </a:xfrm>
          </p:grpSpPr>
          <p:sp>
            <p:nvSpPr>
              <p:cNvPr id="68" name=""/>
              <p:cNvSpPr/>
              <p:nvPr/>
            </p:nvSpPr>
            <p:spPr>
              <a:xfrm>
                <a:off x="250920" y="6662520"/>
                <a:ext cx="720720" cy="123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162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600" spc="-1" strike="noStrike">
                    <a:solidFill>
                      <a:srgbClr val="ffcc00"/>
                    </a:solidFill>
                    <a:latin typeface="Humanst521 BT"/>
                  </a:rPr>
                  <a:t>DSC/CEEI/UFC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1800" y="6362280"/>
                <a:ext cx="393480" cy="27180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285840" y="6165720"/>
                <a:ext cx="392400" cy="2728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4320" y="6372000"/>
                <a:ext cx="393120" cy="27180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flipV="1">
                <a:off x="286560" y="6174720"/>
                <a:ext cx="394560" cy="2728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8924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0" y="907920"/>
              <a:ext cx="1146240" cy="172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5"/>
            <a:srcRect l="35239" t="31294" r="20477" b="25393"/>
            <a:stretch/>
          </p:blipFill>
          <p:spPr>
            <a:xfrm>
              <a:off x="0" y="2565360"/>
              <a:ext cx="115236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6"/>
            <a:stretch/>
          </p:blipFill>
          <p:spPr>
            <a:xfrm>
              <a:off x="0" y="4354560"/>
              <a:ext cx="1146240" cy="17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7"/>
            <a:stretch/>
          </p:blipFill>
          <p:spPr>
            <a:xfrm>
              <a:off x="0" y="3429000"/>
              <a:ext cx="1389240" cy="91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A Imag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V - Adicional 2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042920" y="1700280"/>
          <a:ext cx="7777080" cy="4564080"/>
        </p:xfrm>
        <a:graphic>
          <a:graphicData uri="http://schemas.openxmlformats.org/drawingml/2006/table">
            <a:tbl>
              <a:tblPr/>
              <a:tblGrid>
                <a:gridCol w="2160720"/>
                <a:gridCol w="1944720"/>
                <a:gridCol w="1584360"/>
                <a:gridCol w="208728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s de imagem ve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40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SF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Encapsulated PostScript Fo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Encapsulated PostScript Format é um idioma de descrição da impressora, particular, que pode descrever as informações sobre o vetor e o bitmap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ção precisa em uma impressora PostScript. Formato padrão do se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presentação na tela talvez não corresponda à representação impressa; a representação na tela talvez seja em baixa resolução, uma imagem diferente ou apenas uma imagem de espaço reservado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arquivos EPS foram projetados para serem impressos, e não necessariamente observado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é o formato mais adequado para exibir informações na tel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042920" y="1700280"/>
          <a:ext cx="7777080" cy="4734000"/>
        </p:xfrm>
        <a:graphic>
          <a:graphicData uri="http://schemas.openxmlformats.org/drawingml/2006/table">
            <a:tbl>
              <a:tblPr/>
              <a:tblGrid>
                <a:gridCol w="2160720"/>
                <a:gridCol w="1944720"/>
                <a:gridCol w="1584360"/>
                <a:gridCol w="208728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s de imagem ve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41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F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Enhanced Metaf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 um formato de 32 bits que pode conter informações sobre vetor e bitmap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ta-se de um aperfeiçoamento em relação ao formato Windows Metafile e contém recursos estendidos como, por exemplo: Informações internas sobre a colocação em escala. Descrições internas salvas com o arquivo. Aperfeiçoamentos nas paletas de cores e na independência do dispositivo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 de arquivo extensív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os aperfeiçoados em comparação com WM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bilidade resulta em vários tipos diferentes de imagens EMF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 todos os arquivos EMF são compatíveis com todos os programas que oferecem suporte ao padrão EMF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042920" y="1700280"/>
          <a:ext cx="7777080" cy="4095720"/>
        </p:xfrm>
        <a:graphic>
          <a:graphicData uri="http://schemas.openxmlformats.org/drawingml/2006/table">
            <a:tbl>
              <a:tblPr/>
              <a:tblGrid>
                <a:gridCol w="2160720"/>
                <a:gridCol w="1944720"/>
                <a:gridCol w="1728720"/>
                <a:gridCol w="194292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s de imagem ve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354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CT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Macintosh Pi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 arquivo PICT é um formato de metarquivo de 32 bits para Macintosh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 arquivos PICT usam a compactação interna Run Length Encoded (RLE), o que funciona razoavelmente bem. Os arquivos PICT oferecem suporte à compactação JPEG caso o QuickTime esteja instalado </a:t>
                      </a: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omente Macintosh)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lhor formato de arquivo para exibição na tela do Macintosh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lhor formato de impressão de Macintosh para uma impressora que não seja PostScrip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fontes talvez sejam representadas incorretamente quando são movidas de uma plataforma para outr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 QuickTime deve ser instalado para exibir corretamente alguns arquivos PIC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332000" y="1699560"/>
            <a:ext cx="7184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 um arquivo com a dimensão 1943x1702 pixel com 9.9 MB e 16 milhões de cores (24 bit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332000" y="2724120"/>
          <a:ext cx="7129440" cy="3016080"/>
        </p:xfrm>
        <a:graphic>
          <a:graphicData uri="http://schemas.openxmlformats.org/drawingml/2006/table">
            <a:tbl>
              <a:tblPr/>
              <a:tblGrid>
                <a:gridCol w="1787400"/>
                <a:gridCol w="1865520"/>
                <a:gridCol w="34765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ato do arqu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nho do arqu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9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 compressã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FF LZ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 compressão LZW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 compressão P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ito pequeno. Ideal para colocar em páginas de Internet e enviar por e-mai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9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gual ao TIFF sem compressã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1520640" y="6407280"/>
            <a:ext cx="4280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Fonte: http://www.prof2000.pt/users/lpitta/formato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71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olução e Intensidade da cor - Exibição na t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403280" y="2565360"/>
          <a:ext cx="6553440" cy="2808360"/>
        </p:xfrm>
        <a:graphic>
          <a:graphicData uri="http://schemas.openxmlformats.org/drawingml/2006/table">
            <a:tbl>
              <a:tblPr/>
              <a:tblGrid>
                <a:gridCol w="2184480"/>
                <a:gridCol w="2016000"/>
                <a:gridCol w="23529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c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 na Inter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usada na Inter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preto e branc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 em 72 pixels por polegada (pp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 em 72 pixels por polegada (ppi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 em 72 p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 em 72 p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 (imagem simples)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 em 72 p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 em 72 p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 (imagem complexa)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G em 72 p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G em 72 p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s de 2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G ou PNG em 72 p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G, PNG ou TIF em 72 p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1517400" y="6389640"/>
            <a:ext cx="2764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Fonte: http://support.microsof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servações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icrosoft recomenda uma resolução de 72 pixels por polegada, já que a maioria dos monitores tem entre 60 e 80 pixels por polegada. Salvar em uma resolução maior não resulta em uma qualidade maior de exibição, já que o monitor não pode exibir mais pixels do que os existentes fisicamente no moni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necessário calcular os pontos por polegada de acordo com o tamanho final, e não do inicial. Por exemplo, se estivesse digitalizando um papel de carta de 8,5 por 2 polegadas a ser usado em uma página da Web com uma largura final de 2 polegadas, você digitalizaria a 72 ppi por 2 polegadas, ou seja, um total de 144 pixels. O arquivo resultante parece grande quando dimensionado a 2 polegadas e exibido em um moni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É importante lembrar (*)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256 cores, os arquivos JPG oferecem um nível de compactação maior do que os arquivos GIF. No entanto, a compactação JPG não compacta alguns arquivos simples, como faz a compactação GI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a imagem esteja em escala de cinza e exista grandes áreas de uma só cor sólida ou áreas de alto contraste (diferenças nítidas entre as áreas mais claras e escuras), escolha o formato GI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a imagem seja colorida e contenha várias cores diferentes (matizes) semelhantes em brilho ou escuridão (valor), escolha o formato JPG, já que esse formato oferece uma compactação muito melh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compactação JPG funciona de acordo com o matiz e funciona bem com matizes diferentes que tenham um valor semelhante. A compactação JPG não funciona com matizes semelhantes em valores difer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ltado impr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fator principal na criação de um resultado de qualidade é o número 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lines per inch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LPI) compatível com a impress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imprimir em cores ou em escala de cinza, uma impressora deve ser capaz de imprimir em meio-t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io-tom - um conjunto de pontos organizados em uma grade e que representam cada pixel da imagem como uma sombra de cinza. Cinza mais escuro - a maioria dos pontos na grade é preenchida; Cinza mais claro - apenas alguns pontos são preenchi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tamanho da grade é dado pela configuração de LPI da impressora. Quanto maior for a LPI, menor será a grade e menos serão as sombras de cinza que a impressora pode process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imprimir em cores, a impressora deve imprimir linhas sobrepostas de pontos coloridos, cada um em um ângulo diferente, e deslocar um pouco para que eles não se cubram por completo -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reqüência de tel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116000" y="2565360"/>
          <a:ext cx="7488360" cy="2090880"/>
        </p:xfrm>
        <a:graphic>
          <a:graphicData uri="http://schemas.openxmlformats.org/drawingml/2006/table">
            <a:tbl>
              <a:tblPr/>
              <a:tblGrid>
                <a:gridCol w="2087640"/>
                <a:gridCol w="1439640"/>
                <a:gridCol w="1584360"/>
                <a:gridCol w="2376720"/>
              </a:tblGrid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a impress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pi de saí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I de saí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i de digitaliz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sora a laser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-65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sora a las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-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sora a jato de ti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1187280" y="5013360"/>
            <a:ext cx="741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boa regra é multiplicar a LPI da impressora por dois para calcular a resolução de digitalização de destino. Para descobrir a LPI, verifique a documentação da impressor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1189440" y="163656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ltado impr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serv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gumas impressoras oferecem suporte a resoluções muito altas. Caso você salve a imagem em mais de 300 dpi, as imagens maiores talvez ocupem muito espaço em disco e reduzam outras operações do computad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árias imagens grandes em um documento poderiam fazer com que um programa ou o Windows parasse de respon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você queira que a imagem esteja em escala de cinza ou tenha menos de 256 cores, use os formatos TIFF ou GI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a imagem tenha mais de 256 cores, salve-a no formato TIFF ou PNG. A Microsoft aconselha o formato PNG caso você precise de transparência, do contrário, use o formato TIFF. 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ocessamento de Im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ormatos de Im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16000" y="1773360"/>
          <a:ext cx="7632720" cy="3670200"/>
        </p:xfrm>
        <a:graphic>
          <a:graphicData uri="http://schemas.openxmlformats.org/drawingml/2006/table">
            <a:tbl>
              <a:tblPr/>
              <a:tblGrid>
                <a:gridCol w="2160720"/>
                <a:gridCol w="1800000"/>
                <a:gridCol w="1944720"/>
                <a:gridCol w="172728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s de imagem de varredura (ras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ma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máximo de cores: Até 16 milhões de cores (24 bit)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ão: Não tem. Perda de informação: Não aplicável.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ência: Não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tem perda de informaç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arquivos BMP são adequados ao papel de parede no Windows.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lamente compatível com os programas do Windows já existentes, especialmente os programas mais antig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não ter compressão os arquivos são muito grandes. Caso a imagem tenha 16 milhões de cores, cada pixel ocupa sempre 24 bit (3 Byte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há suporte dos navegadores da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16000" y="1916280"/>
          <a:ext cx="7632720" cy="2350800"/>
        </p:xfrm>
        <a:graphic>
          <a:graphicData uri="http://schemas.openxmlformats.org/drawingml/2006/table">
            <a:tbl>
              <a:tblPr/>
              <a:tblGrid>
                <a:gridCol w="2160720"/>
                <a:gridCol w="1800000"/>
                <a:gridCol w="1944720"/>
                <a:gridCol w="172728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s de imagem de varredura (ras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FF (G3 ou LZW*)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 Image File Fo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máximo de cores: Até 16 milhões de cores (24 bit)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ão: Tem. Perda de informação: Não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ência: N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ito pelos profissionais da área. Muito versátil. 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187280" y="6025320"/>
            <a:ext cx="7488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*) LZW quer dizer Lempel-Ziv-Welch, o nome dos investigadores israelitas Abraham Lempel e Jacob Zif que inventaram o formato inicial. O W de Welch refere-se  a Terry Welch que patenteou a técnica de compressão que hoje é conhecida por LZ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042920" y="1700280"/>
          <a:ext cx="7921800" cy="4308480"/>
        </p:xfrm>
        <a:graphic>
          <a:graphicData uri="http://schemas.openxmlformats.org/drawingml/2006/table">
            <a:tbl>
              <a:tblPr/>
              <a:tblGrid>
                <a:gridCol w="2160720"/>
                <a:gridCol w="1728720"/>
                <a:gridCol w="1655640"/>
                <a:gridCol w="237672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s de imagem de varrredura (ras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6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G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ou JPEG)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 Photographic Experts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 cores: Sempre 16 milhões de cores (mesmo que a imagem tenha menos cor) (24 bit)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ão: Sim. Perda de informação: Sim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ência: N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azena sempre informação referente a 16 milhões de cores. Algoritmo de compressão muito eficaz. Indicado para fotografias e imagens foto-realist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o o algoritmo de compressão tem perda de informação, cada vez que o arquivo é armazenado volta a perder informação. Não indicado para esquemas e gráficos de barras (por exemplo) porque o algoritmo não está otimizado para transições abruptas de c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é adequado para imagens mais simples que contenham poucas cores, amplas áreas de cores semelhantes ou grandes diferenças de brilho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042920" y="1700280"/>
          <a:ext cx="7921800" cy="4846680"/>
        </p:xfrm>
        <a:graphic>
          <a:graphicData uri="http://schemas.openxmlformats.org/drawingml/2006/table">
            <a:tbl>
              <a:tblPr/>
              <a:tblGrid>
                <a:gridCol w="2160720"/>
                <a:gridCol w="1728720"/>
                <a:gridCol w="1944720"/>
                <a:gridCol w="20876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s de imagem de varredura (ras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s Interchange Format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 cores: Até 256 cores (8 bit)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ão: Sim. Perda de informação: Não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ência: Si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 compressão sem perda de informação. Indicado para esquemas, gráficos de barras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ó permite um armazenamento máximo de 256 cores. Não indicado para fotografias, nem imagens foto-realistas (muitas cores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G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able Network Graph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 cores: Até 16 milhões de cores (24 bit)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ão: Sim. Perda de informação: Não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ência: Si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oritmo otimizado. Um bom substituto para o GIF e para a maioria dos TIFF (principalmente os LZW), e, muito importante, para cópias de segurança de imagens fotográf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é muito conhecido. Na Internet pode ser um bom substituto para GIF, mas não é para JP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ser um formato de arquivo da Internet, não oferece suporte a vários arquivos animados ou de imagem, aos quais o formato GIF oferece supor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042920" y="1916280"/>
          <a:ext cx="7777080" cy="3313080"/>
        </p:xfrm>
        <a:graphic>
          <a:graphicData uri="http://schemas.openxmlformats.org/drawingml/2006/table">
            <a:tbl>
              <a:tblPr/>
              <a:tblGrid>
                <a:gridCol w="2160720"/>
                <a:gridCol w="1728720"/>
                <a:gridCol w="1944720"/>
                <a:gridCol w="194292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s de imagem ve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274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X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CAD Drawing Interchange F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 ASCII baseado em vetor usado pelo programa AutoCAD da Autodesk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AutoCAD oferece esquemas altamente detalhados que são totalmente dimensionávei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AutoCAD permitem que você crie esquemas e desenhos altamente detalhados e precisos. Os arquivos do AutoCAD são conhecidos nos setores de arquitetura, design e estampar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orte limitado no Office 2000, que oferece suporte a versões até R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AutoCAD tem uma curva de aprendizado longa; no entanto, outros programas gráficos também são capazes de exportar imagens DX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042920" y="1700280"/>
          <a:ext cx="7777080" cy="3414600"/>
        </p:xfrm>
        <a:graphic>
          <a:graphicData uri="http://schemas.openxmlformats.org/drawingml/2006/table">
            <a:tbl>
              <a:tblPr/>
              <a:tblGrid>
                <a:gridCol w="2160720"/>
                <a:gridCol w="2448000"/>
                <a:gridCol w="1584360"/>
                <a:gridCol w="15840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s de imagem ve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28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Graphics Metaf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metarquivo CGM pode conter informações sobre o vetor e o bitmap. Trata-se de um formato de arquivo padronizado internacionalmente usado por muitas agências e organizações federais, inclusive o British Standards Institute (BSI), o American National Standards Institute (ANSI) e o Departamento de Defesa dos Estados Unid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 padrão internacional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042920" y="1700280"/>
          <a:ext cx="7777080" cy="4021200"/>
        </p:xfrm>
        <a:graphic>
          <a:graphicData uri="http://schemas.openxmlformats.org/drawingml/2006/table">
            <a:tbl>
              <a:tblPr/>
              <a:tblGrid>
                <a:gridCol w="2160720"/>
                <a:gridCol w="2448000"/>
                <a:gridCol w="1584360"/>
                <a:gridCol w="15840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s de imagem ve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R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CorelDRA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metarquivo CorelDRAW! pode conter informações sobre o vetor e o bitmap. Trata-se de um formato de arquivo amplamente usado em criações artística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lamente usado nos setores de criações artísticas e arquivos gráf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orte limitado no Office 2000, que oferece suporte a versões 6 e anteri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F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Windows Metafile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Windows Metafile é um formato de metarquivo de 16 bits que pode conter informações sobre vetor e bitmap. Otimizado para o sistema operacional Windows.</a:t>
                      </a:r>
                      <a:br>
                        <a:rPr sz="1400"/>
                      </a:b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formato padrão do Windows que funciona bem com o Office 2000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3-19T15:22:16Z</dcterms:modified>
  <cp:revision>254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