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3.gif" ContentType="image/gi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1A3A-08F2-460F-BED2-FA481A87A4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B30D-E3AD-49A6-912B-3221EF8E22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1910-CB14-402E-B5BC-2B8F4A3B7B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13B-35CE-4198-8B64-9FB5B8695A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AE1-B5EF-48C2-A12B-DCE3AECF5B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EDD9-8952-4B48-84A3-76033B325B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E64-A589-46AE-ABC5-510D443D72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79A2-6146-487E-8467-C03A0A7C91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79F-DF80-498F-B156-E8A0CCAF43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BBE-8759-4411-BE50-E4F3B723B0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9C1-DF84-49CA-8551-2BB71BC9A30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728E-44F2-4879-9A71-8DCED74599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E07-70B4-407E-96F7-361A38E7E7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997-9A99-4645-A8DE-1DF215EF67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55C-EE59-4DCE-A0EA-883D956DF86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C16B-236B-47C9-B1FA-B51C6E46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453-1557-45A2-9575-FAD69836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A3E-E6C3-46A1-8E42-04B2A949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A09-67FE-4867-BD74-2C77DFAF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5CDC-7367-4716-8E5B-3E16B834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252-8C17-40E2-ACAD-D290FEB4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3FAD-49EC-40BA-B6D9-6D0DFBA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BBBF-A6E2-43F4-B1CD-B12A762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7366-803A-4223-8A79-23F4C1CB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03A-ADBF-4942-957A-E5044637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A0DE-3B87-484D-8A2D-647AB88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C9B-3BEA-4348-A889-8CA91B60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D42-AE74-4CE2-8CBD-A0BD90A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2286-C139-483E-B041-B7CFDB1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BBBC-B885-4B98-9FD3-EDAD26BE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D966-2853-4A47-9C5E-42280F55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D360-64F5-4337-A904-7A72C535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236-BA86-467F-838F-86D8212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AC5-D7CD-46E2-9412-E94F589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64B-F9FE-4190-BB8C-FD29F37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E79-F74B-4897-916C-225CB1B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CA0-6F10-4670-A786-76AEA45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925-511C-4E34-91B2-1A990C1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168-2987-4BFB-83A9-DD7D196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14BB-862F-45BC-AC9B-3C4C1D28CB6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836B-14C7-4721-9770-0864AE28738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a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dificação R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dificação Entrópica (Huffm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49520" y="2637000"/>
            <a:ext cx="2438280" cy="240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37160" y="2684520"/>
            <a:ext cx="2419560" cy="2400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89440" y="2060640"/>
            <a:ext cx="53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imagem original, 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pectro |</a:t>
            </a: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(u,v)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5400000">
            <a:off x="4606920" y="3609720"/>
            <a:ext cx="720720" cy="3816360"/>
          </a:xfrm>
          <a:custGeom>
            <a:avLst/>
            <a:gdLst>
              <a:gd name="textAreaLeft" fmla="*/ 96480 w 720720"/>
              <a:gd name="textAreaRight" fmla="*/ 624240 w 720720"/>
              <a:gd name="textAreaTop" fmla="*/ 667800 h 3816360"/>
              <a:gd name="textAreaBottom" fmla="*/ 276696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4751"/>
                <a:lnTo>
                  <a:pt x="7155" y="21173"/>
                </a:lnTo>
                <a:lnTo>
                  <a:pt x="0" y="17280"/>
                </a:lnTo>
                <a:lnTo>
                  <a:pt x="7155" y="12533"/>
                </a:lnTo>
                <a:lnTo>
                  <a:pt x="7155" y="14693"/>
                </a:lnTo>
                <a:arcTo wR="21600" hR="7560" stAng="2694751" swAng="-23373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2198520" cy="230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3044" t="0" r="0" b="1629"/>
          <a:stretch/>
        </p:blipFill>
        <p:spPr>
          <a:xfrm>
            <a:off x="5508720" y="3284640"/>
            <a:ext cx="2327040" cy="23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20720" y="185256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Transformada Inversa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859640" y="836640"/>
            <a:ext cx="576000" cy="4176720"/>
          </a:xfrm>
          <a:custGeom>
            <a:avLst/>
            <a:gdLst>
              <a:gd name="textAreaLeft" fmla="*/ 77040 w 576000"/>
              <a:gd name="textAreaRight" fmla="*/ 498960 w 576000"/>
              <a:gd name="textAreaTop" fmla="*/ 730800 h 4176720"/>
              <a:gd name="textAreaBottom" fmla="*/ 302832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4751"/>
                <a:lnTo>
                  <a:pt x="7155" y="21173"/>
                </a:lnTo>
                <a:lnTo>
                  <a:pt x="0" y="17280"/>
                </a:lnTo>
                <a:lnTo>
                  <a:pt x="7155" y="12533"/>
                </a:lnTo>
                <a:lnTo>
                  <a:pt x="7155" y="14693"/>
                </a:lnTo>
                <a:arcTo wR="21600" hR="7560" stAng="2694751" swAng="-23373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187280" y="2852640"/>
            <a:ext cx="7831800" cy="2895840"/>
            <a:chOff x="1187280" y="2852640"/>
            <a:chExt cx="7831800" cy="2895840"/>
          </a:xfrm>
        </p:grpSpPr>
        <p:sp>
          <p:nvSpPr>
            <p:cNvPr id="155" name=""/>
            <p:cNvSpPr/>
            <p:nvPr/>
          </p:nvSpPr>
          <p:spPr>
            <a:xfrm>
              <a:off x="2178720" y="29876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8640" y="3306600"/>
              <a:ext cx="1055520" cy="235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1560" y="32162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92520" y="2982960"/>
              <a:ext cx="987480" cy="23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2280" y="3492360"/>
              <a:ext cx="465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8040" y="34020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0600" y="3100320"/>
              <a:ext cx="1024200" cy="23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3520" y="30052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96160" y="3492360"/>
              <a:ext cx="59976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6040" y="34020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4720" y="3117960"/>
              <a:ext cx="102420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7640" y="30258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3506760"/>
              <a:ext cx="92232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44560" y="34146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95840" y="294948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272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9272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68360" y="3395520"/>
              <a:ext cx="3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45440" y="33955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54280" y="2884320"/>
              <a:ext cx="111132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nsfor-mada 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1160" y="2884320"/>
              <a:ext cx="110988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-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22840" y="2884320"/>
              <a:ext cx="110988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difica-d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R.L.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22960" y="2862360"/>
              <a:ext cx="1113120" cy="1041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difica-dor Estatís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27640" y="5216400"/>
              <a:ext cx="557280" cy="522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703760" y="39211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01080" y="289260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27440" y="5303880"/>
              <a:ext cx="968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28920" y="530388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93560" y="5208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54360" y="5510160"/>
              <a:ext cx="1087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3120" y="548316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93560" y="54198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5080" y="4037040"/>
              <a:ext cx="11736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5080" y="4815000"/>
              <a:ext cx="11736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65520" y="4440240"/>
              <a:ext cx="281160" cy="262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14880" y="4521240"/>
              <a:ext cx="169920" cy="10800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19" y="32"/>
                  </a:moveTo>
                  <a:lnTo>
                    <a:pt x="0" y="0"/>
                  </a:lnTo>
                  <a:lnTo>
                    <a:pt x="3" y="80"/>
                  </a:lnTo>
                  <a:lnTo>
                    <a:pt x="119" y="32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75040" y="4568760"/>
              <a:ext cx="6904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46320" y="4465800"/>
              <a:ext cx="18795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5320" y="4468680"/>
              <a:ext cx="1830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Fator de Compres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95040" y="4373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30680" y="4518000"/>
              <a:ext cx="1285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45080" y="4508640"/>
              <a:ext cx="11412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6200" y="5224320"/>
              <a:ext cx="557280" cy="524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701120" y="3852720"/>
              <a:ext cx="0" cy="13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76880" y="5224320"/>
              <a:ext cx="1305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Codif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7280" y="2852640"/>
              <a:ext cx="1067040" cy="1067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loco 8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98680" y="189540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odificador JPEG “Baseli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22560" y="182412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odificador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7240" y="2708280"/>
            <a:ext cx="7682400" cy="3468600"/>
            <a:chOff x="1137240" y="2708280"/>
            <a:chExt cx="7682400" cy="3468600"/>
          </a:xfrm>
        </p:grpSpPr>
        <p:sp>
          <p:nvSpPr>
            <p:cNvPr id="207" name=""/>
            <p:cNvSpPr/>
            <p:nvPr/>
          </p:nvSpPr>
          <p:spPr>
            <a:xfrm flipH="1">
              <a:off x="5065560" y="5072040"/>
              <a:ext cx="557280" cy="522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346720" y="377676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41640" y="5737320"/>
              <a:ext cx="968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947120" y="5737320"/>
              <a:ext cx="87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015160" y="5670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794840" y="5943600"/>
              <a:ext cx="1087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77640" y="5948280"/>
              <a:ext cx="102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967640" y="5881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86960" y="4670280"/>
              <a:ext cx="117720" cy="16056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203800" y="4295880"/>
              <a:ext cx="280800" cy="26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79280" y="4321080"/>
              <a:ext cx="18795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872680" y="4229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290560" y="4373640"/>
              <a:ext cx="128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5290920" y="4363560"/>
              <a:ext cx="11448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354040" y="3736800"/>
              <a:ext cx="0" cy="13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785960" y="5661000"/>
              <a:ext cx="1304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abela de Codific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48760" y="5032440"/>
              <a:ext cx="556920" cy="523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15960" y="32796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361880" y="4393800"/>
              <a:ext cx="377352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1760" y="442260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35400" y="439416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779240" y="28432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291680" y="3286080"/>
              <a:ext cx="554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55240" y="3162240"/>
              <a:ext cx="1055880" cy="235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99240" y="3071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267960" y="2747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381720" y="3348000"/>
              <a:ext cx="465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71000" y="325764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94720" y="2984400"/>
              <a:ext cx="1024200" cy="23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407040" y="288936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423240" y="3376440"/>
              <a:ext cx="600120" cy="238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494520" y="32860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790640" y="3002040"/>
              <a:ext cx="102384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902240" y="29098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830960" y="3390840"/>
              <a:ext cx="922680" cy="23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975320" y="3298680"/>
              <a:ext cx="51120" cy="213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752600" y="2708280"/>
              <a:ext cx="1066680" cy="1066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Bloco 8x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136880" y="2833560"/>
              <a:ext cx="72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1024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1012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86240" y="3251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57400" y="3279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286960" y="3892680"/>
              <a:ext cx="117720" cy="16020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5" y="0"/>
                  </a:moveTo>
                  <a:lnTo>
                    <a:pt x="0" y="119"/>
                  </a:lnTo>
                  <a:lnTo>
                    <a:pt x="83" y="11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832760" y="2746440"/>
              <a:ext cx="1112760" cy="10414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codif. Estatís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286800" y="2768760"/>
              <a:ext cx="1109880" cy="1039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codif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R.L.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789440" y="2739960"/>
              <a:ext cx="1109520" cy="1040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s-quantiza-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7160" y="2716200"/>
              <a:ext cx="1111320" cy="10396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nsfor-mada 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inver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24360" y="2492280"/>
            <a:ext cx="3960720" cy="6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492280"/>
            <a:ext cx="1873440" cy="6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" y="1508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050920" y="2492280"/>
            <a:ext cx="5809680" cy="3342600"/>
            <a:chOff x="2050920" y="2492280"/>
            <a:chExt cx="5809680" cy="3342600"/>
          </a:xfrm>
        </p:grpSpPr>
        <p:grpSp>
          <p:nvGrpSpPr>
            <p:cNvPr id="258" name=""/>
            <p:cNvGrpSpPr/>
            <p:nvPr/>
          </p:nvGrpSpPr>
          <p:grpSpPr>
            <a:xfrm>
              <a:off x="2050920" y="2492280"/>
              <a:ext cx="1876680" cy="668160"/>
              <a:chOff x="2050920" y="2492280"/>
              <a:chExt cx="1876680" cy="668160"/>
            </a:xfrm>
          </p:grpSpPr>
          <p:sp>
            <p:nvSpPr>
              <p:cNvPr id="259" name=""/>
              <p:cNvSpPr/>
              <p:nvPr/>
            </p:nvSpPr>
            <p:spPr>
              <a:xfrm>
                <a:off x="2142720" y="249228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its/pix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50920" y="249228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927960" y="2492280"/>
              <a:ext cx="3932640" cy="668160"/>
              <a:chOff x="3927960" y="2492280"/>
              <a:chExt cx="3932640" cy="668160"/>
            </a:xfrm>
          </p:grpSpPr>
          <p:sp>
            <p:nvSpPr>
              <p:cNvPr id="262" name=""/>
              <p:cNvSpPr/>
              <p:nvPr/>
            </p:nvSpPr>
            <p:spPr>
              <a:xfrm>
                <a:off x="4019040" y="249228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qualidade da imagem reconstruíd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27960" y="249228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050920" y="3160800"/>
              <a:ext cx="1876680" cy="668160"/>
              <a:chOff x="2050920" y="3160800"/>
              <a:chExt cx="1876680" cy="668160"/>
            </a:xfrm>
          </p:grpSpPr>
          <p:sp>
            <p:nvSpPr>
              <p:cNvPr id="265" name=""/>
              <p:cNvSpPr/>
              <p:nvPr/>
            </p:nvSpPr>
            <p:spPr>
              <a:xfrm>
                <a:off x="2142720" y="316080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08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50920" y="316080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927960" y="3160800"/>
              <a:ext cx="3932640" cy="668160"/>
              <a:chOff x="3927960" y="3160800"/>
              <a:chExt cx="3932640" cy="66816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040" y="316080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reconhecív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27960" y="316080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050920" y="3829320"/>
              <a:ext cx="1876680" cy="668160"/>
              <a:chOff x="2050920" y="3829320"/>
              <a:chExt cx="1876680" cy="668160"/>
            </a:xfrm>
          </p:grpSpPr>
          <p:sp>
            <p:nvSpPr>
              <p:cNvPr id="271" name=""/>
              <p:cNvSpPr/>
              <p:nvPr/>
            </p:nvSpPr>
            <p:spPr>
              <a:xfrm>
                <a:off x="2142720" y="382932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50920" y="382932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927960" y="3829320"/>
              <a:ext cx="3932640" cy="668160"/>
              <a:chOff x="3927960" y="3829320"/>
              <a:chExt cx="3932640" cy="668160"/>
            </a:xfrm>
          </p:grpSpPr>
          <p:sp>
            <p:nvSpPr>
              <p:cNvPr id="274" name=""/>
              <p:cNvSpPr/>
              <p:nvPr/>
            </p:nvSpPr>
            <p:spPr>
              <a:xfrm>
                <a:off x="4019040" y="382932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usáve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7960" y="382932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050920" y="4497840"/>
              <a:ext cx="1876680" cy="668520"/>
              <a:chOff x="2050920" y="4497840"/>
              <a:chExt cx="1876680" cy="668520"/>
            </a:xfrm>
          </p:grpSpPr>
          <p:sp>
            <p:nvSpPr>
              <p:cNvPr id="277" name=""/>
              <p:cNvSpPr/>
              <p:nvPr/>
            </p:nvSpPr>
            <p:spPr>
              <a:xfrm>
                <a:off x="2142720" y="4497840"/>
                <a:ext cx="169308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,7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50920" y="4497840"/>
                <a:ext cx="1876680" cy="66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927960" y="4497840"/>
              <a:ext cx="3932640" cy="668520"/>
              <a:chOff x="3927960" y="4497840"/>
              <a:chExt cx="3932640" cy="6685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4497840"/>
                <a:ext cx="3749400" cy="6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agem excel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7960" y="4497840"/>
                <a:ext cx="3932640" cy="668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050920" y="5166720"/>
              <a:ext cx="1876680" cy="668160"/>
              <a:chOff x="2050920" y="5166720"/>
              <a:chExt cx="1876680" cy="668160"/>
            </a:xfrm>
          </p:grpSpPr>
          <p:sp>
            <p:nvSpPr>
              <p:cNvPr id="283" name=""/>
              <p:cNvSpPr/>
              <p:nvPr/>
            </p:nvSpPr>
            <p:spPr>
              <a:xfrm>
                <a:off x="2142720" y="5166720"/>
                <a:ext cx="169308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2,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50920" y="5166720"/>
                <a:ext cx="187668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927960" y="5166720"/>
              <a:ext cx="3932640" cy="668160"/>
              <a:chOff x="3927960" y="5166720"/>
              <a:chExt cx="3932640" cy="668160"/>
            </a:xfrm>
          </p:grpSpPr>
          <p:sp>
            <p:nvSpPr>
              <p:cNvPr id="286" name=""/>
              <p:cNvSpPr/>
              <p:nvPr/>
            </p:nvSpPr>
            <p:spPr>
              <a:xfrm>
                <a:off x="4019040" y="5166720"/>
                <a:ext cx="3749400" cy="66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stinguível da origin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27960" y="5166720"/>
                <a:ext cx="3932640" cy="66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2050920" y="2492280"/>
            <a:ext cx="58230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77336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empenho do Padrão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403280" y="2738520"/>
                <a:ext cx="7345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u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v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462480" y="4338720"/>
                <a:ext cx="277164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1619280" y="1751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27520" y="5446800"/>
            <a:ext cx="281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x,y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64 ele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imagem (8x8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78080" y="5302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u,v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64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freqüências espa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17510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7353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2560" y="2349360"/>
            <a:ext cx="7715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oeficient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(u,v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pressa a semelhança (correlação) entre o bloco de 8x8 pixels e uma determinada função primitiva correspond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332000" y="4149720"/>
                <a:ext cx="67816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u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v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547640" y="170028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iscreta de Cossenos (D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42920" y="170028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imitivas 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789280" y="2421000"/>
            <a:ext cx="4651920" cy="4030200"/>
            <a:chOff x="2789280" y="2421000"/>
            <a:chExt cx="4651920" cy="40302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3316320" y="2421000"/>
              <a:ext cx="344412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89280" y="242100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3680" y="242100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89280" y="593964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3320" y="594108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7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89280" y="2931840"/>
              <a:ext cx="58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cessamento d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187280" y="2852640"/>
                <a:ext cx="7347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7</m:t>
                                </m:r>
                              </m:sup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u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v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556000" y="4648320"/>
                <a:ext cx="38448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C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u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</m:e>
                        </m:nary>
                      </m:e>
                    </m:nary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2566440" y="18954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ransformada DCT In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200240" y="2428920"/>
          <a:ext cx="3429000" cy="3276720"/>
        </p:xfrm>
        <a:graphic>
          <a:graphicData uri="http://schemas.openxmlformats.org/drawingml/2006/table">
            <a:tbl>
              <a:tblPr/>
              <a:tblGrid>
                <a:gridCol w="428400"/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6600"/>
                      </a:solidFill>
                    </a:lnL>
                    <a:lnR w="13680">
                      <a:solidFill>
                        <a:srgbClr val="666600"/>
                      </a:solidFill>
                    </a:lnR>
                    <a:lnT w="13680">
                      <a:solidFill>
                        <a:srgbClr val="666600"/>
                      </a:solidFill>
                    </a:lnT>
                    <a:lnB w="13680">
                      <a:solidFill>
                        <a:srgbClr val="66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91000" y="2428920"/>
          <a:ext cx="3429000" cy="3276720"/>
        </p:xfrm>
        <a:graphic>
          <a:graphicData uri="http://schemas.openxmlformats.org/drawingml/2006/table">
            <a:tbl>
              <a:tblPr/>
              <a:tblGrid>
                <a:gridCol w="428760"/>
                <a:gridCol w="428760"/>
                <a:gridCol w="428400"/>
                <a:gridCol w="428760"/>
                <a:gridCol w="428400"/>
                <a:gridCol w="428760"/>
                <a:gridCol w="428760"/>
                <a:gridCol w="428400"/>
              </a:tblGrid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201680" y="6086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92760" y="60865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+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1428480" y="55530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342880" y="555300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17120" y="17002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 de Transformada D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115640" y="2781000"/>
            <a:ext cx="7715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rrelacionar os elementos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r a imagem em termos de componentes de freqüência espacial para posterior processamento, de acordo com as características da visão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plicidade de processamento (valores re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4560" y="184464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bjetivos da DCT na Compressão 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bora JPEG seja relativamente complicado por conta do número de etapas envolvidas, níveis de compressão de mais de 20:1 são alcançados com boa qualidade de imag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l nível de compressão, no entanto, se aplica a imagens relativamente simples (poucas transições de c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is de compressão da ordem de 10:1 são mais comuns para imagens típ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657600" cy="361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97360" y="62485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ena”, © Playboy 19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80560" y="1989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 de Codificação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321080" cy="4182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97280" y="177336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magem Reconstruída por JPEG (~20: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10365" t="0" r="0" b="0"/>
          <a:stretch/>
        </p:blipFill>
        <p:spPr>
          <a:xfrm>
            <a:off x="1116000" y="2131920"/>
            <a:ext cx="3994200" cy="439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42920" y="2131920"/>
            <a:ext cx="37296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1320" y="5637240"/>
            <a:ext cx="3886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302080" y="224316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689120" y="587700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Original (40x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05480" y="5840280"/>
            <a:ext cx="32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m Comprimida ~20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14760" y="170028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talhes dos Efeitos da Compre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120000" cy="5113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16000" y="2852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JPEG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76360" y="3284640"/>
            <a:ext cx="2133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924360" y="1847880"/>
            <a:ext cx="4319640" cy="4263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835280" y="3068640"/>
            <a:ext cx="1071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codificação de imagens com 24 bits por pixel (8 para cada componente RGB), embora o formato selecione as 256 (do conjunto de 224) cores que melhor representam aquelas presentes na im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ista de 256 cores resulta numa tabela de cores, cada entrada contendo um valor de 24 bits de 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321080" cy="4321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547640" y="3068640"/>
            <a:ext cx="167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EG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m GIFs, pode-se também codificar uma imagem JPEG em modo progres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e uma versão simplificada da imagem, seguida de níveis de detalhes, o que é útil para transmissões n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odologias de transmissão progressiva inclu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o progressivo: primeiro são transmitidos os coeficientes DC e componentes de baixa freqüência dos blocos, seguidos dos coeficientes de maior freqü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o hierárquico: A imagem é enviada inicialmente com uma resolução menor (ex. 320×240), seguida de maior resolução (ex. 640×48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lguns tipos de imagens, GIF é superior em qualidade ou em tamanho de arquivo, ou em amb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JPEG é superior ao GIF para armazenar imagens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es re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ons de cinz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tratem cenas re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agem com variação na cor, como aquelas que ocorrem em áreas brilhantes ou sombreadas, irão apresentar melhor qualidade e menor espaço quando representadas pelo formato JPE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7640" y="5367240"/>
          <a:ext cx="7273800" cy="366840"/>
        </p:xfrm>
        <a:graphic>
          <a:graphicData uri="http://schemas.openxmlformats.org/drawingml/2006/table">
            <a:tbl>
              <a:tblPr/>
              <a:tblGrid>
                <a:gridCol w="3551400"/>
                <a:gridCol w="37224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- 19,298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- 7,578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258920" y="2752560"/>
            <a:ext cx="3600360" cy="2438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148360" y="2747880"/>
            <a:ext cx="3600360" cy="2433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971640" y="2491920"/>
            <a:ext cx="792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Ícones que usam somente uma pequena quantidade de cores são melhor manipulados pelo GI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ormato GIF apresenta melhores resultados em imagens com um pequeno número de cores distintas, como desenhos em linhas e cartões si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stas imagens o GIF obtém uma compressão maior que o JPEG pode obter, além de conseguir isto sem per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1700280"/>
            <a:ext cx="771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PEG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2881080" cy="28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1258920" y="5300640"/>
          <a:ext cx="7127640" cy="366480"/>
        </p:xfrm>
        <a:graphic>
          <a:graphicData uri="http://schemas.openxmlformats.org/drawingml/2006/table">
            <a:tbl>
              <a:tblPr/>
              <a:tblGrid>
                <a:gridCol w="3355920"/>
                <a:gridCol w="3771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- 3,912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 - 6,797 Kb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042920" y="213336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PEG possui dificuldade em tratar imagens com bordas bem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s bordas tendem a perder a definição ficando com um aspecto embaçado, a não ser que se utilize uma configuração de alta qualidade para a imagem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é recomend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rever texto em imagem que será comprimida em formato JPE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imagens em preto e branco  sejam convertidas para JP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necessário no mínimo 16 níveis de cinza para se obter uma compressão razoável com JPE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IF comprime sem perdas imagens em tons de cinza com até 256 níveis enquanto JPEG n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3494520" y="155736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rau de compactação - 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imagens em cores reais, os dados descomprimidos são normalmente constituídos de 24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PEG pode conseguir taxa de compressão de 10:1 a 20:1 sem perdas visíveis, trazendo o armazenamento para 1 a 2 bits/pix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mpressão de 30:1 a 50:1 é conseguida com pequenos defeitos, enquanto que para uma imagem de qualidade muito baixa consegue-se até 100: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agens com um grau de qualidade tão baixo (100:1) são bem adequadas para pré-visualizações de imagens ma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3350160" y="167940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971280" y="2060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cursos oferecidos pelo GI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cidade de utilizar fundo transpa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ossível, por exemplo, que um site publique uma imagem em GIF e esta terá como fundo a cor da pág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IF permite que uma seqüência de imagens seja salva em um único arquivo, em que cada imagem surge no lugar da anterior após um tempo pré-determinado -&gt;     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nsação de ani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292720" y="4869000"/>
            <a:ext cx="1143000" cy="1238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332000" y="6237360"/>
            <a:ext cx="7561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O GIF utiliza um formato de compressão que não altera a qualidade da imagem a cada salvamento, como ocorre com o JP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3277080" y="1557360"/>
            <a:ext cx="20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JPEG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versus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PNG versus GIF versus 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to G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 LZW (Lempel-Ziv-Wel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brava royal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NG - Concorrente do 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egue trabalhar com esquema de 24 bits de cores   (16,8 milhões de c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mparação com o JPE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a compressão obtida é mais eficiente e não proporciona perda de qualidade a cada salvamento, o que permite maior fidelidade à imagem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3127" t="24413" r="33024" b="10636"/>
          <a:stretch/>
        </p:blipFill>
        <p:spPr>
          <a:xfrm>
            <a:off x="6372360" y="2133720"/>
            <a:ext cx="190800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777080" cy="3056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Verdana"/>
              </a:rPr>
              <a:t>PNG versus GIF versus 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imagens em PNG não requerem muito espaço, podendo-se ter figuras de alta definição e tamanho em bytes peque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JPEG costuma ter imagens de tamanho ainda menor em alguns ca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possui o recurso de transpar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xcelente alternativa ao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possível ter imagens com fundo transparente, mas com o objeto utilizando um número muito maior de c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3127" t="42122" r="61069" b="11611"/>
          <a:stretch/>
        </p:blipFill>
        <p:spPr>
          <a:xfrm>
            <a:off x="6877080" y="3789360"/>
            <a:ext cx="15462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71280" y="270828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 u="sng">
                <a:solidFill>
                  <a:srgbClr val="000099"/>
                </a:solidFill>
                <a:uFillTx/>
                <a:latin typeface="Arial"/>
              </a:rPr>
              <a:t>Lembre-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scolha de um tipo de imagem não deve ser arbitrária. Deve-se escolher qual o tipo mais apropriado para cada apl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ixel é então codificado com um elemento da tabela (8 bits) ao invés de 24, com uma compressão 3: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abela de Cores pode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lobal: é utilizada na imagem int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: é utilizada apenas em parte da im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eúdo da tabela é enviado pela rede (ou armazenado), juntamente com informação sobre as dimensões da imagem e os dados referentes aos pixels da imagem propriamente d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I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aphics Interchang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LZW pode ser utilizada para obter maior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abela de valores vai sendo dinamicamente estendida à medida que strings de cores vão aparec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almente a tabela começa com 512 posições, 256 das quais contém a tabela orig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tabela está cheia, esta pode crescer em incrementos de 1 bit (210 cores, 211 cor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F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gged Image Fil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resolução de pixels de até 48 bits (16 bits para cada componente RG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ido tanto para envio de imagens como de documentos digit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pode ser armazenada em 5 modos distintos, sendo o modo 1 completamente sem compressão e o modo 5 um modo comprimido através de codificação LZ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os 2, 3 e 4 são utilizados para codificação de documentos digitalizados, com algoritmos similares àqueles utilizados por máquinas de facsi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FF (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gged Image File Format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dificação LZW utilizada é a mesma do padrão GIF, iniciando com um dicionário de 256 cores, que pode crescer até 4096 entr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PEG (IS 10918) -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Joint Photographic Expert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drão para compressão e armazenamento de imagens desenvolvido por especialistas do ITU, ISO e IE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e vários modos de compressão, um para cada tipo de aplicação consider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sem per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com per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ressão Seqüencial com Perdas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lossy sequential mode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conhecido com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baseline mo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- tipo de compressão mais adequada para multimídia, já que é o modo indicado para compressão de imagens digitalizadas, tanto coloridas como monocromát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cessamento da im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13T03:06:15Z</dcterms:modified>
  <cp:revision>255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