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png" ContentType="image/png"/>
  <Override PartName="/ppt/media/image9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343F-FDE3-4B6D-9B66-CDB22F48AE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079F-42AA-45D5-AEAF-1CA35332B8F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34B0-97ED-4315-89B7-360CED25C6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4B9D-18B0-4BE9-BA9A-3C697231C49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42F8-772E-41EB-8DC3-7F1B6EAA386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CD1F-AF06-4881-8E85-6B873448DC3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93E3-E0F5-4707-A7E3-F44BE42DF6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D397-56F1-4531-B466-3E7D24BEEF3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0CC8-7422-4A83-9D17-6C7BE306927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7086-2C22-4B6B-8ABC-30ABA444A0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466-6D96-469A-90DD-463A7B56C3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7A5E-048A-47BA-84D6-CB89BE3C946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009C-FE40-4B29-A981-F5DCFF34193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E730-3228-4C0A-94A5-EEB2578B83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A7D9-1FAD-481C-B408-04D0C87511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B99F-131E-4500-A3E8-93167AF65C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5839-82A6-47BA-9AAB-A315FCCFB9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6BCB-DFA7-4445-AE33-66A6138E04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AB2E-7F2C-4656-9BA2-ADBFE367B31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84CF-0775-4644-BC94-40AFF21DFF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916B-BC9C-4757-9FD2-EC948332CA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5DE8-CB7D-4EA5-8EA6-E70D0BDD315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7688-4D21-4E07-8921-5EE479BEB34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825-9A16-469F-A847-A629186829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AB9A-CDB1-46D8-857C-AE5041C8B63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4487-57E6-4B8D-B436-BDB343FE8D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736-C311-421C-A4EA-075551D2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549-5779-4286-A3E6-B5851CB1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FE7-B4C3-4F38-8162-6DD0B96A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E94-AECF-4C04-BDE7-26C02DE6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60A4-2DE2-4C36-9B35-5BC5571A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4AF6-E9A4-47A5-B575-795BF50F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F7F2-0197-4359-A902-5092CB68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53BE-BFE0-42B8-9630-83751DEC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9DE5-26EE-49EF-8057-BF214FE0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A363-A9A4-4691-AEE1-BCDB5DCF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B84C-2085-4DD3-91B5-09D7891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337-846E-4DCD-B1BF-521CF086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AA7E-93D8-42A6-8C31-382E9AA9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6C86-2DCC-4CC9-892F-0863FDAF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146F-AFC8-4916-B22C-CFDE5DD7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F4AE-0B8F-4468-85D8-DD9F7FAC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3238-2C9B-4D16-91D6-16D9E20A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C4A-65EB-4047-8827-4887BFDD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488-7AD9-4FE6-BA51-9B987B54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765-FFF4-49BC-AFEE-F6474E0A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9A6-C591-4256-8F30-AA8FB464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AE0-512B-4D03-B448-B286AE21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ADA-D099-4ACF-881E-2CFB2919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E33-52D9-4601-BACF-AAE66A9B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7630-FFBB-4534-8698-77E9CA3F8C0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1042920" cy="6858000"/>
              <a:chOff x="0" y="0"/>
              <a:chExt cx="1042920" cy="6858000"/>
            </a:xfrm>
          </p:grpSpPr>
          <p:pic>
            <p:nvPicPr>
              <p:cNvPr id="8" name="" descr=""/>
              <p:cNvPicPr/>
              <p:nvPr/>
            </p:nvPicPr>
            <p:blipFill>
              <a:blip r:embed="rId2"/>
              <a:srcRect l="35239" t="31294" r="20477" b="25393"/>
              <a:stretch/>
            </p:blipFill>
            <p:spPr>
              <a:xfrm>
                <a:off x="0" y="601200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>
                <a:off x="675360" y="0"/>
                <a:ext cx="0" cy="68580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188280" y="6165720"/>
                <a:ext cx="541080" cy="620640"/>
                <a:chOff x="188280" y="6165720"/>
                <a:chExt cx="541080" cy="6206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188280" y="6662520"/>
                  <a:ext cx="541080" cy="1238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162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500" spc="-1" strike="noStrike">
                      <a:solidFill>
                        <a:srgbClr val="ffcc00"/>
                      </a:solidFill>
                      <a:latin typeface="Humanst521 BT"/>
                    </a:rPr>
                    <a:t>DSC/CEEI/UFCG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06800" y="6362280"/>
                  <a:ext cx="29556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214200" y="6165720"/>
                  <a:ext cx="2944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408600" y="6372000"/>
                  <a:ext cx="29520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flipV="1">
                  <a:off x="214200" y="6174720"/>
                  <a:ext cx="2962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907920"/>
                <a:ext cx="860400" cy="172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35239" t="31294" r="20477" b="25393"/>
              <a:stretch/>
            </p:blipFill>
            <p:spPr>
              <a:xfrm>
                <a:off x="0" y="256536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354560"/>
                <a:ext cx="86040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42900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AAD3-4ABB-46EF-BB1C-608FD8841CC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389240" cy="6858000"/>
            <a:chOff x="0" y="0"/>
            <a:chExt cx="138924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rcRect l="35239" t="31294" r="20477" b="25393"/>
            <a:stretch/>
          </p:blipFill>
          <p:spPr>
            <a:xfrm>
              <a:off x="0" y="601200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50920" y="6165720"/>
              <a:ext cx="720720" cy="620640"/>
              <a:chOff x="250920" y="6165720"/>
              <a:chExt cx="720720" cy="620640"/>
            </a:xfrm>
          </p:grpSpPr>
          <p:sp>
            <p:nvSpPr>
              <p:cNvPr id="68" name=""/>
              <p:cNvSpPr/>
              <p:nvPr/>
            </p:nvSpPr>
            <p:spPr>
              <a:xfrm>
                <a:off x="250920" y="6662520"/>
                <a:ext cx="720720" cy="12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6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800" y="6362280"/>
                <a:ext cx="39348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85840" y="6165720"/>
                <a:ext cx="39240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4320" y="6372000"/>
                <a:ext cx="39312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286560" y="6174720"/>
                <a:ext cx="39456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8924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907920"/>
              <a:ext cx="1146240" cy="17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rcRect l="35239" t="31294" r="20477" b="25393"/>
            <a:stretch/>
          </p:blipFill>
          <p:spPr>
            <a:xfrm>
              <a:off x="0" y="256536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0" y="4354560"/>
              <a:ext cx="114624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0" y="3429000"/>
              <a:ext cx="1389240" cy="9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Imag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42560" y="1916280"/>
            <a:ext cx="76201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</a:rPr>
              <a:t>Palet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úmero de cores exibí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terminada pela profundidade do pixel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odos VGA e SuperVGA (8 bits) -  256 cores simultâne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magens em sistemas de 8 bits normalmente não são real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troca-se resolução espacial por resolução de c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presentação de cada ponto da imagem por um grupo de pixels vizinhos (</a:t>
            </a:r>
            <a:r>
              <a:rPr b="1" i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dithering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56160" y="1828800"/>
            <a:ext cx="2539800" cy="1689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03320" y="4267080"/>
            <a:ext cx="2286000" cy="1521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8120" y="4267080"/>
            <a:ext cx="2286000" cy="1521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79640" y="35812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FF(simulação em JPEG de alta qualid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1040" y="5867280"/>
            <a:ext cx="25909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IF s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ther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Tamanho: 02 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0760" y="5867280"/>
            <a:ext cx="23619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IF co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the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: 08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2000" y="1936800"/>
            <a:ext cx="79740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istemas de 15 b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comodados em pixels de 16 bit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it extra usado para codificar a transparência da imagem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da pixel será transparente ou opa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istemas de 24 b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tilizando-se pixels de 32 bits, sobra um </a:t>
            </a:r>
            <a:r>
              <a:rPr b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canal alfa (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8 bit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anal alf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ermite especificar 256 gradações de transparência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feitos utilizados em processamento de víde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848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Transparênc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41400" y="207972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Relação entre cores e bits/pixe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de 4 e 8 bits usam palet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de 15 e 24 bits são de cor verdadeir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de 16 bits permitem 1 bit de canal alfa ou 1 bit a mais em um dos canai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de 32 bits permitem 8 bits de canal alf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dispositivos de cópi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çadores de gráf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resso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adores de fil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vadores de ví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dispositivos intera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bos de raios catód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rizes de diodos eletroluminescentes (LED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rizes de dispositivos de cristal  líquido (LCD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inéis de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920" y="177336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rquitetura de Sistemas Gráfic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9435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86920" y="1844640"/>
            <a:ext cx="7086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varred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agem é gerada por varredura seqüencial da memória de imagem e do moni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d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“frame’’) - imagem gerada em um cicl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fres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nti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iscar que ocorre quando a tax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fres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in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varredu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dros são separados pe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raço vertical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divididos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h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has são separadas pe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raço horizonta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divididas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ix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varredu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essi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linhas são lidas em ordem crescente, como na maioria dos monit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elaç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o quadro é dividido em dois campos (linhas pares e linhas ímpares), como na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dificação das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spositivos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âmetros de varre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reqüência (de varredura) vertica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número de quadros por seg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reqüência (de varredura) horizonta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número de linhas por seg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ixa de passage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número de pixels por segundo/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reqüências Típicas de Moni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58920" y="2781360"/>
          <a:ext cx="7451640" cy="172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81360"/>
                    <a:ext cx="745164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âmetros espaci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pecificação de tamanho refere-se à diagonal princip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zão de aspecto normal dos monitores:  4/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zão de aspecto do pixel = razão de aspecto do monitor  (resolução vertical/resolução horizont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561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lação entre memória, resoluções e c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90520" y="2708280"/>
          <a:ext cx="7518600" cy="16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708280"/>
                    <a:ext cx="751860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6920" y="2060640"/>
            <a:ext cx="7086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Dispositivos de entrada gráfic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Bidimensiona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Tridimensiona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spositivos Gráf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08920" y="6114960"/>
            <a:ext cx="47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Toque com Braço Mecâ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3760" y="47628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3D a 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43080" y="933480"/>
            <a:ext cx="3611520" cy="2400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586480" y="933480"/>
            <a:ext cx="3017880" cy="2400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529080" y="3676680"/>
            <a:ext cx="29718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662280" y="3968640"/>
            <a:ext cx="2438640" cy="1625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452600" y="692280"/>
            <a:ext cx="2343240" cy="2282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558120" y="3282840"/>
            <a:ext cx="2046240" cy="3117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147680" y="3435480"/>
            <a:ext cx="1981440" cy="2971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872320" y="768240"/>
            <a:ext cx="2476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dificação das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nal de c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ada cor primária usada para representar uma dada c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ostragem de c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 intensidade de cada primária é codificada no valor de um ca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tização das c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número de bits por canal, comumente: 1 a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dificação das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sistemas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r verdadei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 valor do pixel é a combinação dos valores dos ca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sistemas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le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 valor do pixel é um índice na tabela de c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nal alf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ode ser usado para representar a transparência de um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Quantização de c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duzir o espaço de cores de uma image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eleção de um subconjunto das cores originais para aproximar estas c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oblema de otimização, ou seja, qual o melhor subconjunto (depende da aplicação)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6089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</a:rPr>
              <a:t>Quantização das c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 bits para codificação de cada primária (olho humano - 256 níveis de luminânc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de 3 primária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24 bits/pixel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stema de cor verdadei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produz cerca de 16 milhões de 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nativa mais barata (redundância de cores em sistemas de 24 bi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5 bits/cor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15 bits </a:t>
            </a:r>
            <a:r>
              <a:rPr b="0" lang="pt-BR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32.768 co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dificação não simétrica - sacrificar o azul na codific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6000" y="5660640"/>
            <a:ext cx="7275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 de Cor Verdadei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4800600" cy="3232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15640" y="1915920"/>
            <a:ext cx="7677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</a:rPr>
              <a:t>Palet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 quando a capacidade de reprodução de cores do sistema é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dos sistemas de cor verdadei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teúdo do pixel é enviado como índice para uma tabela armazenada em uma memória especial (não é enviado diretamente ao monit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 tabela é retirado o valor para o monitor - Palet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let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ou tabela de core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lor look-up ta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undidade (tamanho em bits) do pixel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memória para armazenamento da im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5791320"/>
            <a:ext cx="7275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 de Pale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57400" y="2340000"/>
            <a:ext cx="5029200" cy="3236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dificação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2-28T23:12:20Z</dcterms:modified>
  <cp:revision>208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