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6FA5-BC3F-4525-800F-940BEDE040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95DC-8A77-4582-B494-D22C529F3F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B66A-6A6F-4E23-B347-5EACB95278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923-DEC3-4B6A-9B1C-60D188A1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A9B-2A0D-4A6F-B45A-2F83D6B8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4D2-A597-4E39-ADB4-8718D268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357-9532-493A-A42C-3CB1AE55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0DE5-3432-430A-A8C0-ACA2F158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0328-DE51-457C-8F37-CA424D4E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0B3B-8BB9-4ADB-9FC8-F540685F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59CD-86F7-4442-A93B-B2CF5D3F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B170-4C9D-4AB7-B097-BF24FDD8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9772-4363-423B-B10C-CB79DF90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3135-4B0B-45D8-8F06-130DD0AA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EEE-47EC-4D47-89B2-728CC4C4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177C-CBE8-4A1F-A12A-E3F1003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9E60-DD3E-47EC-8D86-9E11ADC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69A4-669F-4027-A158-E9D5EA2C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C447-710B-4070-96B1-28832395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DD35-2D89-4260-AF58-3E6E131E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629-C545-4C6A-8D66-63BEEF2B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A5E-03FD-4B9A-95EC-0C100202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28D-29CC-49BC-8E4C-D3A23049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682-9CD9-4539-B5A7-0F846B9D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AEE-E092-465E-B135-344009EF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882-67D6-4220-9115-0703BD43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361-2103-408F-9393-6C8232A8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1ACE-FE34-4620-94F0-AC88FCF296D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6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E287-5855-49DC-BC45-348DB5382BD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2205000"/>
            <a:ext cx="8077320" cy="196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87280" y="4365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tro de energia eletro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6165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GONZALEZ, R. C. e WOODS, R., Processamento de Imagens Digitais, Editora Edgard Blücher, Ltd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5638320"/>
            <a:ext cx="72756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06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lguns tipos de ondas eletromagnéticas e seus respectivos comprimentos de o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786280" cy="31291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OR" 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 "tri-stimulus theory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er humano 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sistema visual -  três tipos de sensores capazes de identificar três faixas diferentes de "espectros de energia"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s faixas correspondem às tonalidades de Vermelho (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d) – 700nm, Verde (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en) – 546,1nm e Azul (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ue) – 435,8n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O ser humano vê na realidade a combinação resultante da mistura destas três cores básicas.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35040" y="4581360"/>
            <a:ext cx="6782040" cy="1371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1628640"/>
            <a:ext cx="76770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istema de cores utilizado nos computadore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Usualmente o sistema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GB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ed-Green-Blue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sistema aditivo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controla a intensidade da geração das três cores básicas-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primárias aditiva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efinição de cor no computador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especifica-se a intensidade (valor associado) aos emissores R, G e B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6477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aditivo – fontes emissoras de lu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subtrativo – utilizadas tintas, os pigmentos absorvem determinadas cores e refletem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51080" y="1459080"/>
            <a:ext cx="5715000" cy="441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16000" y="260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Verdana"/>
              </a:rPr>
              <a:t>Sistema R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479680" y="1687680"/>
          <a:ext cx="5168880" cy="417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1687680"/>
                    <a:ext cx="516888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023840" y="6031080"/>
            <a:ext cx="4783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nsidade zero nas três componente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6560" y="620640"/>
            <a:ext cx="3962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nentes estão presentes com a sua intensidade máxim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641600" y="5393880"/>
            <a:ext cx="838080" cy="484200"/>
          </a:xfrm>
          <a:prstGeom prst="line">
            <a:avLst/>
          </a:prstGeom>
          <a:ln w="507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95520" y="1306440"/>
            <a:ext cx="879480" cy="1524240"/>
          </a:xfrm>
          <a:prstGeom prst="line">
            <a:avLst/>
          </a:prstGeom>
          <a:ln w="507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omposição em RGB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4285" t="6115" r="0" b="3419"/>
          <a:stretch/>
        </p:blipFill>
        <p:spPr>
          <a:xfrm>
            <a:off x="1835280" y="1916280"/>
            <a:ext cx="6418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7454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istema subtrativo (CMY - Cyan, Magenta e Yellow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cores fundamentai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- ciano, magenta, amarelo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lementar ao RGB (inverso) 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unciona por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combinação subtrativa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: mistura de pigment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é usada a variant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CMYK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cyan-magenta-yellow-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lack) devido à dificuldade de obter pigmentos com alta pureza de c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ode ser representado também por um cubo – vértices são simétricos em relação ao cubo RGB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rigem: branco e o vértice (1, 1, 1): preto.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utilizaçã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- impressão, fotograf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47640" y="5660640"/>
            <a:ext cx="72756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76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res Primárias e Secundárias da Luz e de Pig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3400560" cy="5105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71640" y="6237360"/>
            <a:ext cx="792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GONZALEZ, R. C. e WOODS, R., Processamento de Imagens Digitais, Editora Edgard Blücher, Ltd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876560" cy="4286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514600" y="5791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o de cores -  modelo R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92360" y="2708280"/>
            <a:ext cx="6705360" cy="11430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31640" y="2852640"/>
            <a:ext cx="7024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Existem apenas os sistemas RGB e CMY como formas de representação de cores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esentação Digital da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87520" y="5689440"/>
            <a:ext cx="2895480" cy="4572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5443560"/>
            <a:ext cx="2362320" cy="8380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42920" y="191628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outros sistemas que procuram se adaptar melhor a uma determinada aplicação ou fun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YIQ – Y(luminância), I e Q (componentes cromáticos em-fase e quadratur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HS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ue Saturation Intensit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– Matiz, Saturação e Intens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HSV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ue Saturation Valu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– Matiz, Saturação e Val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HL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ue Lightness Saturatio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- Matiz, Luminância, Satur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2360" y="551664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ipulação de Imagens color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164000" y="4149720"/>
            <a:ext cx="1079640" cy="1224000"/>
          </a:xfrm>
          <a:prstGeom prst="line">
            <a:avLst/>
          </a:prstGeom>
          <a:ln w="255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524720" y="3500280"/>
            <a:ext cx="719280" cy="1873440"/>
          </a:xfrm>
          <a:prstGeom prst="line">
            <a:avLst/>
          </a:prstGeom>
          <a:ln w="255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619280" y="4508640"/>
            <a:ext cx="216000" cy="1038240"/>
          </a:xfrm>
          <a:prstGeom prst="line">
            <a:avLst/>
          </a:prstGeom>
          <a:ln w="2556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661000"/>
            <a:ext cx="26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rientado ao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1916280"/>
            <a:ext cx="768204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7480" indent="0">
              <a:spcBef>
                <a:spcPts val="575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Intensidade ou  luminância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dida da energia luminos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to representa a ausência de energia (intensidade nul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âmetro da cor ao qual o olho é mais sensíve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“monocromáticos” trabalham com a informação de luminânc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3920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dificação - 8 bi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744048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7480" indent="0">
              <a:spcBef>
                <a:spcPts val="575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atiz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dida do comprimento de onda dominante (mede a freqüência dominante da vibração luminosa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de a qualidade que distingue o azul do verde, do vermelho, etc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4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dificação – cerca de 4 bits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spcBef>
                <a:spcPts val="575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spcBef>
                <a:spcPts val="575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1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atur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edida da pureza da co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ranco (mistura perfeita das cores) representa a impureza da cor (saturação zero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ara outras cores, a saturação pode ser entendida como a quantidade de branco present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ons muito saturados são “brilhantes”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ons pouco saturados são “pastel”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dificação – cerca de 4 bi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odelo YIQ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Usado na transmissão comercial de TV colorid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ojetado para tirar vantagem do sistema da maior sensibilidade da visão humana a mudanças na luminância do que nas mudanças de matiz e satur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presentação de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- Banda mais larg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presentação de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I e Q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– banda mais estrei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uminância e informação de cores desacopl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odelo H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mponente de intensidade (I) desacoplado da informação de co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s componentes de matiz e saturação são intimamente relacionados à percepção humana de cor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deal para desenvolvimento de algoritmos baseados em propriedades do sistema visual human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delo 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para especificação de cor por usuários huma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ns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uminâ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edida da energia lumino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ti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edida do comprimento de onda domin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delo 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tu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edida da pureza da c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eto representa a ausência de energia (baixa luminânc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branco representa a impureza da cor (baixa satura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Modelo HLS de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484360" y="2833560"/>
          <a:ext cx="5243760" cy="40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833560"/>
                    <a:ext cx="524376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15640" y="2565000"/>
            <a:ext cx="30481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ixa de seleção de cores baseada nos modelos HLS e RG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405320" cy="4495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745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ratamento e análise de image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316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rocessamento de Imagen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nipulação e exibição de imagens pronta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nvolve processos de tratamento da imagem e processos que permitam a interface entre dispositivos de entrada e saída gráfica e o arquivo de image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380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não possui como fim a geração de uma imagem a partir de dados, mas a manipulação de uma imagem previamente gerada e até possivelmente a extração de informações a partir desta imag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omposição em HL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3219" t="6153" r="0" b="3321"/>
          <a:stretch/>
        </p:blipFill>
        <p:spPr>
          <a:xfrm>
            <a:off x="1835280" y="1989000"/>
            <a:ext cx="6489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68360" y="2997360"/>
            <a:ext cx="5562720" cy="7617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48760" indent="-186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Gama do sistema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conjunto de cores que pode ser produzido a partir de determinadas primári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876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aturação das primárias </a:t>
            </a:r>
            <a:r>
              <a:rPr b="0" lang="pt-BR" sz="2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ga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-186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Gama dos monitores profissionais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gama da TV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-186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Gama da fotografia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gama dos monitor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-186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Gama dos monitores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gama de várias técnicas de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impress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8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plicaçõ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2520" indent="-388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Tratamento e melhoria de image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0280" indent="-388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Medicina, Controle de Qualidade, Biologia, Sistemas de Monitoração e Controle (segurança), Geologia, Sensoriamento Remoto (imagens de satélites), Metereologi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2520" indent="-388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econhecimento e classificação de objetos presentes em uma imag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0280" indent="-388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istemas de segurança (impressões digitais), interpretação automática de textos, visão artificial, robótica, exploração automatizada (sistemas anti-bombas, exploração submarina, mísseis teleguiados), etc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Imagem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composta por um conjunto de pontos, denominados "Pixels"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Picture Element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 ou "Dots"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dispostos na tela do computador formando uma matriz de pontos que é denominada de "Bit-Map" ou "Mapa de Bits"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Mapa de bit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reticulado - cada elemento da matriz possui uma informação referente à cor associada aquele ponto específic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Resolução" da imagem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número de elementos que a imagem possui na horizontal e na vertical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657600" cy="24145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1042920" y="4508640"/>
            <a:ext cx="7850160" cy="21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magem </a:t>
            </a:r>
            <a:r>
              <a:rPr b="0" lang="pt-B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matriz de pontos ou pixels, com  resolução horizontal (eixo X) e vertical (eixo Y),  para cada ponto da matriz tem-se uma cor associada (obtida de forma direta ou através de uma tabela de acesso indireto - "tabela de palette“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Casacurta, A., Osório, F., Figueroa, F. e Musse, S. R.,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omputação Gráfica – Introdu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Resolução espacial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da visã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– mede quantos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onto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pt-BR" sz="2100" spc="-1" strike="noStrike" u="sng">
                <a:solidFill>
                  <a:srgbClr val="cccc66"/>
                </a:solidFill>
                <a:uFillTx/>
                <a:latin typeface="Arial"/>
              </a:rPr>
              <a:t>pixel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) diferentes o olho pode distinguir em uma imag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Campo visual human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– matriz de 3.000 x 3.000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ixe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Televisão comum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512 x 480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(NTSC -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National Televison Standards Committee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ou PAL-M: variação do padrão PAL -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hase Alternate Line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Televisão de alta definiçã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(HDTV) </a:t>
            </a:r>
            <a:r>
              <a:rPr b="0" lang="pt-B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2.000 x 1.100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i="1" lang="pt-BR" sz="2100" spc="-1" strike="noStrike">
                <a:solidFill>
                  <a:srgbClr val="000000"/>
                </a:solidFill>
                <a:latin typeface="Arial"/>
              </a:rPr>
              <a:t>Computadores PC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resolução determinada pelo modo gráfico escolhido – dentro do limite estabelecido, valores comuns: 640 x 480, 800 x 600 e 1024 x 76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38412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Razão de aspecto do monitor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: 4/3 – computadores e televisão comum e 2 (aproximadamente) para cinema e HDT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58920" y="5373360"/>
            <a:ext cx="7275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incípio de funcionamento do aparelho de TV, através do tubo de imagem (CR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908840" cy="3279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360" y="1916280"/>
            <a:ext cx="79023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Quantidade de bits requerida por um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pixel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depende principalmente da representação adotada para as c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Visão human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Espectro visível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: 400nm (violeta) a 700nm (vermelho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icos de  maior sensibilidade do olho humano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– aproximadamente ao verde (principal), ao vermelho (um pouco menor) e ao azul (bem meno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ercepção das cores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combinação linear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– cada cor é expressa como soma ponderada das cores básic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624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igital de Image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26T15:48:06Z</dcterms:modified>
  <cp:revision>198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