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19.jpeg" ContentType="image/jpeg"/>
  <Override PartName="/ppt/media/image11.png" ContentType="image/png"/>
  <Override PartName="/ppt/media/image6.wmf" ContentType="image/x-wmf"/>
  <Override PartName="/ppt/media/image20.jpeg" ContentType="image/jpeg"/>
  <Override PartName="/ppt/media/image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03D1-A585-4A8F-B756-BB37D7BB1F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21C-BB55-47C7-995E-7D57BC8B61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40C-4FDD-4E79-97B8-BEF7F4EE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CFE-A503-4407-848D-5B73095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4FB-ABA0-4941-B5A9-027AF238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057-ED7B-45DA-87B0-73933BDC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8A7-09C1-47F6-8DE0-119C9BAE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778F-F720-4A6E-A688-506CCD16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6FA-0312-433E-B8BE-1F1B6DE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3952-3F86-43EA-83EF-526896FF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FDFD-FB40-4562-BD88-106836CC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D2A4-A267-40AC-BF71-DBE8F9A6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F13B-B5F8-4CA1-A1C5-3982BF93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AFD-12D6-4DAE-9A5F-6F80C98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1E75-9056-482F-AE48-88D9C22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1F9A-967D-4860-903C-E889C87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D6C-7D92-4788-82FD-372C73FB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C4E7-8A87-4EB4-9A79-92800C95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A7D9-A995-4FB0-B099-C02029F1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135-F4CF-41AA-A95A-2CF3602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593-A8E1-446B-96FD-500F2140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210-279C-41EE-8881-25F1E90B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A5A-0B83-402B-A7A5-46575EE8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A14-7CCE-4F2A-859A-4C3E0D0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E79-DE51-4F4A-8F52-1674476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BCF-E378-403C-8695-F964B4C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5AF1-B838-4A5F-BDEB-FBDA6AB0023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00000" cy="6858000"/>
            <a:chOff x="0" y="0"/>
            <a:chExt cx="900000" cy="6858000"/>
          </a:xfrm>
        </p:grpSpPr>
        <p:sp>
          <p:nvSpPr>
            <p:cNvPr id="7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34920" y="4076640"/>
              <a:ext cx="82692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" name=""/>
            <p:cNvGraphicFramePr/>
            <p:nvPr/>
          </p:nvGraphicFramePr>
          <p:xfrm>
            <a:off x="34920" y="4840200"/>
            <a:ext cx="82692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4840200"/>
                      <a:ext cx="82692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8780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" name=""/>
            <p:cNvGrpSpPr/>
            <p:nvPr/>
          </p:nvGrpSpPr>
          <p:grpSpPr>
            <a:xfrm>
              <a:off x="0" y="0"/>
              <a:ext cx="826560" cy="4038480"/>
              <a:chOff x="0" y="0"/>
              <a:chExt cx="826560" cy="40384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8254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4" name=""/>
              <p:cNvGraphicFramePr/>
              <p:nvPr/>
            </p:nvGraphicFramePr>
            <p:xfrm>
              <a:off x="51120" y="878040"/>
              <a:ext cx="77400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120" y="878040"/>
                        <a:ext cx="77400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1120" y="2569320"/>
                <a:ext cx="77400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7" name=""/>
              <p:cNvGraphicFramePr/>
              <p:nvPr/>
            </p:nvGraphicFramePr>
            <p:xfrm>
              <a:off x="51120" y="3246480"/>
              <a:ext cx="77544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1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1120" y="3246480"/>
                        <a:ext cx="77544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120" y="1622520"/>
                <a:ext cx="775440" cy="94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" name=""/>
            <p:cNvGrpSpPr/>
            <p:nvPr/>
          </p:nvGrpSpPr>
          <p:grpSpPr>
            <a:xfrm>
              <a:off x="108000" y="6308640"/>
              <a:ext cx="647640" cy="549000"/>
              <a:chOff x="108000" y="6308640"/>
              <a:chExt cx="647640" cy="549000"/>
            </a:xfrm>
          </p:grpSpPr>
          <p:sp>
            <p:nvSpPr>
              <p:cNvPr id="21" name=""/>
              <p:cNvSpPr/>
              <p:nvPr/>
            </p:nvSpPr>
            <p:spPr>
              <a:xfrm>
                <a:off x="108000" y="6748200"/>
                <a:ext cx="647640" cy="10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400" spc="-1" strike="noStrike">
                    <a:solidFill>
                      <a:srgbClr val="ffcc00"/>
                    </a:solidFill>
                    <a:latin typeface="Verdana"/>
                  </a:rPr>
                  <a:t>DSC/CEEI/UFC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9360" y="648252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flipV="1">
                <a:off x="138240" y="6308640"/>
                <a:ext cx="352440" cy="2412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71520" y="649116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flipV="1">
                <a:off x="138960" y="6315840"/>
                <a:ext cx="354600" cy="241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4CED-DFC0-414A-AE95-1808B7E09B4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1331640" cy="6467400"/>
            <a:chOff x="0" y="0"/>
            <a:chExt cx="1331640" cy="64674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52920" y="4076640"/>
              <a:ext cx="12542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52920" y="4840200"/>
            <a:ext cx="125424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920" y="4840200"/>
                      <a:ext cx="12542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13316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0" y="0"/>
              <a:ext cx="1253880" cy="4038480"/>
              <a:chOff x="0" y="0"/>
              <a:chExt cx="1253880" cy="4038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12520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6" name=""/>
              <p:cNvGraphicFramePr/>
              <p:nvPr/>
            </p:nvGraphicFramePr>
            <p:xfrm>
              <a:off x="77760" y="878040"/>
              <a:ext cx="117396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760" y="878040"/>
                        <a:ext cx="117396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760" y="2569320"/>
                <a:ext cx="117396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9" name=""/>
              <p:cNvGraphicFramePr/>
              <p:nvPr/>
            </p:nvGraphicFramePr>
            <p:xfrm>
              <a:off x="77760" y="3246480"/>
              <a:ext cx="117612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7760" y="3246480"/>
                        <a:ext cx="117612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760" y="1622520"/>
                <a:ext cx="1176120" cy="94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" name=""/>
          <p:cNvGrpSpPr/>
          <p:nvPr/>
        </p:nvGrpSpPr>
        <p:grpSpPr>
          <a:xfrm>
            <a:off x="324000" y="6165720"/>
            <a:ext cx="720720" cy="620640"/>
            <a:chOff x="324000" y="6165720"/>
            <a:chExt cx="720720" cy="620640"/>
          </a:xfrm>
        </p:grpSpPr>
        <p:sp>
          <p:nvSpPr>
            <p:cNvPr id="83" name=""/>
            <p:cNvSpPr/>
            <p:nvPr/>
          </p:nvSpPr>
          <p:spPr>
            <a:xfrm>
              <a:off x="324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4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5892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5964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windowsmedia/en/download/pocket.asp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Tipos de Produtos Multimíd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116000" y="1916280"/>
          <a:ext cx="776772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767720" cy="3786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44600" y="580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robat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638680" cy="4421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8120" y="6172200"/>
            <a:ext cx="373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ção em 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312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4484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12639" y="3794"/>
                </a:lnTo>
                <a:lnTo>
                  <a:pt x="12639" y="17806"/>
                </a:lnTo>
                <a:lnTo>
                  <a:pt x="10977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títulos hiper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esença de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controles de naveg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forma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õ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lavras sensívei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hot word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ntos sensívei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hot spo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sultados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lt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anelas-filha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pop-up window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Hipermídia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de de hipermídia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tocolo de hipertexto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t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nguagem de hipertexto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T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Ferramentas para edição de HTM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FrontPage Editor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Microsof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utor trabalha de forma quase visu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ermite que se trabalhe diretamente em HTM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Dreamweaver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Macromedi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presenta suporte para diversos recursos de multimíd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23880" y="6172200"/>
            <a:ext cx="601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ela d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FrontPage Edi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92360" y="5877000"/>
            <a:ext cx="6019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ela do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Dreamweav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483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18960" y="1773360"/>
            <a:ext cx="75294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adrões para hiper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SO: MHEG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Multimedi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Hypermedia Exper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ntercâmbio de informação em redes e sistemas distribuídos de arquitetura heterogêne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icrosoft: AAF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dvanced Authoring Format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formato comum para autoria de multimíd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W3C: SMIL (</a:t>
            </a:r>
            <a:r>
              <a:rPr b="0" i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ynchronized Multimedia Integration Language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inguagem de marcação apropriada para transmissão de conteúdo multimídia em fluxo contínuo - suportada pela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Real Playe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Padrão MHEG 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(</a:t>
            </a:r>
            <a:r>
              <a:rPr b="1" i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Multimedia, Hypermedia Expert Group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tegrar e codificar as partes de multimídia para que se atinja o objetivo de: com "mínimo de recursos" de computação e independente da plataforma, trabalhar com qualquer aplicativo multimídia.</a:t>
            </a:r>
            <a:r>
              <a:rPr b="1" lang="pt-BR" sz="2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24080" y="4014720"/>
            <a:ext cx="3353040" cy="2279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Classificação Gera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99"/>
                </a:solidFill>
                <a:latin typeface="Arial"/>
              </a:rPr>
              <a:t>Sites</a:t>
            </a:r>
            <a:r>
              <a:rPr b="0" lang="pt-BR" sz="2300" spc="-1" strike="noStrike">
                <a:solidFill>
                  <a:srgbClr val="000099"/>
                </a:solidFill>
                <a:latin typeface="Arial"/>
              </a:rPr>
              <a:t>  Estático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(Ex.: Ferramenta –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FrontPag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99"/>
                </a:solidFill>
                <a:latin typeface="Arial"/>
              </a:rPr>
              <a:t>Sites</a:t>
            </a:r>
            <a:r>
              <a:rPr b="0" lang="pt-BR" sz="2300" spc="-1" strike="noStrike">
                <a:solidFill>
                  <a:srgbClr val="000099"/>
                </a:solidFill>
                <a:latin typeface="Arial"/>
              </a:rPr>
              <a:t> Dinâmico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ASP – Active Server Pag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HP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imeira versão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rsonal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ome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age Tool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99"/>
                </a:solidFill>
                <a:uFillTx/>
                <a:latin typeface="Arial"/>
              </a:rPr>
              <a:t>Caso Especial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servidores de multimídia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 de fluxo contínu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Exemplos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Real Aud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Real Media – Real Play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hockwav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lash – Macromed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ASF  (Active Streaming Format) - Microso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erramentas para desenvolvimento de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tít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jet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28526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2846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37162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41497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2421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934320" cy="332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Sites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 Dinâ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áginas contê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código ativ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Principais tipos de código ativ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99"/>
                </a:solidFill>
                <a:latin typeface="Tahoma"/>
              </a:rPr>
              <a:t>Scripts</a:t>
            </a:r>
            <a:r>
              <a:rPr b="0" i="1" lang="pt-BR" sz="2400" spc="-1" strike="noStrike">
                <a:solidFill>
                  <a:srgbClr val="9999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programas em código fonte, embutidos no código HTM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Componen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arquivos de código binário, invocados quando a referência é localizada na pá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Formas de Execução do código ativ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o lado do cl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o lado do serv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61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Scri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tilizados para fazer com que a página responda com ações simples às solicitações do usu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s de linguagem: 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VBScri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Dynamic HT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16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cripts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 - lado do Serv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ção d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execução de um aplicativo no serv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s: consulta a uma base de dados, realização de cálcu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ção de uma página HTML contendo os resultados solicitados pelo usuário     envio ao cliente, sendo exibido pelo naveg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 de tecnologia: CGI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mon Gateway Interfac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29264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727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O que é CGI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Gateway Interface –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 padrão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(“common”) de comunicação (“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face”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) entre diferentes processos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(“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gateway”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CGI não é uma linguag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CGI é um protocolo que pode ser usado para comunicar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forms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a Web com o seu program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Um script CGI pode ser escrito em qualquer linguagem que possa ler de STDIN, escrever STDOUT, e ler variáveis de ambiente, ou seja virtualmente qualquer linguagem de programação (Exemplos:  C, Perl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- Practical Extraction and Report Language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27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xemplo - seqüência “típica” de passos para um </a:t>
            </a: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cript 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GI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1.Leia o input do form do usuári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2.Faça o que desejar com os d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3.Escreva a resposta HTML em STDOU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6095520"/>
            <a:ext cx="7275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 de formulário CG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1722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90360" y="6019920"/>
            <a:ext cx="727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 de execução de um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 CG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9436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Componentes Ativ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Lado do client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gramas executados pela máquina client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vocados pelo navegador quando este encontra a respectiva referê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É comum encontrar miniaplicativos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applets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 programados em Java como componen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71640" y="1988640"/>
            <a:ext cx="770400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desenvolviment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inâmicos requer a integração de diversas tecnologias, de construçã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, de desenvolvimento de software e de bancos de dad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inâmico executa funções e interage automaticamente apresentando determinada soluçã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inâmicos permitem a dinamização das informações, obtendo-se uma aproximação maior dos aspectos que tanto atraem as pesso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58840" y="1907640"/>
            <a:ext cx="7516800" cy="379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Ferramentas para criação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licativos fech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nguagens de progra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erramentas de auto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ítulos linea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ítulos hipermíd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7162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41497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7640" y="5238720"/>
            <a:ext cx="6553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 Importante: Curva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4086360"/>
            <a:ext cx="16002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9440" y="4365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Autoria de Aplic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Aplicativos com Interface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Aplicativ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299736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357336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8000" y="1773360"/>
            <a:ext cx="5791320" cy="7617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1773360"/>
            <a:ext cx="5486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Mas, afinal o que é a interface usuário-computador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2963880"/>
            <a:ext cx="746784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A face que o sistema computacional apresenta ao mundo.“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Hooper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Um dispositivo que serve de limite comum às diferentes entidades comunicantes."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Coutaz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Interface deve ser encarada, não tanto ao nível técnico mas, mais ao nível humano.“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Fernandez et Al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"o elemento motivacional das interfaces (...) é, de certo modo, o grau de aceitação psicológica do sistema, que é importante não negligenciar.” 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Gomes et Al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Aplicativos com Interface Multi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nstrução visual da interface de usuário - ferramentas de desenho e formulári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presenta mecanismos para inclusão de material na interfac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ssibilidade de programação textual em linguagem de programação simpl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ecanismo de tempo de execução distribuído com o aplicativ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 de ferramenta para autoria de aplicativos com interface multimídia</a:t>
            </a:r>
            <a:r>
              <a:rPr b="1" lang="pt-BR" sz="2300" spc="-1" strike="noStrike">
                <a:solidFill>
                  <a:srgbClr val="000000"/>
                </a:solidFill>
                <a:latin typeface="Tahoma"/>
              </a:rPr>
              <a:t>: Toolbook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7708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Recursos do Asymetrix Tool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etáfora baseada em liv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m aplicativo - “livro”, dividido em telas - “página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troles de navegação: botões, palavras sens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siste em várias janelas independ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mitado quanto à capacidade de hiperte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Multimídia no Tool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écnicas de animação de inte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cução de clip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hamadas à interface MCI do 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6197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Possibilidades do Toolbo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riação de jogos, catálogos eletrônicos com som e imagens de víde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Simulado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mos de produtos e serviç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Sistemas de treinamento à distânc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Quiosques  informativos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rtfólio para artistas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D-ROM institucional, revistas e livros em CD-ROM, etc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8748720" y="6524640"/>
            <a:ext cx="395280" cy="289080"/>
          </a:xfrm>
          <a:custGeom>
            <a:avLst/>
            <a:gdLst>
              <a:gd name="textAreaLeft" fmla="*/ 18720 w 395280"/>
              <a:gd name="textAreaRight" fmla="*/ 376560 w 395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9525" h="21600">
                <a:moveTo>
                  <a:pt x="0" y="0"/>
                </a:moveTo>
                <a:lnTo>
                  <a:pt x="29525" y="0"/>
                </a:lnTo>
                <a:lnTo>
                  <a:pt x="29525" y="21600"/>
                </a:lnTo>
                <a:lnTo>
                  <a:pt x="0" y="21600"/>
                </a:lnTo>
                <a:close/>
              </a:path>
              <a:path fill="lightenLess" w="29525" h="21600">
                <a:moveTo>
                  <a:pt x="0" y="0"/>
                </a:moveTo>
                <a:lnTo>
                  <a:pt x="29525" y="0"/>
                </a:lnTo>
                <a:lnTo>
                  <a:pt x="28125" y="1400"/>
                </a:lnTo>
                <a:lnTo>
                  <a:pt x="1400" y="1400"/>
                </a:lnTo>
                <a:close/>
              </a:path>
              <a:path fill="darken" w="29525" h="21600">
                <a:moveTo>
                  <a:pt x="29525" y="0"/>
                </a:moveTo>
                <a:lnTo>
                  <a:pt x="29525" y="21600"/>
                </a:lnTo>
                <a:lnTo>
                  <a:pt x="28125" y="20200"/>
                </a:lnTo>
                <a:lnTo>
                  <a:pt x="28125" y="1400"/>
                </a:lnTo>
                <a:close/>
              </a:path>
              <a:path fill="darkenLess" w="29525" h="21600">
                <a:moveTo>
                  <a:pt x="29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25" y="20200"/>
                </a:lnTo>
                <a:close/>
              </a:path>
              <a:path fill="lighten" w="29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25" h="21600">
                <a:moveTo>
                  <a:pt x="7756" y="10800"/>
                </a:moveTo>
                <a:lnTo>
                  <a:pt x="21769" y="3794"/>
                </a:lnTo>
                <a:lnTo>
                  <a:pt x="21769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Aplicativos multi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senvolvimento de produtos de softwar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Geralmente apresenta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nterfaces gráf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mportamento de tempo re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sam serviços de multimídia do ambiente operacion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s de Interfaces de programação de multimídia para Windows: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MCI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dia Control Interf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Directx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411280" y="6275520"/>
            <a:ext cx="46483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s Multimídia - Wind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79108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2733840" cy="1447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4619520" cy="1485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42920" y="200808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X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- Serviç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3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rviços gráficos tridimens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Dra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rviços gráficos bidimensionais efici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cesso a serviços de comunic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S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cesso de baixo nível a dispositivos de s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Inpu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uporte a dispositivos usados em jogos e sim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40000" y="2971800"/>
            <a:ext cx="4465440" cy="914400"/>
            <a:chOff x="2340000" y="2971800"/>
            <a:chExt cx="4465440" cy="914400"/>
          </a:xfrm>
        </p:grpSpPr>
        <p:sp>
          <p:nvSpPr>
            <p:cNvPr id="239" name=""/>
            <p:cNvSpPr/>
            <p:nvPr/>
          </p:nvSpPr>
          <p:spPr>
            <a:xfrm>
              <a:off x="2340000" y="2971800"/>
              <a:ext cx="4465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340000" y="2971800"/>
              <a:ext cx="4071600" cy="914400"/>
              <a:chOff x="2340000" y="2971800"/>
              <a:chExt cx="4071600" cy="914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340000" y="2971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340000" y="2971800"/>
                <a:ext cx="4071600" cy="914400"/>
                <a:chOff x="2340000" y="2971800"/>
                <a:chExt cx="407160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340000" y="2971800"/>
                  <a:ext cx="4071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40000" y="2971800"/>
                  <a:ext cx="4071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 u="sng">
                      <a:solidFill>
                        <a:srgbClr val="ffcc00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0" lang="pt-BR" sz="5400" spc="-1" strike="noStrike">
                      <a:solidFill>
                        <a:srgbClr val="000000"/>
                      </a:solidFill>
                      <a:latin typeface="Verdana"/>
                    </a:rPr>
                    <a:t> </a:t>
                  </a:r>
                  <a:r>
                    <a:rPr b="0" lang="pt-BR" sz="1000" spc="-1" strike="noStrike">
                      <a:solidFill>
                        <a:srgbClr val="000000"/>
                      </a:solidFill>
                      <a:latin typeface="Verdana"/>
                    </a:rPr>
                    <a:t>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560" y="1863720"/>
            <a:ext cx="81378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Exemplo de ferramenta para projeto de multimídia: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Macromedia Dir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erramenta verdadeira de hipermíd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etáfora de elenco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cas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 e palco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(stag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linguagem de programação -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Lingo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lemento central: partitura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cor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nimação controlada por cronogramas (partituras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ormatos de autoria: DI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ormatos de distribuição: EXE, vídeo,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hockwav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movi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56000" y="6165720"/>
            <a:ext cx="4473360" cy="54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elas do </a:t>
            </a:r>
            <a:r>
              <a:rPr b="1" i="1" lang="pt-BR" sz="2000" spc="-1" strike="noStrike">
                <a:solidFill>
                  <a:srgbClr val="000000"/>
                </a:solidFill>
                <a:latin typeface="Tahoma"/>
              </a:rPr>
              <a:t>Macromedia Director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592440" cy="2847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76720" y="115920"/>
            <a:ext cx="3672000" cy="3014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971640" y="106200"/>
            <a:ext cx="379404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640" y="1936800"/>
            <a:ext cx="7516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Exemplos de ferramentas de autoria de título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PowerPoi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orientado para sl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crobat Exchang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orientado para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cumentaç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on-lin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34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mportante: Objetivos das interfaces de usuá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ior velocidade de aprendizado - usuários novatos -    custo de treinament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ior velocidade de uso - usuários experientes -   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dutividade de us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dução da taxa de erros -     produtividad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lembrança rápida das funções disponíveis   - 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úvidas e perda de tempo com consulta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specto atra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835280" y="349992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292720" y="384444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35280" y="458136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278136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03280" y="5300640"/>
            <a:ext cx="7162920" cy="838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8487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Estilos de interfaces de usuá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WYSIWYG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what you see is what you ge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nterfaces icônicas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- economizam espaço de tela, superam barreiras lingüísticas, contribuem para a estética da interf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Manipulação diret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  Exemplo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Técnica de arraste e posicionamento -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drag and drop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(Editores de animação - objetos arrastados para a posição desejad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79600" y="5300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elhor interface para o usuário requer o mínimo esforço de aprend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867280" y="2971800"/>
            <a:ext cx="2590920" cy="2666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Princípios de desenho de interfaces de usuá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nsistênc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aliment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inimização dos err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cuperação dos err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últiplos níveis de treinament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inimização da memoriz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layou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adequa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3048120"/>
            <a:ext cx="2514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s telas não precisam, necessariamente,  ser cheias ou coloridas para serem agradáveis aos ol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258920" y="2060640"/>
            <a:ext cx="7275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mplement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liberaçõ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estes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alf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mplant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produ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stal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estes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bet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dução piloto – “liberdade vigiada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Oper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tilização e evolu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nuten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equenas correções - formas de distribuiçã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remendos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patches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isponibilizados em um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 de suporte ao produto (com instruções claras, suporte através de correio eletrônico e lista de perguntas freqüent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58920" y="2420640"/>
            <a:ext cx="7238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Tahoma"/>
              </a:rPr>
              <a:t>Lembre-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multimídia há, basicamente, cinco maneiras para elaborar e transmitir mensagens. Pode-se escrever, ilustrar, animar, ouvir e interagir. Explore-as ao máximo, com discern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Recursos do PowerPo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táfora de show de sl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itor gráfico inte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i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L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nking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bedd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portação para 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295280" y="1844640"/>
            <a:ext cx="75247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O Slide como Meio – aspectos important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tilizar o slide de preferência em formato paisa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ão estender o slide até a mar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imitar o volume de tex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manho de letra mínimo: 20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tilizar, preferencialmente,  no máximo 3 tamanhos de letra, fonte, estilo e cores de let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cursos ópticos e ilustrações são importantes para “falar” usando o nosso pensamento gráfic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08160" y="1268280"/>
            <a:ext cx="7467480" cy="52578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275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mprego de 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36760" y="1420920"/>
          <a:ext cx="7010280" cy="4854600"/>
        </p:xfrm>
        <a:graphic>
          <a:graphicData uri="http://schemas.openxmlformats.org/drawingml/2006/table">
            <a:tbl>
              <a:tblPr/>
              <a:tblGrid>
                <a:gridCol w="1523880"/>
                <a:gridCol w="54864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ermelh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itante, proximidade, cal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az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xante, distância, f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ver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mante, esperanç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are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tido, claro, le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ado, duro, apertado, distâ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o, luz, calma, vaz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mar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ança, confor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cin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vida, sem cará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viole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o sentido, não objeti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b9205"/>
                          </a:solidFill>
                          <a:latin typeface="Arial"/>
                        </a:rPr>
                        <a:t>laran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, cal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581280"/>
            <a:ext cx="678204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edidas mínimas do plano de projeção são calculadas através da fórmul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47920" y="3657600"/>
                <a:ext cx="6476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fastament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rede ao último participant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90360" y="2209680"/>
            <a:ext cx="727524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Recursos do Acrobat Ex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ição de document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isualização de im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to PDF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ortable Document Forma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mportação de Post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14T17:16:45Z</dcterms:modified>
  <cp:revision>193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