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2A34-8F16-4B20-931B-72DF991C58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7E50-CC45-442F-BB69-6AE0778C236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B15D-8B95-49C3-A303-E94E594788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D91F-ED2E-4499-A6C2-60EB655594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F3D5-BB48-490D-B3D9-28CA4F09C0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417E-6D30-43CA-8A43-405020A8856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B6B2-6365-49C9-9CD5-A9037D9B0F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6DD1-59D8-4955-898D-D1497DB30B9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88B6-BCE7-472A-9FD9-522DA1191F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0319-10ED-43D9-BAF8-C7F2331937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1194-87AB-498D-9E1A-80766EAC927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5B2B-C069-4D40-BE73-874972C2C8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E340-A80E-4959-9958-2C9F64A4D33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68DA-F941-473C-A999-B1E097BD34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1F37-2ACA-4A07-B6A5-9BEACB3B65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85BE-6449-42E4-BA14-ADB98B50BD1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8A94-9ECF-48B3-9D14-927FBC56707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349E-E612-45C1-863C-9CFACAE87BE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933-B951-4748-A0BA-908FA3C6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E68-BF1D-41D6-AE4B-BB1BAF9C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D7D-E444-4C03-8781-ADCA649A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A7D-0CB1-4161-877F-E18FF18D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C7D1-5C1A-460F-B4A5-8339BEEC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AAC1-9012-4BD6-8E01-A6D58633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2965-0228-4189-881B-69D38079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1F8E-6E97-4E13-981B-60496A5D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02C4-5DCB-41A1-8979-D6407C73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D150-85D3-47CC-A60C-68FDA645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0380-B3B8-475A-AC79-6FD1B1F3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A3C-B790-4CC5-A03C-DE840A0F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ACC0-5036-46C6-8636-028537E3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CF76-E449-4DEA-8096-5733EC98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0C71-55CB-4D1C-B30E-B1D27C2B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53EE-4EEC-4D00-B631-B089C36D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65DE-E8DC-4BBE-BF31-D41481F7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2E5-B15C-4EE2-878A-406D7AD2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E4C-F19D-418B-ACE2-98134801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B15-3949-4D05-9D29-52BECC54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0EA-DBD0-4749-9CAA-33D1B1A6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C7C-7876-4A05-9EFC-D4004DF5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B04-2176-49C3-A776-FEC16C69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5A0-F93D-4BD7-A702-9D4AFDB9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package" Target="../embeddings/oleObject2.docx"/><Relationship Id="rId8" Type="http://schemas.openxmlformats.org/officeDocument/2006/relationships/image" Target="../media/image2.wmf"/><Relationship Id="rId9" Type="http://schemas.openxmlformats.org/officeDocument/2006/relationships/image" Target="../media/image4.png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.wmf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package" Target="../embeddings/oleObject2.docx"/><Relationship Id="rId8" Type="http://schemas.openxmlformats.org/officeDocument/2006/relationships/image" Target="../media/image2.wmf"/><Relationship Id="rId9" Type="http://schemas.openxmlformats.org/officeDocument/2006/relationships/image" Target="../media/image4.png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.wmf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1053-0B62-488C-8516-CD0D88BFA45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00000" cy="6858000"/>
            <a:chOff x="0" y="0"/>
            <a:chExt cx="900000" cy="6858000"/>
          </a:xfrm>
        </p:grpSpPr>
        <p:sp>
          <p:nvSpPr>
            <p:cNvPr id="7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2"/>
            <a:srcRect l="28598" t="22439" r="11606" b="17512"/>
            <a:stretch/>
          </p:blipFill>
          <p:spPr>
            <a:xfrm>
              <a:off x="34920" y="4076640"/>
              <a:ext cx="82692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" name=""/>
            <p:cNvGraphicFramePr/>
            <p:nvPr/>
          </p:nvGraphicFramePr>
          <p:xfrm>
            <a:off x="34920" y="4840200"/>
            <a:ext cx="826920" cy="717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4840200"/>
                      <a:ext cx="82692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0" y="5516640"/>
              <a:ext cx="878040" cy="95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" name=""/>
            <p:cNvGrpSpPr/>
            <p:nvPr/>
          </p:nvGrpSpPr>
          <p:grpSpPr>
            <a:xfrm>
              <a:off x="0" y="0"/>
              <a:ext cx="826560" cy="4038480"/>
              <a:chOff x="0" y="0"/>
              <a:chExt cx="826560" cy="4038480"/>
            </a:xfrm>
          </p:grpSpPr>
          <p:pic>
            <p:nvPicPr>
              <p:cNvPr id="13" name="" descr=""/>
              <p:cNvPicPr/>
              <p:nvPr/>
            </p:nvPicPr>
            <p:blipFill>
              <a:blip r:embed="rId6"/>
              <a:srcRect l="28598" t="22439" r="11606" b="17512"/>
              <a:stretch/>
            </p:blipFill>
            <p:spPr>
              <a:xfrm>
                <a:off x="0" y="0"/>
                <a:ext cx="825480" cy="8143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4" name=""/>
              <p:cNvGraphicFramePr/>
              <p:nvPr/>
            </p:nvGraphicFramePr>
            <p:xfrm>
              <a:off x="51120" y="878040"/>
              <a:ext cx="774000" cy="758880"/>
            </p:xfrm>
            <a:graphic>
              <a:graphicData uri="http://schemas.openxmlformats.org/presentationml/2006/ole">
                <p:oleObj progId="Word.Document.12" r:id="rId7" spid="">
                  <p:embed/>
                  <p:pic>
                    <p:nvPicPr>
                      <p:cNvPr id="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1120" y="878040"/>
                        <a:ext cx="774000" cy="75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1120" y="2569320"/>
                <a:ext cx="774000" cy="6768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7" name=""/>
              <p:cNvGraphicFramePr/>
              <p:nvPr/>
            </p:nvGraphicFramePr>
            <p:xfrm>
              <a:off x="51120" y="3246480"/>
              <a:ext cx="775440" cy="792000"/>
            </p:xfrm>
            <a:graphic>
              <a:graphicData uri="http://schemas.openxmlformats.org/presentationml/2006/ole">
                <p:oleObj progId="Word.Document.12" r:id="rId10" spid="">
                  <p:embed/>
                  <p:pic>
                    <p:nvPicPr>
                      <p:cNvPr id="18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1120" y="3246480"/>
                        <a:ext cx="77544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1120" y="1622520"/>
                <a:ext cx="775440" cy="94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" name=""/>
            <p:cNvGrpSpPr/>
            <p:nvPr/>
          </p:nvGrpSpPr>
          <p:grpSpPr>
            <a:xfrm>
              <a:off x="108000" y="6308640"/>
              <a:ext cx="647640" cy="549000"/>
              <a:chOff x="108000" y="6308640"/>
              <a:chExt cx="647640" cy="549000"/>
            </a:xfrm>
          </p:grpSpPr>
          <p:sp>
            <p:nvSpPr>
              <p:cNvPr id="21" name=""/>
              <p:cNvSpPr/>
              <p:nvPr/>
            </p:nvSpPr>
            <p:spPr>
              <a:xfrm>
                <a:off x="108000" y="6748200"/>
                <a:ext cx="647640" cy="109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400" spc="-1" strike="noStrike">
                    <a:solidFill>
                      <a:srgbClr val="ffcc00"/>
                    </a:solidFill>
                    <a:latin typeface="Verdana"/>
                  </a:rPr>
                  <a:t>DSC/CEEI/UFCG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69360" y="6482520"/>
                <a:ext cx="353520" cy="2404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flipV="1">
                <a:off x="138240" y="6308640"/>
                <a:ext cx="352440" cy="2412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71520" y="6491160"/>
                <a:ext cx="353520" cy="2404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flipV="1">
                <a:off x="138960" y="6315840"/>
                <a:ext cx="354600" cy="24156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30CA-3C98-4739-AF96-DB2338027AB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0"/>
            <a:ext cx="1331640" cy="6467400"/>
            <a:chOff x="0" y="0"/>
            <a:chExt cx="1331640" cy="6467400"/>
          </a:xfrm>
        </p:grpSpPr>
        <p:pic>
          <p:nvPicPr>
            <p:cNvPr id="70" name="" descr=""/>
            <p:cNvPicPr/>
            <p:nvPr/>
          </p:nvPicPr>
          <p:blipFill>
            <a:blip r:embed="rId2"/>
            <a:srcRect l="28598" t="22439" r="11606" b="17512"/>
            <a:stretch/>
          </p:blipFill>
          <p:spPr>
            <a:xfrm>
              <a:off x="52920" y="4076640"/>
              <a:ext cx="12542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1" name=""/>
            <p:cNvGraphicFramePr/>
            <p:nvPr/>
          </p:nvGraphicFramePr>
          <p:xfrm>
            <a:off x="52920" y="4840200"/>
            <a:ext cx="1254240" cy="717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920" y="4840200"/>
                      <a:ext cx="125424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0" y="5516640"/>
              <a:ext cx="1331640" cy="95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"/>
            <p:cNvGrpSpPr/>
            <p:nvPr/>
          </p:nvGrpSpPr>
          <p:grpSpPr>
            <a:xfrm>
              <a:off x="0" y="0"/>
              <a:ext cx="1253880" cy="4038480"/>
              <a:chOff x="0" y="0"/>
              <a:chExt cx="1253880" cy="4038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6"/>
              <a:srcRect l="28598" t="22439" r="11606" b="17512"/>
              <a:stretch/>
            </p:blipFill>
            <p:spPr>
              <a:xfrm>
                <a:off x="0" y="0"/>
                <a:ext cx="1252080" cy="8143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76" name=""/>
              <p:cNvGraphicFramePr/>
              <p:nvPr/>
            </p:nvGraphicFramePr>
            <p:xfrm>
              <a:off x="77760" y="878040"/>
              <a:ext cx="1173960" cy="758880"/>
            </p:xfrm>
            <a:graphic>
              <a:graphicData uri="http://schemas.openxmlformats.org/presentationml/2006/ole">
                <p:oleObj progId="Word.Document.12" r:id="rId7" spid="">
                  <p:embed/>
                  <p:pic>
                    <p:nvPicPr>
                      <p:cNvPr id="7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7760" y="878040"/>
                        <a:ext cx="1173960" cy="75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7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7760" y="2569320"/>
                <a:ext cx="1173960" cy="6768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79" name=""/>
              <p:cNvGraphicFramePr/>
              <p:nvPr/>
            </p:nvGraphicFramePr>
            <p:xfrm>
              <a:off x="77760" y="3246480"/>
              <a:ext cx="1176120" cy="792000"/>
            </p:xfrm>
            <a:graphic>
              <a:graphicData uri="http://schemas.openxmlformats.org/presentationml/2006/ole">
                <p:oleObj progId="Word.Document.12" r:id="rId10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77760" y="3246480"/>
                        <a:ext cx="117612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8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7760" y="1622520"/>
                <a:ext cx="1176120" cy="94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2" name=""/>
          <p:cNvGrpSpPr/>
          <p:nvPr/>
        </p:nvGrpSpPr>
        <p:grpSpPr>
          <a:xfrm>
            <a:off x="324000" y="6165720"/>
            <a:ext cx="720720" cy="620640"/>
            <a:chOff x="324000" y="6165720"/>
            <a:chExt cx="720720" cy="620640"/>
          </a:xfrm>
        </p:grpSpPr>
        <p:sp>
          <p:nvSpPr>
            <p:cNvPr id="83" name=""/>
            <p:cNvSpPr/>
            <p:nvPr/>
          </p:nvSpPr>
          <p:spPr>
            <a:xfrm>
              <a:off x="324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4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5892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7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5964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" Target="slide3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Tipos de Produtos Multimíd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87280" y="1989000"/>
            <a:ext cx="734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aplicativos com interface multi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s simp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tivos educacionais bás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tivos de produtividade pessoal (ex.: agendas, geradores de relatórios simp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67320" cy="39625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48160" y="5783400"/>
            <a:ext cx="54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a de um aplicativo com interface multi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03280" y="4724280"/>
            <a:ext cx="7353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0400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tivos multi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ocessam o próprio material de multimídia, geralmente em tempo rea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ágio avançado dos sistemas gráficos interativ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implementados em linguagens de programação de sistemas (ex.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? ?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ultimídia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apenas recurso de interface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objetivo central do aplicativ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844640"/>
            <a:ext cx="753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aplicativos multi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s de multimíd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visualização técnica e científ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aquetas eletrônicas, imagens méd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dores de tempo re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automóveis, aviões, processos industri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informação geográf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4653000"/>
            <a:ext cx="6048360" cy="1181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aplicativos multi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s avançados de computação musica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s avançados de entreteniment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jogos tridimensi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realidade virtu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sistemas para parques de divers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ndênci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             visão tridimensional                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to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515772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5580000" y="3500280"/>
          <a:ext cx="2936880" cy="22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3500280"/>
                    <a:ext cx="2936880" cy="2292480"/>
                  </a:xfrm>
                  <a:prstGeom prst="rect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8160" y="6021360"/>
            <a:ext cx="27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licativo multimí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187280" y="1773360"/>
            <a:ext cx="4176720" cy="195732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371600" y="1989000"/>
            <a:ext cx="593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mídia na Intern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W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veg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i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ági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yperlink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lug-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iculdades para autoria de multimídia n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ças entre os naveg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oniz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ualizações altern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ões de faixa dos canais de aces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ortância da compres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-determinismo da entr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40040" y="4807080"/>
            <a:ext cx="529596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7925040" cy="29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Tecnologias de fluxo contínuo 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</a:rPr>
              <a:t>(streaming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rientadas para material linea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rmazenamento antecipado de parte do materia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degradação controlada em caso de perda de dad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xemplos: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RealPlayer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NetShow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cc00"/>
                </a:solidFill>
                <a:latin typeface="Arial"/>
              </a:rPr>
              <a:t>                        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Maior Problema: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anutenção do fluxo em tempo 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1080" y="58770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al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4392720" cy="410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1773360"/>
            <a:ext cx="777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Produto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42920" y="1988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produtos multimídia (de acordo com o grau de interatividad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ítul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per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plic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3213000"/>
            <a:ext cx="75960" cy="106704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3500280"/>
            <a:ext cx="86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1403280" y="342900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1403280" y="429264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1403280" y="465300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1628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ítulos 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presentação do material segue ordem predetermin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uário final dispõe de poucos contr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vanço, retrocesso, avanço rápido etc.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lmente intercambiáveis com anim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títulos 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ções para palest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monstr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tor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ítulos hiper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ordem de visualização é determinada pelo usuário fi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uário final tem controles para navegação (seguir referência, voltar, etc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pertextos são casos partic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stemas de auto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títulos hipermídia em ambientes mais compl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títulos hiper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ítulos de referência (dicionári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jud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n-li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iosques informativ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tálogos inter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847880" y="1962000"/>
          <a:ext cx="5143320" cy="38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1962000"/>
                    <a:ext cx="5143320" cy="3854520"/>
                  </a:xfrm>
                  <a:prstGeom prst="rect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84160" y="582120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a de um título hiper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15640" y="2060640"/>
            <a:ext cx="741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65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tivos com interface multi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1922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idos em ambientes usuais de programação de aplicativos gráficos,         (p.ex.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 ? ? ? 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1922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m recursos gráficos estáticos, animação e som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acilitar a int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2-05T16:16:19Z</dcterms:modified>
  <cp:revision>147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