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44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990720" y="731520"/>
            <a:ext cx="4875120" cy="36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B4F1F-C156-424D-A816-8EE7F39F514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B535F-AE4F-4F38-8E14-7672C7579A6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040" y="4630320"/>
            <a:ext cx="5025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4F908-6D7B-48A2-8B83-9890C904817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040" y="4630320"/>
            <a:ext cx="5025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C2C78-C9DD-4F23-83B8-5D14B0CEF5F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040" y="4630320"/>
            <a:ext cx="5025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6DF03-0091-4171-B8A5-7D42F8EE264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040" y="4630320"/>
            <a:ext cx="5025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FB490-1345-4547-A113-E82D5C31C85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040" y="4630320"/>
            <a:ext cx="5025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0EF5-B6A0-4C61-8284-5D12983CA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1D6A-862B-487B-9D59-AC3B6B944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717A-615F-4104-9539-46D91C47C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9B55-5912-4CD6-B376-740C13A4C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4ECAD-452A-45E3-8FDE-6264DFC99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4A80E-14E2-4901-BAC2-71FD98ECF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B4B85-1436-473C-B330-B5AE726FA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7EB18-3398-4F62-9B85-02A060B34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320E5-3B14-4FC0-BBE3-E958107C8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971280" y="20160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593B5-EE99-4527-BFFC-670566394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F1D66-2031-4C4E-89FD-D0C724222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FBB5-2CCA-4DE5-9A41-EE9AD4D7A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F0CCF-91D7-4F65-9453-C6F0CC0AB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FE5A0-E990-48DD-80C0-0B2218E04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45C0C-BE37-4536-8E4F-A5714E5C0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4B58D-8F6F-486F-B100-4C99D5639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37A9C-A937-43AB-811C-B76D3C3C0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4A53-BC67-4122-AC77-7653E298B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C62F-22E3-4F32-95E0-C046266ED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2860-89D3-49F0-80E7-03EFB6712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971280" y="20160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5B52-BB57-4705-98BC-0311F09C7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740D-07D0-454F-9803-5DE07CBD3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64D0-A3BA-45C4-B4FF-3816EF9CD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BBBA-1F95-4353-9AED-63A9908B2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4.jpe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4.jpe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41760-D15E-4F2C-A15A-F14B23B6342E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108000" y="6308640"/>
            <a:ext cx="647640" cy="549000"/>
            <a:chOff x="108000" y="6308640"/>
            <a:chExt cx="647640" cy="549000"/>
          </a:xfrm>
        </p:grpSpPr>
        <p:sp>
          <p:nvSpPr>
            <p:cNvPr id="7" name=""/>
            <p:cNvSpPr/>
            <p:nvPr/>
          </p:nvSpPr>
          <p:spPr>
            <a:xfrm>
              <a:off x="108000" y="6748200"/>
              <a:ext cx="647640" cy="1094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400" spc="-1" strike="noStrike">
                  <a:solidFill>
                    <a:srgbClr val="ffcc00"/>
                  </a:solidFill>
                  <a:latin typeface="Verdana"/>
                </a:rPr>
                <a:t>DSC/CEEI/UFCG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69360" y="6482520"/>
              <a:ext cx="353520" cy="2404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 flipV="1">
              <a:off x="138240" y="6308640"/>
              <a:ext cx="352440" cy="2412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71520" y="6491160"/>
              <a:ext cx="353520" cy="2404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flipV="1">
              <a:off x="138960" y="6315840"/>
              <a:ext cx="354600" cy="2415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"/>
          <p:cNvSpPr/>
          <p:nvPr/>
        </p:nvSpPr>
        <p:spPr>
          <a:xfrm>
            <a:off x="900000" y="0"/>
            <a:ext cx="0" cy="68580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" name=""/>
          <p:cNvGrpSpPr/>
          <p:nvPr/>
        </p:nvGrpSpPr>
        <p:grpSpPr>
          <a:xfrm>
            <a:off x="0" y="0"/>
            <a:ext cx="900000" cy="6237360"/>
            <a:chOff x="0" y="0"/>
            <a:chExt cx="900000" cy="6237360"/>
          </a:xfrm>
        </p:grpSpPr>
        <p:grpSp>
          <p:nvGrpSpPr>
            <p:cNvPr id="14" name=""/>
            <p:cNvGrpSpPr/>
            <p:nvPr/>
          </p:nvGrpSpPr>
          <p:grpSpPr>
            <a:xfrm>
              <a:off x="0" y="0"/>
              <a:ext cx="900000" cy="3332160"/>
              <a:chOff x="0" y="0"/>
              <a:chExt cx="900000" cy="3332160"/>
            </a:xfrm>
          </p:grpSpPr>
          <p:pic>
            <p:nvPicPr>
              <p:cNvPr id="1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720720"/>
                <a:ext cx="900000" cy="760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1511280"/>
                <a:ext cx="900000" cy="53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2089080"/>
                <a:ext cx="900000" cy="90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" name="" descr=""/>
              <p:cNvPicPr/>
              <p:nvPr/>
            </p:nvPicPr>
            <p:blipFill>
              <a:blip r:embed="rId5"/>
              <a:srcRect l="7590" t="40539" r="7590" b="12190"/>
              <a:stretch/>
            </p:blipFill>
            <p:spPr>
              <a:xfrm>
                <a:off x="0" y="0"/>
                <a:ext cx="900000" cy="72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3024000"/>
                <a:ext cx="900000" cy="3081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0" name="" descr=""/>
            <p:cNvPicPr/>
            <p:nvPr/>
          </p:nvPicPr>
          <p:blipFill>
            <a:blip r:embed="rId7"/>
            <a:stretch/>
          </p:blipFill>
          <p:spPr>
            <a:xfrm>
              <a:off x="0" y="4005360"/>
              <a:ext cx="900000" cy="76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" descr=""/>
            <p:cNvPicPr/>
            <p:nvPr/>
          </p:nvPicPr>
          <p:blipFill>
            <a:blip r:embed="rId8"/>
            <a:stretch/>
          </p:blipFill>
          <p:spPr>
            <a:xfrm>
              <a:off x="0" y="4795920"/>
              <a:ext cx="900000" cy="53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" name="" descr=""/>
            <p:cNvPicPr/>
            <p:nvPr/>
          </p:nvPicPr>
          <p:blipFill>
            <a:blip r:embed="rId9"/>
            <a:stretch/>
          </p:blipFill>
          <p:spPr>
            <a:xfrm>
              <a:off x="0" y="5373720"/>
              <a:ext cx="900000" cy="86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" name="" descr=""/>
            <p:cNvPicPr/>
            <p:nvPr/>
          </p:nvPicPr>
          <p:blipFill>
            <a:blip r:embed="rId10"/>
            <a:srcRect l="7590" t="40539" r="7590" b="12190"/>
            <a:stretch/>
          </p:blipFill>
          <p:spPr>
            <a:xfrm>
              <a:off x="0" y="3284640"/>
              <a:ext cx="900000" cy="7207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1402920" cy="6857640"/>
            <a:chOff x="0" y="0"/>
            <a:chExt cx="1402920" cy="6857640"/>
          </a:xfrm>
        </p:grpSpPr>
        <p:grpSp>
          <p:nvGrpSpPr>
            <p:cNvPr id="61" name=""/>
            <p:cNvGrpSpPr/>
            <p:nvPr/>
          </p:nvGrpSpPr>
          <p:grpSpPr>
            <a:xfrm>
              <a:off x="0" y="0"/>
              <a:ext cx="1402560" cy="3663000"/>
              <a:chOff x="0" y="0"/>
              <a:chExt cx="1402560" cy="3663000"/>
            </a:xfrm>
          </p:grpSpPr>
          <p:pic>
            <p:nvPicPr>
              <p:cNvPr id="6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792000"/>
                <a:ext cx="1402560" cy="835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1661400"/>
                <a:ext cx="1402560" cy="58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2296440"/>
                <a:ext cx="1402560" cy="98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5"/>
              <a:srcRect l="7590" t="40539" r="7590" b="12190"/>
              <a:stretch/>
            </p:blipFill>
            <p:spPr>
              <a:xfrm>
                <a:off x="0" y="0"/>
                <a:ext cx="1402560" cy="79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3324240"/>
                <a:ext cx="1402560" cy="3387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7" name="" descr=""/>
            <p:cNvPicPr/>
            <p:nvPr/>
          </p:nvPicPr>
          <p:blipFill>
            <a:blip r:embed="rId7"/>
            <a:stretch/>
          </p:blipFill>
          <p:spPr>
            <a:xfrm>
              <a:off x="0" y="4403880"/>
              <a:ext cx="1402920" cy="83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8"/>
            <a:stretch/>
          </p:blipFill>
          <p:spPr>
            <a:xfrm>
              <a:off x="0" y="5272920"/>
              <a:ext cx="1402920" cy="58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9"/>
            <a:stretch/>
          </p:blipFill>
          <p:spPr>
            <a:xfrm>
              <a:off x="0" y="5908320"/>
              <a:ext cx="1402920" cy="94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10"/>
            <a:srcRect l="7590" t="40539" r="7590" b="12190"/>
            <a:stretch/>
          </p:blipFill>
          <p:spPr>
            <a:xfrm>
              <a:off x="0" y="3611160"/>
              <a:ext cx="1402920" cy="792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324000" y="6165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8C277-E4AF-441C-BD36-E08CDD06F73C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395280" y="6121080"/>
            <a:ext cx="720720" cy="620640"/>
            <a:chOff x="395280" y="6121080"/>
            <a:chExt cx="720720" cy="620640"/>
          </a:xfrm>
        </p:grpSpPr>
        <p:sp>
          <p:nvSpPr>
            <p:cNvPr id="76" name=""/>
            <p:cNvSpPr/>
            <p:nvPr/>
          </p:nvSpPr>
          <p:spPr>
            <a:xfrm>
              <a:off x="395280" y="661788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EEI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86160" y="631800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30200" y="6120720"/>
              <a:ext cx="392400" cy="2725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88680" y="632736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 flipV="1">
              <a:off x="430920" y="613044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1403280" y="2997360"/>
            <a:ext cx="37450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148360" y="2997360"/>
            <a:ext cx="39956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152360" y="189000"/>
            <a:ext cx="79916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863800" y="2133720"/>
            <a:ext cx="432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1908000" y="3141720"/>
            <a:ext cx="64008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Hardware/Softw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para Multimíd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(Parte III - Adicion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Prof.a Joseana Macêdo Fe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1116000" y="1773360"/>
            <a:ext cx="756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ópi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uporte para 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758196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1564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Ferramentas de Suporte (Hardwa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 u="sng">
                <a:solidFill>
                  <a:srgbClr val="000000"/>
                </a:solidFill>
                <a:uFillTx/>
                <a:latin typeface="Arial"/>
              </a:rPr>
              <a:t>Conexã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Arial"/>
              </a:rPr>
              <a:t>SCSI (</a:t>
            </a:r>
            <a:r>
              <a:rPr b="1" i="1" lang="pt-BR" sz="2300" spc="-1" strike="noStrike">
                <a:solidFill>
                  <a:srgbClr val="000000"/>
                </a:solidFill>
                <a:latin typeface="Arial"/>
              </a:rPr>
              <a:t>Small Computer System Interface</a:t>
            </a:r>
            <a:r>
              <a:rPr b="1" lang="pt-BR" sz="23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Padrão em Macintosh, pode ser instalado em Window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Cabeamento sensível ao tamanho 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Interface rápid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258920" y="1989000"/>
            <a:ext cx="727560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Ferramentas de Suporte (Hardwa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 u="sng">
                <a:solidFill>
                  <a:srgbClr val="000000"/>
                </a:solidFill>
                <a:uFillTx/>
                <a:latin typeface="Arial"/>
              </a:rPr>
              <a:t>Conexã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Arial"/>
              </a:rPr>
              <a:t>IDE (</a:t>
            </a:r>
            <a:r>
              <a:rPr b="1" i="1" lang="pt-BR" sz="2300" spc="-1" strike="noStrike">
                <a:solidFill>
                  <a:srgbClr val="000000"/>
                </a:solidFill>
                <a:latin typeface="Arial"/>
              </a:rPr>
              <a:t>Integrated Drive Eletronics</a:t>
            </a:r>
            <a:r>
              <a:rPr b="1" lang="pt-BR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Padrão em Window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Robusto, porém com menos velocidade e capacidade que o anterio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042560" y="-360"/>
            <a:ext cx="758196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116000" y="1916280"/>
            <a:ext cx="727560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Ferramentas de Suporte (Hardwa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 u="sng">
                <a:solidFill>
                  <a:srgbClr val="000000"/>
                </a:solidFill>
                <a:uFillTx/>
                <a:latin typeface="Arial"/>
              </a:rPr>
              <a:t>Conexã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Arial"/>
              </a:rPr>
              <a:t>MCI (</a:t>
            </a:r>
            <a:r>
              <a:rPr b="1" i="1" lang="pt-BR" sz="2300" spc="-1" strike="noStrike">
                <a:solidFill>
                  <a:srgbClr val="000000"/>
                </a:solidFill>
                <a:latin typeface="Arial"/>
              </a:rPr>
              <a:t>Media Control Interface</a:t>
            </a:r>
            <a:r>
              <a:rPr b="1" lang="pt-BR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Provê um método orientado a comandos para que softwares possam controlar dispositivos multimídia (Windows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042560" y="-360"/>
            <a:ext cx="758196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116000" y="1916280"/>
            <a:ext cx="727560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Suporte (Hardwa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Barramentos seriais</a:t>
            </a:r>
            <a:r>
              <a:rPr b="1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EEE 1394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Firewir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 - câmeras de víde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SB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Universal Serial Bu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 - vários dispositivos (impressora, teclado, 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Recursos: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plug-and-play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hot-pl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1042560" y="-360"/>
            <a:ext cx="758196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116000" y="1628640"/>
            <a:ext cx="72756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Suporte (Hardwa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mória e Dispositivos de Armazenament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RAM, HD, CD, DVD, etc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ispositivos de entrad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teclado, mouse,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touch screen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leitora de cartões magnéticos, scanner, OCR, reconhecimento de voz, câmeras digitalizadoras, etc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ispositivos de saída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dispositivos de áudio, monitor, vídeo, projetor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ispositivos de comunica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mode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1042560" y="-360"/>
            <a:ext cx="758196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joseana</cp:lastModifiedBy>
  <dcterms:modified xsi:type="dcterms:W3CDTF">2007-02-05T15:55:25Z</dcterms:modified>
  <cp:revision>139</cp:revision>
  <dc:subject/>
  <dc:title>Sistemas Multimídi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