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DCD-531F-473B-B111-6EF000BD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310-5DEC-47EF-AC24-FDD630B2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2BD-B70E-4044-B6D8-2E33633C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3AE-3839-46E3-94D7-EE1C0137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108C-86F9-42C3-B8EF-C44FBA06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70A7-0DB8-45EA-86BD-DE9C4475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9552-85CC-4DEF-A7F2-8A0AF820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BA42-B3C6-4D05-B2D7-E085E84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76D2-1E09-4108-9D26-2973CF59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74FF-81AB-4698-A61C-9F9896D6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0D0C-0635-4E77-8DF2-2CEF342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2F3-1BA3-488F-82B7-83344D67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E408-3D19-46E8-8E7F-1D394E5F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6440-475E-4267-95D9-0C5D26A0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31F2-C8C4-4D51-886F-7EEE4756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CDFE-38AD-42C6-B4EF-6A1F6475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C4AD-3A75-4748-AE12-AA8FD6B2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D56-77A7-4BF4-B9F7-A8A16D51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488-AC51-4540-82A6-4B27FAC2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756-BE20-415F-BE48-9D064AD4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A5F-6783-4682-8F19-F6F80673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265-AB86-4866-A79D-EB175D58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2C2-4DB2-44AA-B921-57BA16A0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B03-6BF3-45D1-9F2F-48C8A26C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BDF3-1342-4F4D-B1B7-EA8249B159A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308640"/>
            <a:ext cx="647640" cy="549000"/>
            <a:chOff x="108000" y="6308640"/>
            <a:chExt cx="647640" cy="549000"/>
          </a:xfrm>
        </p:grpSpPr>
        <p:sp>
          <p:nvSpPr>
            <p:cNvPr id="7" name=""/>
            <p:cNvSpPr/>
            <p:nvPr/>
          </p:nvSpPr>
          <p:spPr>
            <a:xfrm>
              <a:off x="108000" y="6748200"/>
              <a:ext cx="647640" cy="1094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00" spc="-1" strike="noStrike">
                  <a:solidFill>
                    <a:srgbClr val="ffcc00"/>
                  </a:solidFill>
                  <a:latin typeface="Verdana"/>
                </a:rPr>
                <a:t>DSC/CEEI/UFC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9360" y="648252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38240" y="6308640"/>
              <a:ext cx="352440" cy="241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1520" y="6491160"/>
              <a:ext cx="353520" cy="2404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38960" y="6315840"/>
              <a:ext cx="354600" cy="241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0" y="0"/>
            <a:ext cx="900000" cy="6237360"/>
            <a:chOff x="0" y="0"/>
            <a:chExt cx="900000" cy="6237360"/>
          </a:xfrm>
        </p:grpSpPr>
        <p:grpSp>
          <p:nvGrpSpPr>
            <p:cNvPr id="14" name=""/>
            <p:cNvGrpSpPr/>
            <p:nvPr/>
          </p:nvGrpSpPr>
          <p:grpSpPr>
            <a:xfrm>
              <a:off x="0" y="0"/>
              <a:ext cx="900000" cy="3332160"/>
              <a:chOff x="0" y="0"/>
              <a:chExt cx="900000" cy="3332160"/>
            </a:xfrm>
          </p:grpSpPr>
          <p:pic>
            <p:nvPicPr>
              <p:cNvPr id="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20720"/>
                <a:ext cx="900000" cy="76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511280"/>
                <a:ext cx="90000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89080"/>
                <a:ext cx="900000" cy="9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90000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024000"/>
                <a:ext cx="900000" cy="30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" name="" descr=""/>
            <p:cNvPicPr/>
            <p:nvPr/>
          </p:nvPicPr>
          <p:blipFill>
            <a:blip r:embed="rId7"/>
            <a:stretch/>
          </p:blipFill>
          <p:spPr>
            <a:xfrm>
              <a:off x="0" y="4005360"/>
              <a:ext cx="90000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8"/>
            <a:stretch/>
          </p:blipFill>
          <p:spPr>
            <a:xfrm>
              <a:off x="0" y="4795920"/>
              <a:ext cx="9000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9"/>
            <a:stretch/>
          </p:blipFill>
          <p:spPr>
            <a:xfrm>
              <a:off x="0" y="5373720"/>
              <a:ext cx="90000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284640"/>
              <a:ext cx="9000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402920" cy="6857640"/>
            <a:chOff x="0" y="0"/>
            <a:chExt cx="1402920" cy="685764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1402560" cy="3663000"/>
              <a:chOff x="0" y="0"/>
              <a:chExt cx="1402560" cy="3663000"/>
            </a:xfrm>
          </p:grpSpPr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92000"/>
                <a:ext cx="1402560" cy="83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61400"/>
                <a:ext cx="140256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296440"/>
                <a:ext cx="1402560" cy="9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5"/>
              <a:srcRect l="7590" t="40539" r="7590" b="12190"/>
              <a:stretch/>
            </p:blipFill>
            <p:spPr>
              <a:xfrm>
                <a:off x="0" y="0"/>
                <a:ext cx="140256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24240"/>
                <a:ext cx="1402560" cy="338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0" y="4403880"/>
              <a:ext cx="140292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8"/>
            <a:stretch/>
          </p:blipFill>
          <p:spPr>
            <a:xfrm>
              <a:off x="0" y="5272920"/>
              <a:ext cx="140292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9"/>
            <a:stretch/>
          </p:blipFill>
          <p:spPr>
            <a:xfrm>
              <a:off x="0" y="5908320"/>
              <a:ext cx="140292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0"/>
            <a:srcRect l="7590" t="40539" r="7590" b="12190"/>
            <a:stretch/>
          </p:blipFill>
          <p:spPr>
            <a:xfrm>
              <a:off x="0" y="3611160"/>
              <a:ext cx="140292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D6C9-6DFC-4A38-AB18-702535D4D43B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95280" y="6121080"/>
            <a:ext cx="720720" cy="620640"/>
            <a:chOff x="395280" y="6121080"/>
            <a:chExt cx="720720" cy="620640"/>
          </a:xfrm>
        </p:grpSpPr>
        <p:sp>
          <p:nvSpPr>
            <p:cNvPr id="76" name=""/>
            <p:cNvSpPr/>
            <p:nvPr/>
          </p:nvSpPr>
          <p:spPr>
            <a:xfrm>
              <a:off x="395280" y="661788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6160" y="631800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30200" y="612072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8680" y="632736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430920" y="613044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Hardware/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ara Multimí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(Parte 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lto-fal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 uma bobina, um diafragma (cone circular ou elíptico, geralmente de papelão por ter peso menor ou polipropileno, um plástico), um imã permanente (ou eletroímã) e uma suspensão chamada "aranha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m produzido pelo alto-falante nada mais é do que a turbulência ritmada no ar provocada pela vibração do diafrag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932360" y="4437000"/>
          <a:ext cx="3311640" cy="22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4437000"/>
                    <a:ext cx="3311640" cy="22557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lto-fal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melhorar a reprodução o alto-falante passou a ser montado em uma caixa acú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aixas acústicas normalmente possuem mais de um alto-falante no intuito de cobrir melhor todas as faixas de freqüências audíveis (em torno de 20 a 20kHz para seres human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22764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42920" y="1628280"/>
            <a:ext cx="7925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to-fa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dades pequena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weeter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- responsáveis pelos sons agu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dades de média freqüência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d-rang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dades de freqüências grave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oof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3801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otimizar o funcionamento de cada tipo de alto-falante, o sinal que chega à caixa passa por um circuito divisor de freqüência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espécie de filtro eletrônico que distribui o espectro sonoro adequadamente entre as diversas uni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3160" indent="-3801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o filtro somente os agudos são enviados para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weet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s médios para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id-rang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os graves para 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oof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lto-fal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udição em aparelhos de som de alta fidelidade são usadas caixas acústicas aos pares para obter o efeito da estereofo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inemas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ome-theat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usados múltiplas caixas acústicas para obter o efeit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rroun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icrof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crofo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transdutor, dispositivo que converte um sinal sonoro em um sinal elétr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ransforma a vibração mecânica do ar – o som – em corrente elétric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vários métodos para converter vibrações mecânicas em sinais elétricos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12000" y="4292640"/>
          <a:ext cx="192384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4292640"/>
                    <a:ext cx="1923840" cy="20746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148360" y="64008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crofone de ind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979640" y="4724280"/>
            <a:ext cx="24480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9218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Microfo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icrofone Dinâmico de Bobina Mó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á um conjunto de bobinas ligadas ao diafragma, que se movem com ele; a parte fixa do microfone inclui um ímã, que cria um campo magnético (que não é constante no espaç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ovimento do diafragma faz com que as bobinas se afastem ou se aproximem do ímã, e o fluxo do campo magnético através das bobinas varia no tempo; assim, pelo fenômeno de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ndução eletromagnétic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(Faraday)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rrente que circula pelas bobinas também v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 que o movimento do diafragma (logo, das bobinas) é controlado pelo som que lá chega, a corrente recolhida é função do som recolhido (é uma imagem elétrica do sinal sono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Exemplo de Microf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24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icrofone de carvão apresenta uma construção simples e robusta e um funcionamento elementar. As suas principais característica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nsível, exceto abaixo de um certo valor (limite de excit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sta em freqüência pouco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orção elevada, sobretudo para elevadas amplitudes (relação não linear entre a resistência microfônica e a pressão acúst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6327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microfo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spcBef>
                <a:spcPts val="24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icrofone Piezoelé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efeito piezoelétrico foi descoberto por Pierre e Jacques Curie: certos materiais (cristais, cerâmicas e polímeros especiais), quando deformados, adquirem carga; o efeito é reversível, sendo fornecida carga eles deformam-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diafragma está ligado a um cristal piezoelétrico, de tal forma que o seu movimento origina tensões neste e, dadas as características piezoelétricas, essas tensões originam car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40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 mesma forma anterior, como é o som que chega ao diafragma que faz com que este se movimente, as cargas que se apresentam no cristal variam no tempo da mesma forma que o 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78501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4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360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icrofone transforma os sinais sonoros em sinais elétricos, que podem ser tratados de forma a melhorar a sua qualidade (através de filtros e amplificadores, por exemplo), e depois novamente transformados em som mediante o uso de alto-fal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0">
              <a:spcBef>
                <a:spcPts val="300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360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inal elétrico fornecido pelo microfone pode ser decomposto nas suas várias freqüências (pode ser visto a partir da Transformada de Fourier), para serem trabalhadas individualmente e depois reunidas num sinal que é enviado para um alto-falante, sendo o som inicial alter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42920" y="1773360"/>
            <a:ext cx="78501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24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24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inal elétrico pode ser gravado, por exemplo numa fita magnética, para posterior reprodu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0">
              <a:spcBef>
                <a:spcPts val="49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-se sintetizar um som através de uma soma ponderada de vários sinais elétricos de freqüências diferentes, criados por um gerador de sinais, e ouvir através de um alto-falante esse som artificia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0">
              <a:spcBef>
                <a:spcPts val="49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ntre outras aplicações 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1773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Hardware para Multimídi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Vídeo -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e traseira: conector DB-15 fêmea, usado para a conexão com o mon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cas de vídeo de alto desempenho: normalmente dissipam muita potência elétrica - chip gráfico principal é em geral acoplado a um cooler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35640" y="2852640"/>
            <a:ext cx="3168720" cy="2667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651640" y="5445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 de vídeo AG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Vídeo -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placas de vídeo com múltiplas fun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s conexõ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 e saída de vídeo composto e S-Vide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 para ant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lacas de vídeo que possuem entradas são digitalizadoras de vídeo, ou sintonizadoras de TV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5445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ca de vídeo AG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51640" y="2637000"/>
            <a:ext cx="3097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1844640"/>
            <a:ext cx="619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Vídeo - Outras fun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leração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leração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mpressão de ví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odução de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1706400"/>
            <a:ext cx="47530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Som -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a Sound Blaster PCI 1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je é uma das placas de som mais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esar de compartilhar a memória principal com o processador, não produz queda de desempenho perceptível, já que as freqüências de áudio são muito menores que as freqüências nas quais o processador requisita dados da memó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61080" y="2917800"/>
            <a:ext cx="320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3141720"/>
            <a:ext cx="2838600" cy="1952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1706400"/>
            <a:ext cx="5689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Som -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a Sound Blaster Liv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r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m 3D com diversos efeitos de re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if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ector auxiliar com entradas e saídas digi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atibilidade com a Sound Blaster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ersas entradas sonoras adi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56 canais polifô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íntese por Wav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xer totalmente digital de 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ctores da parte traseir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IN, MIC, Front Out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r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828880" cy="2028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1706400"/>
            <a:ext cx="5689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 de Som -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as Sound Blaster Audi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 com 64 canais polifônicos sintetizados por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dos inúmeros efeitos suportados: Audio Clean-up. Permite remover chiados e estalos resultantes de gravações de discos de vinil e fitas K-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rso introduzido nesta placa: interface IEEE-1394 (firewir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e conectar câmeras, aparelhos de som e outros dispositivos de áudio, vídeo e imagem, baseados no barramento Fire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218960" y="1773360"/>
            <a:ext cx="79246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lto-fal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cccc66"/>
              </a:buClr>
              <a:buSzPct val="70000"/>
              <a:buFont typeface="Wingdings" charset="2"/>
              <a:buChar char="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ransforma a corrente elétrica em vibração mecânica do ar – o so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2808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 Fechine</cp:lastModifiedBy>
  <dcterms:modified xsi:type="dcterms:W3CDTF">2007-02-05T12:16:58Z</dcterms:modified>
  <cp:revision>134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