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C15-5DD2-4559-A27D-BB793018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C27-49E2-484D-A66B-070D1C42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07F-B201-4086-9D4E-6B620B0A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181-686E-4B5B-88DE-5942FDC5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2186-CC34-40A4-ACDE-3CBFAC9F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EE30-3101-48B3-874D-CFD1D8B0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671-72A4-4679-8B8B-420DF4AB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FB22-BCC8-46FC-886E-BD74893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1164-8213-4024-A566-CF8E69B7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D6D-5D95-4670-9F15-2E692E26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343D-0A04-4A93-B900-2AC2DB84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420-C85D-47C1-88C0-BDC9F17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39C2-71A2-4D7A-9C43-94F57CD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F25A-312C-4DB5-ABC8-E8FCFB0D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74D0-33E1-44C0-822F-2C84891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6E3D-61E4-435E-8211-082BDF7C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1DB0-F5FB-4EE7-824B-EAE11D6D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ABD-D542-4053-A2E0-90FBBEF2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0DF-1C20-4846-A42B-F56A47A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020-1D88-4915-B6E0-8EFCD4C3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F3B-792D-4E2B-81E0-BE2E7774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B04-A62A-4902-9998-B900FE5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65D-A99B-4534-9680-27D8911D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826-DF22-470A-9F2D-3ED7A09D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4A0D-A094-487F-857B-8D59538F0E8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308640"/>
            <a:ext cx="647640" cy="549000"/>
            <a:chOff x="108000" y="6308640"/>
            <a:chExt cx="647640" cy="549000"/>
          </a:xfrm>
        </p:grpSpPr>
        <p:sp>
          <p:nvSpPr>
            <p:cNvPr id="7" name=""/>
            <p:cNvSpPr/>
            <p:nvPr/>
          </p:nvSpPr>
          <p:spPr>
            <a:xfrm>
              <a:off x="108000" y="6748200"/>
              <a:ext cx="647640" cy="1094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00" spc="-1" strike="noStrike">
                  <a:solidFill>
                    <a:srgbClr val="ffcc00"/>
                  </a:solidFill>
                  <a:latin typeface="Verdana"/>
                </a:rPr>
                <a:t>DSC/CEEI/UFC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9360" y="648252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38240" y="6308640"/>
              <a:ext cx="352440" cy="241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1520" y="649116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38960" y="6315840"/>
              <a:ext cx="354600" cy="241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0" y="0"/>
            <a:ext cx="900000" cy="6237360"/>
            <a:chOff x="0" y="0"/>
            <a:chExt cx="900000" cy="6237360"/>
          </a:xfrm>
        </p:grpSpPr>
        <p:grpSp>
          <p:nvGrpSpPr>
            <p:cNvPr id="14" name=""/>
            <p:cNvGrpSpPr/>
            <p:nvPr/>
          </p:nvGrpSpPr>
          <p:grpSpPr>
            <a:xfrm>
              <a:off x="0" y="0"/>
              <a:ext cx="900000" cy="3332160"/>
              <a:chOff x="0" y="0"/>
              <a:chExt cx="900000" cy="3332160"/>
            </a:xfrm>
          </p:grpSpPr>
          <p:pic>
            <p:nvPicPr>
              <p:cNvPr id="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720"/>
                <a:ext cx="90000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511280"/>
                <a:ext cx="90000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89080"/>
                <a:ext cx="900000" cy="9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90000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024000"/>
                <a:ext cx="90000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" name="" descr=""/>
            <p:cNvPicPr/>
            <p:nvPr/>
          </p:nvPicPr>
          <p:blipFill>
            <a:blip r:embed="rId7"/>
            <a:stretch/>
          </p:blipFill>
          <p:spPr>
            <a:xfrm>
              <a:off x="0" y="4005360"/>
              <a:ext cx="90000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8"/>
            <a:stretch/>
          </p:blipFill>
          <p:spPr>
            <a:xfrm>
              <a:off x="0" y="4795920"/>
              <a:ext cx="9000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9"/>
            <a:stretch/>
          </p:blipFill>
          <p:spPr>
            <a:xfrm>
              <a:off x="0" y="5373720"/>
              <a:ext cx="9000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284640"/>
              <a:ext cx="9000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402920" cy="6857640"/>
            <a:chOff x="0" y="0"/>
            <a:chExt cx="1402920" cy="685764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1402560" cy="3663000"/>
              <a:chOff x="0" y="0"/>
              <a:chExt cx="1402560" cy="3663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92000"/>
                <a:ext cx="1402560" cy="83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61400"/>
                <a:ext cx="140256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96440"/>
                <a:ext cx="140256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140256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24240"/>
                <a:ext cx="1402560" cy="338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0" y="4403880"/>
              <a:ext cx="140292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0" y="5272920"/>
              <a:ext cx="14029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0" y="5908320"/>
              <a:ext cx="14029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611160"/>
              <a:ext cx="140292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E5CA-7741-41C9-BACF-EE6CF02C8BE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" y="6121080"/>
            <a:ext cx="720720" cy="620640"/>
            <a:chOff x="395280" y="6121080"/>
            <a:chExt cx="720720" cy="620640"/>
          </a:xfrm>
        </p:grpSpPr>
        <p:sp>
          <p:nvSpPr>
            <p:cNvPr id="76" name=""/>
            <p:cNvSpPr/>
            <p:nvPr/>
          </p:nvSpPr>
          <p:spPr>
            <a:xfrm>
              <a:off x="395280" y="661788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160" y="631800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30200" y="612072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8680" y="632736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30920" y="613044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Hardware/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ara Multimí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A imagem e 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2016000" cy="15951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971640" y="4070520"/>
            <a:ext cx="3816360" cy="2608200"/>
            <a:chOff x="971640" y="4070520"/>
            <a:chExt cx="3816360" cy="260820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971640" y="4070520"/>
              <a:ext cx="381636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258920" y="5732280"/>
              <a:ext cx="3297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m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o processador é encaixado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m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- encaixe das memória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m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, a placa de vídeo (slot AGP)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mostra os slots PCI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059280" y="3213000"/>
            <a:ext cx="1441440" cy="144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3141720"/>
            <a:ext cx="1366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516720" y="4005360"/>
            <a:ext cx="204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995640" cy="3995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41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 responsável por enviar os sons gerados por dispositivos de áudio para 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und Blas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oi uma das primeiras placas de som no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580000" y="2631960"/>
            <a:ext cx="3419280" cy="3101760"/>
            <a:chOff x="5580000" y="2631960"/>
            <a:chExt cx="3419280" cy="3101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580000" y="2631960"/>
              <a:ext cx="3419280" cy="31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580000" y="4647960"/>
              <a:ext cx="10792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8920" y="4647960"/>
              <a:ext cx="11523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nentes/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or A/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or D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tetizador F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ART MI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amostrag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alização com 8 ou 16 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alização em mono ou estér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x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7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Conversor A/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or A/D (Analógico-Digital): Responsável pela digitalização dos sinais sono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, quando uma digitalização é feita, os dados ficam armazenados na memória principal (RAM), e tem-se a condição para gerar um arquivo com os resul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4221000"/>
            <a:ext cx="77770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Conversor D/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or D/A (Digital-Analógico) - recebe os dados digitalizados de sons e reconstitui os sinais analógicos origi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ois de passar pelo Mixer e pelo amplificador de áudio, os sinais analógicos são enviados para as caixas de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som possuem, além dos circuitos para digitalização de áudio e reprodução de sons digitalizados (conversores A/D e D/A), um circuito especial capaz de "imitar" com grande perfeição, os sons dos instrumentos music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DI - Musical Instruments Digital Interfac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circuito é composto por dois blo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tetizador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ART-MI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Sintetizador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 circuito que imita os sons dos instrumentos musicais, a partir de simples códigos de controle que indicam o tipo de instrumento, a nota musical, a duração, volume,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lmente, as placas de som possuem sintetizadores simples (Exemplo: Yamaha OPL2 e o OPL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mais sofisticadas utilizam outro métod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ave Table Synthes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usando uma memória ROM ou RAM R/W própria, na qual existem amostras digitalizadas de instrumentos musicais verdadei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UART 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espécie de interface serial que permite à placa de som comunicar-se com instrumentos MIDI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ical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strument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terfac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recurso é usado principalmente para a composição de músicas com o auxílio do compu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que sejam ligados ao computador instrumentos como teclados MIDI e guitarras MI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Taxa de amostr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âmetro que está diretamente ligado à qualidade do sinal sonoro digitaliz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Número de amostras feitas no sinal analógico a cada segundo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que seja possível captar os sons mais agudos, é preciso usar taxas de amostragem bem altas. Para obter um som digitalizado de alta fidelidade, são usadas, por exemplo, 44.000 amostras por segundo (taxa de amostragem = 44 kH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ceitável usar taxas de amostragem menores, desde que seja tolerável um som de menor qualidade (em torno de 10 kHz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Digitalização com 8 ou 16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tigamente as placas de som usavam conversores A/D e D/A de 8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efeitos práticos, o resultado era uma distorção sonora da ordem de 0,5%, manifestada na forma de um ruído que acompanhava o s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s de som modernas possuem conversores de pelo menos 16 bits, e são muito mais precisas. O ruído também existe em placas desse tipo, mas é praticamente imperceptível ao ouvido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Digitalização em mono ou estére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som atuais possuem dois canais sonoros independentes, podendo portanto operar em estéreo e mo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 característica (estéreo), em uma digitalização em 16 bits feita com uma taxa de 44 kHz, resulta em um som com a mesma qualidade dos CDs de mú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Hardware para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d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de 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i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som podem captar sons vindos de várias entradas analógicas. Cada um desses sons, pode ser digitalizado ou enviado para os alto-fal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entradas analógicas são: CD-Áudio, Microfone e Line 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ravés do circui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x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s sons podem ser reunidos seleti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ixer também é capaz de enviar o som para as caixas (passando pelo amplificador existente na placa de som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ons também podem ser provenientes do Sintetizadores FM e Conversor D/A, por exempl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ereofonia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52880" y="6384960"/>
            <a:ext cx="3781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http://www.filmebase.pt/Aplic/estere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43280" y="2565360"/>
            <a:ext cx="3241440" cy="3240000"/>
            <a:chOff x="2843280" y="2565360"/>
            <a:chExt cx="3241440" cy="324000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2843280" y="2565360"/>
              <a:ext cx="3240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916360" y="4508640"/>
              <a:ext cx="3168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imagem estereofô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ereofonia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som são capazes de reproduzir sons mono e estéreo. Para isso, são utilizados 2 canais de áudio independ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feito da estereofonia: possibilita obter-se a sensação de que os sons são gerados no mesmo recinto onde o computador e o usuário est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svantagem neste caso, é que o espaço necessário para armazenar esses sons será pelo menos duas vezes ma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ereofonia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m considerado de melhor qualidade é aquele obtido com uma amostragem de 44 kHz, 16 bits e estér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a é a configuração usada nos CDs de mús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segundo de som neste caso, usa 170 KB para seu armazena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m de menor qualidade é aquele que usa uma configuração de digitalização feita a 8 kHz, com 8 bits e em mo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segundo de som ocupa 8 KB e se assemelha ao som de uma voz no telefone ou uma rádio 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sar das placas de som serem produzidas por diversos fabricantes seguindo uma padrão, diferenças podem ser encontradas em vários modelos, tais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figuração interna (especificações técnicas da plac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ção de entradas, tanto na parte traseira como na parte inter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placas que podem ser instaladas em slots ISA (placas antigas) e PCI (placas mais atuai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mas placas são tão sofisticadas que vêm com uma painel de controle que pode ser encaixado na parte frontal do gabinete do comput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565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óximos passo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s demais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3320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921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 responsável por enviar as imagens geradas no computador para a tela do mon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/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r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quema d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 (VGA, SV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d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843280" y="4195800"/>
            <a:ext cx="4608360" cy="2547360"/>
            <a:chOff x="2843280" y="4195800"/>
            <a:chExt cx="4608360" cy="25473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3419640" y="4195800"/>
              <a:ext cx="319068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843280" y="6284160"/>
              <a:ext cx="46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aca de vídeo 3D da Asus, modelo Extreme AX800XT PE/2DHTV, que utiliza o barramento PCI Express 16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3320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 Atu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CI Express (PCI-E), substituto dos barram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CI 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ripheral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mponent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terconnec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P 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celerated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raphic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adrão PCI-E trabalha com até 16X, (4000 MB/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92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Re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junto de linhas formadas por pixels na tela do monitor, considerando as posições horizontais e vertic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olução: 1024x768, 1024 pixels na horizontal e 768 na vertic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to maior for a quantidade de pixels, melhor será a definição da imagem n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solução pode ser configurada através do computador, via soft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necessário que a placa de vídeo tenha os drivers corretos instal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preciso verificar a resolução que a placa de vídeo e o monitor supor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oluções comuns: 800x600, 1024x768 e 1280x102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Esquema de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cores que cada placa de vídeo suporta: depende do número de bits/pix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que suporta 256 cores: 8 bits/pix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binações mais comuns em placas de vídeo: 16 bits/pixel (65.536 cores -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i Col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, 24 bits (16.777.216 cores) e 32 bits (4.294.967.296 cores -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rue Colo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O padrão VG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GA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phic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ray): padrão que representa a resolução do vídeo mais as cores suport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agens com resolução de 640x480 e 256 cores e 800x600 com 65.536 c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tível com padrões mais anti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4005360"/>
            <a:ext cx="77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O padrão SVG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VGA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pe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phic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r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drão encontrado em inúmeras placas de vídeo, capaz de representar várias resoluções (mais comuns as de 800x600 e 1024x76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VGA suporta praticamente todas as quantidades de cores existentes, inclusive com 32 b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Memória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s de vídeo SVGA: pelo menos 1 MB de memó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tigas placas (padrão VGA): 256 KB de memória, com resolução máxima de 800x600 com 65.536 c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ualmente: uma placa de vídeo com pelo menos 32 MB de memória (ou bem superior), para que seja possível rodar aplicações cotidianas com um mínimo de conforto vis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tipos de memória usadas costumam ser as encontradas para uso pelo computador (memórias SDRAM, DD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ciona menos cu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A imagem e 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ses necessár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Prim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o processador envia os dados ao barramento utilizado pelo vídeo (ISA, PCI ou AGP). Estes dados chegam ao chipset da placa de vídeo e lá são process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egun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o chipset envia os dados processados para a memória do vídeo, para guardar a imagem que será apresentada no mon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Terc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a imagem é transmitida para o conversor digital/analógico (DAC -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igital Analog Convert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, que converterá os dados da imagem (até então em formato digital) para um formato analógico, suportado pelo mon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1-29T02:17:28Z</dcterms:modified>
  <cp:revision>117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