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8A8-D4A5-4D98-B102-7F7D969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8A0-F5C6-4D7B-8627-6601E05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FA5-0C1F-4C07-AC83-F8E08865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DDD-8630-4562-AAFE-2EF963B1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CA65-C2C1-43A7-ADE3-55D22A3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4014-9778-4A91-A273-17F055AA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8BC-2A22-446B-9453-D8F5F09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DCD9-CEB7-4239-9DEB-619E12A7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88D8-D6E8-45AC-82F3-F1A35790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225D-9E79-4AD0-9B94-7A33C52E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09F-9EAF-4034-9590-247B235D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295-9189-410E-A3C3-56CC5AA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978E-8B4B-4DBF-B935-A261649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CF94-9860-432F-8436-4533F1C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547E-9439-49B2-8A40-11FD463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8DE-427B-4E9B-B141-8E43FED5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356C-2B65-46BF-95B6-81583999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864-B98F-4A76-BA99-C6DEBE67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407-4266-40A9-B18E-83B65990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401-8532-4245-AB51-6BBAAEC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3FB-EB7A-457D-947A-4780ABEE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4D2-93AD-40E1-95A9-2061BAC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54C-E31A-48B2-BD66-24B5444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F0D-40B1-4FD4-B485-64DC0CD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2F5C-96C6-42CC-8C7A-1E993FC8446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" name=""/>
          <p:cNvGrpSpPr/>
          <p:nvPr/>
        </p:nvGrpSpPr>
        <p:grpSpPr>
          <a:xfrm>
            <a:off x="108000" y="6192720"/>
            <a:ext cx="720720" cy="620640"/>
            <a:chOff x="108000" y="6192720"/>
            <a:chExt cx="720720" cy="620640"/>
          </a:xfrm>
        </p:grpSpPr>
        <p:sp>
          <p:nvSpPr>
            <p:cNvPr id="15" name=""/>
            <p:cNvSpPr/>
            <p:nvPr/>
          </p:nvSpPr>
          <p:spPr>
            <a:xfrm>
              <a:off x="1080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88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14256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14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14328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932-F463-43F3-AC65-2277722B3F1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1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24000" y="6092640"/>
            <a:ext cx="720720" cy="620640"/>
            <a:chOff x="324000" y="6092640"/>
            <a:chExt cx="720720" cy="620640"/>
          </a:xfrm>
        </p:grpSpPr>
        <p:sp>
          <p:nvSpPr>
            <p:cNvPr id="68" name=""/>
            <p:cNvSpPr/>
            <p:nvPr/>
          </p:nvSpPr>
          <p:spPr>
            <a:xfrm>
              <a:off x="324000" y="658944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4880" y="628956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58920" y="609228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400" y="629892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359640" y="610200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08000" y="3284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nceitos Bás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comunicação de dados que permite o transporte de múltiplos tipos de 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Rede Digital de Serviços Integrados (ISD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ificação dos 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s Discretas x Contí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ídias discretas (estáticas ou em blo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tas por itens de informação independentes do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ídia com dimensões unicamente espa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s, imagens, grá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não faz parte da semântica da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 operação de recuperação de uma mídia discr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áfego em raj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ificação dos 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s contínuas (dinâmicas ou dependentes do t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mpo ou a dependência temporal entre os itens de informação fazem parte da própria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ídia com dimensões tem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udio, vídeos, animaçõe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faz parte da semântica da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dependência temporal não for respeitada, o significado pode ser alt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termo usado para indicar que uma mídia contínua está sendo enviada e apresentada diretamente no destino à medida que é recebida (em tempo r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áfego CBR ou V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es de 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mídi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m apenas recursos presentes no sistema local para prover sistema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 local fornece todo o poder de processamento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pado com os dispositivos de captura e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crofones, câmera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ndo todas informações loc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utiliza potencialidades de armazenamento rem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es de 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mídi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inamento baseado em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ducação baseada em computador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 de Autoria 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es de 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mídia Distribu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am de infra-estrutura d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 o objetivo é fornecer serviços de comunicação à dist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, redes de distribuição de pacotes de áudio e vídeo, e-mail 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e modelos cliente-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andalo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m ser de alto custo para armazenamento de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ção de servidores permite o compartilhamento e armazenamento de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óximos pa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310" r="0" b="0"/>
          <a:stretch/>
        </p:blipFill>
        <p:spPr>
          <a:xfrm>
            <a:off x="1187280" y="2205000"/>
            <a:ext cx="74170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ificação dos Sistema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Per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Trans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ídia de Percep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Per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s humanos percebem inform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, audição, olfato, paladar, 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 informação é codificada em um comput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to, imagem vetorial, imagem matricial, áudio,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ídia de Apresen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meio é utilizado como dispositivo de saída ou entrada de informações em um comput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entrada 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ída: monitores, caixas de som, pa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: teclados, câmeras e microf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e a informação é armazen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os magnéticos, discos ópticos, fitas magnéticas, pa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ídia de Transmiss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Trans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meio é utilizado para transmitir d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ios físicos (cabos metálicos, fibras ópticas, ondas de rá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ão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ou conjunto de funções que suportam a provisão de um serviço multimídia específico para o usuári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áudio-videoco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nologi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campos tecnológicos específicos que habilitam aplicaçõe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.: compressão de ví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taform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 equipado com hardware multimídia capaz de suportar software de aplicaçõe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PC com placas de áudio e vídeo, CD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Plata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ga: onde a aplicação será execu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: onde a aplicação será desenvol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ria: Programação e Integ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ção do material: Som, Imagem, Animação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taform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ílias de Plataf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difun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tivos - dispositivos - drives - S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drão MPC/MP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poder de process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rramentas mais sofist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iculdade em padron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da a melhor e mais rica em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o c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12-18T16:14:16Z</dcterms:modified>
  <cp:revision>5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