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9AB-2F6D-41CD-9BB2-DA77EBC7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E67-C86D-48AC-8855-973DA416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E4D-1B1A-4126-97CB-0547EA1B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DAF-9183-48A8-9F71-C2CCE40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4273-C336-44E9-B651-21A4974A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C69F-BA54-40B9-9E81-1C6EB55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8FE-362F-4550-A70B-8EEC00D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47CB-1992-4E3A-B812-C0B2ED7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6641-DBB0-491A-A81F-F1D4724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D72-3FE5-4117-8F79-F7995988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7025-D858-4D85-BD0E-42B768F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0A6-3D03-479E-8C2C-515D34D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C90C-2B6B-4CDA-972B-8ECA044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940-1574-4E33-A035-4FD448F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3ED-647D-48EA-87E2-AB05A7E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328D-9792-46BD-9F44-766D9792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E503-9766-41FD-A9F7-461546B4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56A-6586-4AC3-85BC-5A2B8E7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FB1-9783-4FD4-A761-2C22F66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A6E-76F5-4F72-A742-83038A29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F9D-C615-49DE-9576-C688362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D01-8E38-4905-8ECE-7DE93C4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EDE-6F5F-48DE-B945-1D0B099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8D6-3C25-4EE7-B46F-54802A65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E45-EA85-4E1E-AEA7-AF1771C3495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108000" y="6192720"/>
            <a:ext cx="720720" cy="620640"/>
            <a:chOff x="108000" y="6192720"/>
            <a:chExt cx="720720" cy="620640"/>
          </a:xfrm>
        </p:grpSpPr>
        <p:sp>
          <p:nvSpPr>
            <p:cNvPr id="15" name=""/>
            <p:cNvSpPr/>
            <p:nvPr/>
          </p:nvSpPr>
          <p:spPr>
            <a:xfrm>
              <a:off x="1080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88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14256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14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14328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983-6577-4ACC-99F2-345A7B827E6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1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24000" y="6092640"/>
            <a:ext cx="720720" cy="620640"/>
            <a:chOff x="324000" y="6092640"/>
            <a:chExt cx="720720" cy="620640"/>
          </a:xfrm>
        </p:grpSpPr>
        <p:sp>
          <p:nvSpPr>
            <p:cNvPr id="68" name=""/>
            <p:cNvSpPr/>
            <p:nvPr/>
          </p:nvSpPr>
          <p:spPr>
            <a:xfrm>
              <a:off x="324000" y="658944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4880" y="628956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58920" y="609228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400" y="629892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59640" y="610200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08000" y="3284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nceit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evolução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meir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ticulação de Várias Linguagens e Míd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gund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ação de uma Nova Mídia e de uma Nova  Lingu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ceir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ação de uma Nova Forma de Aprender, Trabalhar, Comunicar-se, Divertir-se, …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meiro Momento: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ticulação de Várias Linguagens e Míd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Alfa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o Li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Estáticas (Fotogra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(Efeitos Especiais, Discos, Voz, Rádi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Dinâmicas (Vídeo, Cinema, 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ção de Várias Míd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Impr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vro, Revista, Jorna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Son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co, Rádi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Visuai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áfico, Desenho, Pintura, Fotografi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Visuais Dinâ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imação, Cinema, Vídeo, TV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306600" y="4043520"/>
            <a:ext cx="335304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ossibilidad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Um Bit é um B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gundo Moment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Criação de uma Nova 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io de comunicação multimídia que está encontrando uma linguagem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ipertex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 Multimídia, Hipertexto é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ipermíd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tos para o século XXI obtidos no final de século XX (Rádio e Vídeo na Re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12000" cy="2577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252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es são convertidos para uma representação com um número fixo d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CII, EBCDIC, 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ção, O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co bidimensional de pixel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icture eleme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ixel é representado por um número fixo de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 RGB, Y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Im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âmera Fotográfica, Scann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Tipicamente Ana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igital, quando necessário para integração com mídias digitais, através de digitalização do Sinal Analógico por amostr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f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Tipicamente Ana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âmeras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eve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a Informação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, quando digitalizadas, geram uma quantidade de informação relativament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ssã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Obs.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nal analógico perde qualidade como resultado de distorções do sinal. Com um sinal digital tal fenômeno acarreta erro, com possível corr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3744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gitalização da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42483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sos fundamentais para a digitalização de informações analóg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stragem/Discret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mostras discretas representam a informação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ntiz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s amostras são convertidas à forma nu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67280" y="260280"/>
            <a:ext cx="4176360" cy="6165720"/>
            <a:chOff x="4967280" y="260280"/>
            <a:chExt cx="4176360" cy="61657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239440" y="260280"/>
              <a:ext cx="3902040" cy="48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rcRect l="0" t="0" r="3908" b="3780"/>
            <a:stretch/>
          </p:blipFill>
          <p:spPr>
            <a:xfrm>
              <a:off x="4967280" y="3618720"/>
              <a:ext cx="4176360" cy="280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1187280" y="6237360"/>
            <a:ext cx="3816360" cy="33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Lucida Sans Unicode"/>
              </a:rPr>
              <a:t>Importante: Teorema de Nyq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36360" y="1844640"/>
            <a:ext cx="914400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35120" y="1989000"/>
            <a:ext cx="7329600" cy="3674880"/>
            <a:chOff x="1635120" y="1989000"/>
            <a:chExt cx="7329600" cy="3674880"/>
          </a:xfrm>
        </p:grpSpPr>
        <p:grpSp>
          <p:nvGrpSpPr>
            <p:cNvPr id="182" name=""/>
            <p:cNvGrpSpPr/>
            <p:nvPr/>
          </p:nvGrpSpPr>
          <p:grpSpPr>
            <a:xfrm>
              <a:off x="1979640" y="2301840"/>
              <a:ext cx="2017800" cy="2840040"/>
              <a:chOff x="1979640" y="2301840"/>
              <a:chExt cx="2017800" cy="284004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2301840"/>
                <a:ext cx="2017800" cy="28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 txBox="1"/>
              <p:nvPr/>
            </p:nvSpPr>
            <p:spPr>
              <a:xfrm>
                <a:off x="1979640" y="2301840"/>
                <a:ext cx="2017800" cy="28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384800" y="2316240"/>
              <a:ext cx="1987560" cy="2840040"/>
              <a:chOff x="4384800" y="2316240"/>
              <a:chExt cx="1987560" cy="2840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4800" y="2316240"/>
                <a:ext cx="1987560" cy="28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 txBox="1"/>
              <p:nvPr/>
            </p:nvSpPr>
            <p:spPr>
              <a:xfrm>
                <a:off x="4384800" y="2316240"/>
                <a:ext cx="1987560" cy="28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527160" y="5132520"/>
              <a:ext cx="23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Os pixels são convert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à forma numé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0600" y="5138640"/>
              <a:ext cx="263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As amostras discretas (pixel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são ponde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5120" y="5143680"/>
              <a:ext cx="256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A imagem é amostrada fa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à matriz de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9160" y="1989000"/>
              <a:ext cx="145332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AMOSTRAG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046240"/>
              <a:ext cx="150516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1920" y="1989000"/>
              <a:ext cx="14320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PONDE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10400" y="2343240"/>
              <a:ext cx="2254320" cy="2800440"/>
              <a:chOff x="6710400" y="2343240"/>
              <a:chExt cx="2254320" cy="280044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10400" y="2343240"/>
                <a:ext cx="2254320" cy="28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 txBox="1"/>
              <p:nvPr/>
            </p:nvSpPr>
            <p:spPr>
              <a:xfrm>
                <a:off x="6710400" y="2343240"/>
                <a:ext cx="2254320" cy="280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71360" y="2276640"/>
            <a:ext cx="1808280" cy="3481200"/>
            <a:chOff x="171360" y="2276640"/>
            <a:chExt cx="1808280" cy="3481200"/>
          </a:xfrm>
        </p:grpSpPr>
        <p:grpSp>
          <p:nvGrpSpPr>
            <p:cNvPr id="198" name=""/>
            <p:cNvGrpSpPr/>
            <p:nvPr/>
          </p:nvGrpSpPr>
          <p:grpSpPr>
            <a:xfrm>
              <a:off x="171360" y="2276640"/>
              <a:ext cx="1808280" cy="2922120"/>
              <a:chOff x="171360" y="2276640"/>
              <a:chExt cx="1808280" cy="29221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360" y="2276640"/>
                <a:ext cx="1808280" cy="29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 txBox="1"/>
              <p:nvPr/>
            </p:nvSpPr>
            <p:spPr>
              <a:xfrm>
                <a:off x="171360" y="2276640"/>
                <a:ext cx="1808280" cy="29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5760" y="5237640"/>
              <a:ext cx="153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Imagem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345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gitalização da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lefonia, Voice-mai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ferência de voz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ail, 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xto e Im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oz e Ví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eoconferênc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mídia mail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Int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, Teleshopp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ban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de La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sob demanda, Televisão Interativ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2640" y="1989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ec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D-ROM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s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porativo/Empresarial: Demonstrações e Apresen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ncos de dad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ões (jog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inter-pessoal (videoconferência, reconhecimento e síntese de voz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95640" y="5373720"/>
            <a:ext cx="4191120" cy="5335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ídias eletrônicas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versus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 mídias convenciona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ita (textos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o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áficos/Imagen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v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s e Animaçõe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inema, Televi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ns e Música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á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ídias eletrôn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Imagens e 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-Co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Interação com 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Sistemas multimídia requerem alto desempenho - desaf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 de infor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 de infor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o fluxo em tempo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álculos em tempo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cilidade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Sol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mais pot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s mai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s de com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s de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rcos da Evolução da Tecnologia da Inform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gramas armazenados em memória (Von Neuman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ns simbólicas de programação (FORTRA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integrados (chip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es e sistemas multiusuá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rminais gráfic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processadores CISC e RIS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e armazenamento óp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des de computadores/satélites de comun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faces gráficas de usuários/interatividade (Window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Multimíd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World Wide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Estud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, representação e apresentação de objetos multimídia (áudio, imagens, animações e víde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e recuperação de objeto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ão de objetos multimídia em form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é ~19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ucos  ouviram  falar 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~ 1990 até ~19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via-se falar, mas ninguém sabia o que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~1994 em 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do o mundo pensa que s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nnevar Bush - Sistema Memex (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1598400" cy="2228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4483080" cy="3365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atos a Destaca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grafia Dadaísta (1923)                        El Lissitsky (192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1814760" cy="23619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187440" cy="25210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1430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684080"/>
            <a:ext cx="7715160" cy="36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gei Eisenstein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ctor Vasarely (19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343400" cy="1911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1560600" cy="2286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scia Reichardt (1968)            Richard B. Fuller (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125440" cy="27432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057400" cy="32641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as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1 (Onte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 standalone com Placa de Som e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2 (Hoj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es Multimídia, Multi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3 (Amanhã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idade Virtual: Redes Multimídia com periféricos espe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2-18T11:44:27Z</dcterms:modified>
  <cp:revision>5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