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B68-5FA4-4CAE-8F09-044A960D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102-FDB2-4167-9DD1-60A19FFA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351-7BBD-4AA8-B993-284F8FEB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066-BEC0-43C3-B7A6-43FA5A37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A978-A52C-4E7C-AE29-78809F0F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AA41-D06C-419A-BF9D-14EA802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615-C537-49A8-A387-92CA409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E81-9C3B-4F65-8DB8-2900D0B3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1B64-CA99-42DF-9E94-B2FD146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9FCB-1023-4E7D-B4B0-474BBEF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55BA-BCB3-4B79-90BC-1185019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C52-7ECD-41F5-BC22-F42CABB7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1F5-CF43-492C-9645-1F9B77F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C499-3924-443C-AC2A-096144F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1046-B943-4AA8-9380-2D01CE3C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F5E8-CA06-4771-B993-931F8CE2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EF50-028E-4474-89FF-2889A0AE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355-92E4-4DF5-AFBD-D8C6EDE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74E-4394-418D-BCA9-E08D52CF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3FB-3CE8-4CD6-931E-5E63EBF8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BAB-776F-457B-8D32-04FD7B6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55F-29FF-49B1-8546-ADB93347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084-E32E-4079-8C2B-76368D1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1DF-2570-4173-A92A-7F088CE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B36-076C-4284-BC69-0C50C71C086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2120760"/>
            <a:ext cx="900000" cy="20671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000" cy="2133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900000" cy="201636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932360" y="1951200"/>
          <a:ext cx="3183120" cy="205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951200"/>
                    <a:ext cx="31831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40AB-6661-4AB8-959C-EF547B2FDE3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2924280"/>
            <a:ext cx="8159760" cy="73080"/>
            <a:chOff x="228600" y="2924280"/>
            <a:chExt cx="8159760" cy="73080"/>
          </a:xfrm>
        </p:grpSpPr>
        <p:sp>
          <p:nvSpPr>
            <p:cNvPr id="59" name=""/>
            <p:cNvSpPr/>
            <p:nvPr/>
          </p:nvSpPr>
          <p:spPr>
            <a:xfrm>
              <a:off x="228600" y="2927520"/>
              <a:ext cx="4199040" cy="69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56000" y="2923920"/>
              <a:ext cx="4032360" cy="712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2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826920" y="1917720"/>
          <a:ext cx="3024360" cy="20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917720"/>
                    <a:ext cx="302436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63960" y="3789360"/>
          <a:ext cx="2871720" cy="20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3960" y="3789360"/>
                    <a:ext cx="2871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APRESENTAÇÃO DA DISCIP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11280" y="1844640"/>
            <a:ext cx="43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stemas Multimídia</a:t>
            </a:r>
            <a:endParaRPr b="0" lang="en-US" sz="1800" spc="1" strike="noStrike">
              <a:ln w="1260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rão consideradas 3 notas (com pesos iguais) para cálculo da média final na disciplina, a sa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ª - Avali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ª -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ª - Projeto: com plano de trabalho, seminário de apresentação, demonstração, relatório, código fonte, document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 obrigatória para a discipl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verá reposição apenas para os alunos que faltarem às avaliações 1 ou 2. Não haverá substituição de menor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jeto será realizado em grupos de no máximo 4 e no mínimo 3 alunos, sendo atribuídas notas individuais para os projetos (em função do desempenho individual de cada participa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sultados Esper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77724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ver o aluno de uma visão geral dos sistemas Multimídia e suas aplic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ughan, T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edia Making it Wor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cGraw-Hill, 20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new, P. W., Kellerman, A. S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istributed Multimedia: Technologies, Applications, and Opportunities in the Digital Information Industry. A Guide for Users and Provider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ddison Wesley, 199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gland, E., Finney, A., Finney, A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naging Multimed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ddison Wesley, 199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ibson, J. D., Berger, T., Lindbergh, D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igital Compression for Multimedia: Principles and Standard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organ Koufman, 199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erlow, I. V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he Art of 3-D Computer Animation and Imag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John Wiley &amp; Sons, 1996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ristof, R., Satran, A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Interactivity by Design : Creating &amp; Communicating With New Med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Hayden Books, 1995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lho, L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mputação Gráfica e Processamento de Image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cGrawHill, 199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aula Filho, W. de P.,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Multimídia: Conceitos e Aplicaçõe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, LTC Editora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uford, J. F. K.,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Multimedia Systems</a:t>
            </a:r>
            <a:r>
              <a:rPr b="0" i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ddison- Wesley, 199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n, A., Sitara, D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edia Servers: Applications, Environments, and Design (Multimedia Information and Systems)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organ Kaufmman, 199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uo, Franklin F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edia Communications: Protocols &amp; Applicatio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Prentice Hall, 19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ughan, T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ídia na Prá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akron Books, 199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350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multimídia será a mais poderosa ferramenta de apresentação porque será capaz de explorar todos os sentidos.”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ouglas E. Wolfgra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20720" y="3213000"/>
            <a:ext cx="633600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18920" y="3284640"/>
            <a:ext cx="6335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que é Multimíd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Multimídia 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e sistemas em que a comunicação entre homem e computador se dá através de múltiplos meios de representação de informação (p.ex.: áudio, imagem estática, animação, gráficos e texto)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 inform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so de múltiplas mídias       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      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Int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5013360"/>
            <a:ext cx="1584360" cy="720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r as tecnologias básicas necessárias ao desenvolvimento de sistemas multimíd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as diversas áreas de aplicação, técnicas, metodologias e ferramentas de desenvolv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utir o estado da arte, perspectivas de evolução e desafios a serem venc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iciar o contato com os aspectos relacionados à criação de sistema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nologias e aplicaçõe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 e software par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e Processamento de Áudio - Música e Voz, Imagem 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mídia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gonomia de interface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de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ência de produto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ções do futuro - Tend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658332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etodologia, Técnicas 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2204640"/>
            <a:ext cx="7355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s expositiv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s Práticas em Laborató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989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boratório de Informá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ínua, mediante avaliações individuais e trabalhos em laborató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os interativos de pesquisa extra-classe individual e em gru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os de pesquisa intra-classe individual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 </cp:lastModifiedBy>
  <dcterms:modified xsi:type="dcterms:W3CDTF">2006-12-04T13:32:40Z</dcterms:modified>
  <cp:revision>31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