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A2C-7C52-4BC0-9627-3257ADA1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0C5-F84E-45F4-9E38-0258E151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F1F3-2154-4F22-AD36-4B7EE5CE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F72-1D10-4FBB-930E-D2CEBE4E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EAAF-72C8-415A-B1D4-A6D488DA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03A-4812-4EA1-95CA-EB326D59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B3AD-8C63-41BD-9C23-3B13F686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2DE-0511-45CE-BBE4-9513C934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5C0-D2AC-46CA-ACA5-C3F2F1F7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3C4-18F5-4514-9AEE-98CDCC71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25E-19E6-4EE3-B43A-00952153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139-35CB-4EAA-8A40-EFDEBEB4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6e6e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54320" y="7380360"/>
            <a:ext cx="23464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99999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8920" y="7380360"/>
            <a:ext cx="3194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99999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7380360"/>
            <a:ext cx="23464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9999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DE30D-77A9-49F2-940D-8DCCF8789055}" type="slidenum">
              <a:rPr b="0" lang="en-GB" sz="1200" spc="-1" strike="noStrike">
                <a:solidFill>
                  <a:srgbClr val="99999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6e6e6"/>
                </a:solidFill>
                <a:latin typeface="Times New Roman"/>
              </a:rPr>
              <a:t>Inteligência Artificial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rador de Árvores de Deci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tilizando o algoritmo ID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lton Céz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ugo Par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más de Bar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6e6e6"/>
                </a:solidFill>
                <a:latin typeface="Times New Roman"/>
              </a:rPr>
              <a:t>Introdução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Visualizar a representação textual da árvore;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Visualizar a representação gráfica da árvore;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Executar a árvore de decisão;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Testar a árvore de decisão contra outra base de dados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6e6e6"/>
                </a:solidFill>
                <a:latin typeface="Times New Roman"/>
              </a:rPr>
              <a:t>Algoritmo ID3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ductive Decision Tree;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esenvolvido na Universidade de Sidney, por J. Ross Quinlan, em 1975 (apresentado no livro Machine Learning, vol. 1);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era uma árvore de decisão a partir de uma base de dados e a utiliza para classificar futuros elementos que venham a surgir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6e6e6"/>
                </a:solidFill>
                <a:latin typeface="Times New Roman"/>
              </a:rPr>
              <a:t>Algoritmo ID3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scolhe primeiro os atributos que melhor dividem as amostras da base de dados, escolhas estas baseadas em duas propriedades estatísticas: entropia e ganho;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 entropia mede o grau de impureza de um sistema, ou seja, o quão desordenado o mesmo está;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 ganho mede o peso que determinado atributo tem para classificar um elemento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6e6e6"/>
                </a:solidFill>
                <a:latin typeface="Times New Roman"/>
              </a:rPr>
              <a:t>Algoritmo ID3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9920" y="1414080"/>
            <a:ext cx="9072360" cy="61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Se a base de dados tem entropia zero, cria-se um nó folha com o valor da classificação que restou e retorna;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Seleciona-se o atributo com maior ganho e cria-se um nó na árvore para o mesmo;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Se N é nulo, então este será o nó raiz; caso contrário, N será o pai deste nó;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Para cada possível valor V, deste atributo T: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 algn="just">
              <a:lnSpc>
                <a:spcPct val="93000"/>
              </a:lnSpc>
              <a:spcAft>
                <a:spcPts val="1137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Cria-se um subconjunto da base de dados, onde T=V;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 algn="just">
              <a:lnSpc>
                <a:spcPct val="93000"/>
              </a:lnSpc>
              <a:spcAft>
                <a:spcPts val="1137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Chama-se o algoritmo recursivamente com o subconjunto da base de dados e o nó criado.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6e6e6"/>
                </a:solidFill>
                <a:latin typeface="Times New Roman"/>
              </a:rPr>
              <a:t>Demonstração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lton 20311030</dc:creator>
  <dc:description/>
  <dc:language>en-US</dc:language>
  <cp:lastModifiedBy/>
  <cp:revision>0</cp:revision>
  <dc:subject/>
  <dc:title/>
</cp:coreProperties>
</file>