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04A8-ED98-4171-9E5A-05740E62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19F4-AEA8-4056-B2D3-42DF379A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864A-94CF-4989-9885-B9E6362F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68D3-61E7-4B48-A88B-2A9E5F5E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D56-4414-417E-A850-EC10AAFE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E46-30C3-4587-98F3-9EA69322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5880-58A2-43D0-97EA-05CF092C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615-DA62-44D2-AED3-113AF86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627-7C8E-4042-A2C1-2A4C719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7F53-2D5B-4EF9-82F7-7A0ED00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79B-1A4A-4E29-B976-CC5C63B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D483-2E0B-4A71-B894-D99CF224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764-C206-4A1F-9294-E0761E67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281-4667-4E89-B368-C5E9E3A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D0EF-CBDC-4FC1-B25E-9B5AF79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70A-878C-4ED3-ADEE-564683D3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21A-F5FE-41F7-B0E4-14353281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5B9C-E691-40C9-8C39-7B8408C0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60D9-2AF9-4FA9-9827-02A0934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A95B-AA49-464C-9AE7-CA03118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BA5A-637C-4E8F-8C91-3A7C9BEF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6CF0-8024-492D-8C1E-E72BF1C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0039-3094-4FC0-8AF9-1E19FF5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CD99-5C35-473D-883D-56A4AF7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1B75-53EE-4CAD-B403-A0865455C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7290-CDD0-49EB-95E8-599FAB267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iraf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o: Flávio Roberto Sa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ávio Vinícius Dini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nícius Ferraz Camp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G convergiu rapi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ós a execução, a maioria das girafas estão adaptadas ao me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lturas estão próximas às ár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r os conhecimentos adquiridos em 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o estudo sobre 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étodo de simular a ação de evolução dentro de um computador. Neste uma população de tamanho fixo evolui usando os conceitos de mutação e cruz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população inicial de Girafas, é gerada aleatoriamente. Us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giraf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nho médio da giraf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ância desse tamanh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Ev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-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s melhores Girafas, que são as que estão com menos f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rafas selecionadas são formados cas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feito o cruzamento dos cromosso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a-se em um ponto aleató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casal gera dois novos fil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lgoritmo de mutação é a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filhos substituem os mais fracos da popul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Mu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ada fil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 um dos bits do cromoss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dor do mundo das girafas onde são aplicados os conceitos descritos anterior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heu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selecion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reprod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mente configur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6:10:06Z</dcterms:created>
  <dc:creator>Gustavo Wagner</dc:creator>
  <dc:description/>
  <dc:language>en-US</dc:language>
  <cp:lastModifiedBy>Gustavo Wagner</cp:lastModifiedBy>
  <dcterms:modified xsi:type="dcterms:W3CDTF">2006-06-12T17:16:53Z</dcterms:modified>
  <cp:revision>5</cp:revision>
  <dc:subject/>
  <dc:title>Slide 1</dc:title>
</cp:coreProperties>
</file>