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F241-2C01-4D3D-98A4-115D5B43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E2F3-FD16-4189-95BE-4E5F04B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7B58-CB20-49C8-9988-DFB3C4E7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2422-67EB-4460-B233-6130712E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2591-8B3F-4F92-9F75-4C34CDEA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B554-4D21-4173-9A47-52CC6829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4431-7F32-4F15-8FFD-F6DABF06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BA1C-C779-4E87-99AE-FDC1B07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7C3B-55CD-4EE5-8797-4E7DB45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AB2D-D5A7-4BD6-8445-8A9F0FF8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C413-F958-4784-9EB7-CB52F9B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9787-CF8D-4E75-9646-881EF720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9261-CB6A-47B8-A71C-126BF691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4700-98AA-4D16-A005-20AA794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035D-777D-4DE6-9193-8877ED90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C045-D3CD-48E2-BB17-3DC9C202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1BE8-0C7C-4473-85AF-50E6A4BD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61E0-CF84-4205-8C25-0DD998E4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3431-0743-42FF-9AE6-2FA69C42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1759-792A-48B4-B69F-4B149AB9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C371-D707-478D-9A39-BDCCAD6A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C5FE-A2B9-4486-B8ED-FEE488A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34D1-2DA9-4E93-802B-7305087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E120-D704-4D79-A2A0-A8F68A2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2BE-0957-49B7-934A-DBBCCD721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9EB0-599C-4F4D-A045-02C43D7D2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iraf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upo: Flávio Roberto Sa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ávio Vinícius Dini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nícius Ferraz Camp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G convergiu rapid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ós a execução, a maioria das girafas estão adaptadas ao me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lturas estão próximas às árv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 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r os conhecimentos adquiridos em 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r o estudo sobre 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 Gen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método de simular a ação de evolução dentro de um computador. Neste uma população de tamanho fixo evolui usando os conceitos de mutação e cruzam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população inicial de Girafas, é gerada aleatoriamente. Us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girafa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anho médio da giraf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ância desse tamanh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: Ev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iona-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s melhores Girafas, que são as que estão com menos f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girafas selecionadas são formados cas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feito o cruzamento dos cromosso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a-se em um ponto aleató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casal gera dois novos fil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lgoritmo de mutação é apl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filhos substituem os mais fracos da popul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ísticas: Mu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ada fil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 um dos bits do cromosso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dor do mundo das girafas onde são aplicados os conceitos descritos anterior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heu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selecion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 implementação de mais reprod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mente configur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ra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6:10:06Z</dcterms:created>
  <dc:creator>Gustavo Wagner</dc:creator>
  <dc:description/>
  <dc:language>en-US</dc:language>
  <cp:lastModifiedBy>Gustavo Wagner</cp:lastModifiedBy>
  <dcterms:modified xsi:type="dcterms:W3CDTF">2006-06-12T17:16:53Z</dcterms:modified>
  <cp:revision>5</cp:revision>
  <dc:subject/>
  <dc:title>Slide 1</dc:title>
</cp:coreProperties>
</file>