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E2-19BC-4A93-8E5A-39561BEA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0F9-68E4-44AE-8197-2E41BDB2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DC8-7582-4D1C-9CBE-6EFD31FB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9CF-4299-4240-B46D-779B2C52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8B82-08EC-45F1-84CC-824D970C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799B-D10C-48E7-B51A-AB048C2A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549-8273-4B6E-BB94-3CD5EADE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FBB-E9AC-4626-BAF2-A2754A9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837-500E-4ABE-8CB8-B7A4B6CB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1AE9-FD98-495D-A9B9-2DD7BF1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EA42-E725-4EE2-A0F2-9B73171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0EF-2E26-499B-90E4-4399D513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21A-4B1A-499D-8C86-4EDF3E3C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925D-3648-47DC-BC4C-26B9DDC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01D8-7071-438E-8E3A-0ABD531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6F78-A303-4411-A879-5588DD95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AFDE-E84D-4A6A-B268-D21F129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F46-4D1C-4E0A-AB58-BC0028DC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2C2-2DC3-4672-9201-8F5DB676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B24-F26F-4F12-9B1C-A3596A1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125-6D06-46EE-8A1E-3BFED850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D16-68C2-4652-B270-F836C83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0E5-3772-4776-B9DE-4E91F6E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C21-3ECF-44E3-959D-8F6369D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00EF-CB6F-4B0A-96A3-F2689A6718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C6C3-25FC-441F-8A60-BBC46686BE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fomoney.com.br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Regra" TargetMode="External"/><Relationship Id="rId2" Type="http://schemas.openxmlformats.org/officeDocument/2006/relationships/hyperlink" Target="http://pt.wikipedia.org/wiki/Informa&#231;&#227;o" TargetMode="External"/><Relationship Id="rId3" Type="http://schemas.openxmlformats.org/officeDocument/2006/relationships/hyperlink" Target="http://pt.wikipedia.org/w/index.php?title=Problema&amp;action=edit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dbbd71"/>
                </a:solidFill>
                <a:latin typeface="Arial"/>
              </a:rPr>
              <a:t>Bolsa De Valor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0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istema Especialista Baseado em Reg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24764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857760" y="6257880"/>
            <a:ext cx="51339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ugusto Breno e Diogo Vilar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azo de Invest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fil do 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95280" y="271620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egundo o especialista, para investir em ações é necessário conscientizar-se de que o investidor “não pode precisar” do dinheiro investido enquanto ele estiver no mercado. Esta variável define o quanto o usuário está disposto a esperar pelo retorno do seu investimento (Investimento de Longo ou Curto Praz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487692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Também segundo o especialista, o fator importan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a tomada de decisão é saber qual o perfil do investidor. Existem investidores mai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servador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vestem apenas quando seguidos de certezas), e os mai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riscado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ão mais “frios”, e topam correr riscos para surpreender – ou nã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bjetivo do 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95280" y="2778120"/>
            <a:ext cx="7315200" cy="6426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efine se o usuário deseja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comprar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ou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vender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uma ação. As outras variáveis são analisadas de acordo com este obje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876920"/>
            <a:ext cx="7315200" cy="11912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Representa os possíveis resultados que o sistema responderá ao usuário após analisar suas respostas. O sistema poderá sugerir que o usuário não deve comprar determinada ação, ou que deve esperar mais um pouco para vender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2895480"/>
          <a:ext cx="7238880" cy="21686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das de Bollin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Índice de Força Relati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C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cilador Estocás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i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09480" y="2819520"/>
          <a:ext cx="8001000" cy="2901960"/>
        </p:xfrm>
        <a:graphic>
          <a:graphicData uri="http://schemas.openxmlformats.org/drawingml/2006/table">
            <a:tbl>
              <a:tblPr/>
              <a:tblGrid>
                <a:gridCol w="2190960"/>
                <a:gridCol w="1886040"/>
                <a:gridCol w="1885680"/>
                <a:gridCol w="203832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z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r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onserva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Arrisc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ão Comp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ere mais p/ comp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ão V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cc66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ere mais p/ ven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00"/>
                        </a:gs>
                        <a:gs pos="100000">
                          <a:srgbClr val="f8a5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Árvore de Decis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229360" y="1447920"/>
            <a:ext cx="55872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Praz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5640" y="2106720"/>
            <a:ext cx="72072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Perfi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2" idx="2"/>
            <a:endCxn id="213" idx="0"/>
          </p:cNvCxnSpPr>
          <p:nvPr/>
        </p:nvCxnSpPr>
        <p:spPr>
          <a:xfrm flipH="1">
            <a:off x="4627080" y="1684080"/>
            <a:ext cx="882000" cy="42300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5508360" y="1684440"/>
            <a:ext cx="1083240" cy="396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522680" y="1666800"/>
            <a:ext cx="50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cur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160020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long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3" idx="2"/>
            <a:endCxn id="220" idx="0"/>
          </p:cNvCxnSpPr>
          <p:nvPr/>
        </p:nvCxnSpPr>
        <p:spPr>
          <a:xfrm flipH="1">
            <a:off x="3516120" y="2342880"/>
            <a:ext cx="1111680" cy="541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13" idx="2"/>
            <a:endCxn id="222" idx="0"/>
          </p:cNvCxnSpPr>
          <p:nvPr/>
        </p:nvCxnSpPr>
        <p:spPr>
          <a:xfrm>
            <a:off x="4627080" y="2342880"/>
            <a:ext cx="1389960" cy="60084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3014640" y="2425680"/>
            <a:ext cx="996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conservad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040" y="2482920"/>
            <a:ext cx="90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arrisc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4840" y="2943360"/>
            <a:ext cx="100188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75120" y="2884320"/>
            <a:ext cx="8794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Objetiv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2" idx="2"/>
            <a:endCxn id="226" idx="0"/>
          </p:cNvCxnSpPr>
          <p:nvPr/>
        </p:nvCxnSpPr>
        <p:spPr>
          <a:xfrm flipH="1">
            <a:off x="4716000" y="3179880"/>
            <a:ext cx="1301040" cy="63828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27" name=""/>
          <p:cNvCxnSpPr>
            <a:stCxn id="222" idx="2"/>
            <a:endCxn id="228" idx="0"/>
          </p:cNvCxnSpPr>
          <p:nvPr/>
        </p:nvCxnSpPr>
        <p:spPr>
          <a:xfrm>
            <a:off x="6016320" y="3179520"/>
            <a:ext cx="1594440" cy="626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4406760" y="3817800"/>
            <a:ext cx="61920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EB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276720"/>
            <a:ext cx="69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compr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82000" y="3346560"/>
            <a:ext cx="69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vend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6" idx="2"/>
            <a:endCxn id="232" idx="0"/>
          </p:cNvCxnSpPr>
          <p:nvPr/>
        </p:nvCxnSpPr>
        <p:spPr>
          <a:xfrm flipH="1">
            <a:off x="3206160" y="4056120"/>
            <a:ext cx="1510200" cy="612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3" name=""/>
          <p:cNvCxnSpPr>
            <a:stCxn id="226" idx="2"/>
            <a:endCxn id="234" idx="0"/>
          </p:cNvCxnSpPr>
          <p:nvPr/>
        </p:nvCxnSpPr>
        <p:spPr>
          <a:xfrm>
            <a:off x="4716360" y="4056120"/>
            <a:ext cx="1705680" cy="61200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35" name=""/>
          <p:cNvCxnSpPr>
            <a:stCxn id="226" idx="2"/>
            <a:endCxn id="236" idx="0"/>
          </p:cNvCxnSpPr>
          <p:nvPr/>
        </p:nvCxnSpPr>
        <p:spPr>
          <a:xfrm flipH="1">
            <a:off x="4695480" y="4056120"/>
            <a:ext cx="20880" cy="66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3670200" y="3976560"/>
            <a:ext cx="542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baix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4038480"/>
            <a:ext cx="7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al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0400" y="4299120"/>
            <a:ext cx="69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neutr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0280" y="4667400"/>
            <a:ext cx="62064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IF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4" idx="2"/>
            <a:endCxn id="241" idx="0"/>
          </p:cNvCxnSpPr>
          <p:nvPr/>
        </p:nvCxnSpPr>
        <p:spPr>
          <a:xfrm flipH="1">
            <a:off x="4979520" y="4937040"/>
            <a:ext cx="1442160" cy="535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2" name=""/>
          <p:cNvCxnSpPr>
            <a:stCxn id="234" idx="2"/>
            <a:endCxn id="243" idx="0"/>
          </p:cNvCxnSpPr>
          <p:nvPr/>
        </p:nvCxnSpPr>
        <p:spPr>
          <a:xfrm>
            <a:off x="6420960" y="4937040"/>
            <a:ext cx="1761480" cy="47880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cxnSp>
        <p:nvCxnSpPr>
          <p:cNvPr id="244" name=""/>
          <p:cNvCxnSpPr>
            <a:stCxn id="234" idx="2"/>
            <a:endCxn id="245" idx="0"/>
          </p:cNvCxnSpPr>
          <p:nvPr/>
        </p:nvCxnSpPr>
        <p:spPr>
          <a:xfrm>
            <a:off x="6420960" y="4936680"/>
            <a:ext cx="110520" cy="592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5337000" y="4897440"/>
            <a:ext cx="54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baix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27880" y="5183280"/>
            <a:ext cx="69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neutr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22960" y="4954680"/>
            <a:ext cx="69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ahoma"/>
              </a:rPr>
              <a:t>al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99240" y="5415120"/>
            <a:ext cx="1163880" cy="261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Resultado</a:t>
            </a: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0800" y="3805200"/>
            <a:ext cx="62100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EB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667400"/>
            <a:ext cx="62100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IF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84800" y="4724280"/>
            <a:ext cx="62064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IF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9440" y="2079720"/>
            <a:ext cx="72396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Perfi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5472000"/>
            <a:ext cx="11206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996600"/>
                </a:solidFill>
                <a:latin typeface="Tahoma"/>
              </a:rPr>
              <a:t>Resultado</a:t>
            </a:r>
            <a:r>
              <a:rPr b="1" lang="pt-BR" sz="1100" spc="-1" strike="noStrike">
                <a:solidFill>
                  <a:srgbClr val="cca5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1600" y="5529240"/>
            <a:ext cx="9586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996600"/>
                </a:solidFill>
                <a:latin typeface="Tahoma"/>
              </a:rPr>
              <a:t>Resultado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3" idx="2"/>
            <a:endCxn id="250" idx="0"/>
          </p:cNvCxnSpPr>
          <p:nvPr/>
        </p:nvCxnSpPr>
        <p:spPr>
          <a:xfrm>
            <a:off x="8181720" y="5684760"/>
            <a:ext cx="20880" cy="411840"/>
          </a:xfrm>
          <a:prstGeom prst="straightConnector1">
            <a:avLst/>
          </a:prstGeom>
          <a:ln w="19080">
            <a:solidFill>
              <a:srgbClr val="ff66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772400" y="6095880"/>
            <a:ext cx="858960" cy="4287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ahoma"/>
              </a:rPr>
              <a:t>Não compr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5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Especialistas Consultad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milo de Lelis Gon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odrigo Rebouç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infomoney.com.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vista Você S/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“Ganhe Dinheiro na Bolsa”, maio/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ancy Tengle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New Era Value Investing, com tradução de J. Figueire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J. Figueired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– Ações: “O Quê?”, “Porquê?” e “Como?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Pincelada em Sistemas Especialis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que é um Sistema Especial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o Construir Um Sistema Para a Bolsa de Val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que disse o Especial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idir por um Fo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Que e Como Foi Fe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pert SI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co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Árvore de Decis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495360"/>
            <a:ext cx="99036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277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bbd71"/>
                </a:solidFill>
                <a:latin typeface="Arial"/>
              </a:rPr>
              <a:t>O que é um Sistema Especialis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ão programas constituídos por uma série d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regr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que analisam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nformaçõ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normalmente fornecidas pelo usuário do sistema) sobre uma classe específica d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proble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u domínio de problema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essoas Envolv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speci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ngenheiro de conheci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6095880" y="4495680"/>
            <a:ext cx="2895840" cy="2133720"/>
            <a:chOff x="6095880" y="4495680"/>
            <a:chExt cx="2895840" cy="2133720"/>
          </a:xfrm>
        </p:grpSpPr>
        <p:sp>
          <p:nvSpPr>
            <p:cNvPr id="163" name=""/>
            <p:cNvSpPr/>
            <p:nvPr/>
          </p:nvSpPr>
          <p:spPr>
            <a:xfrm>
              <a:off x="6095880" y="4495680"/>
              <a:ext cx="2895840" cy="2133720"/>
            </a:xfrm>
            <a:prstGeom prst="wedgeRoundRectCallout">
              <a:avLst>
                <a:gd name="adj1" fmla="val -27356"/>
                <a:gd name="adj2" fmla="val 48361"/>
                <a:gd name="adj3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200" y="4737240"/>
              <a:ext cx="2743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uxilia o especialista a representar o conhecimento e determina a técnica de inferência necessária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bbd71"/>
                </a:solidFill>
                <a:latin typeface="Arial"/>
              </a:rPr>
              <a:t>Como Construir Um Sistema Para a Bolsa de Valore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que disse o Especial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Mundo da Bolsa de Valores é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ários tipos de Indicadores (Financeiro(efeitos), Fundamentalista(causas),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Técnic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ofre muitas influências externas não previsí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4038480"/>
            <a:ext cx="8153640" cy="1447920"/>
          </a:xfrm>
          <a:prstGeom prst="rect">
            <a:avLst/>
          </a:prstGeom>
          <a:noFill/>
          <a:ln w="5724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Decidir por um Foc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odemos desenvolver dois tipos de Sistema Especial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ssui uma Base de Dados atualizada constantemente e sugere um setor e/ou uma ação para invest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ssui um conjunto de regras e decide sobre que decisão tomar dado os índices de uma 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xpert SINTA/D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0600" y="2209680"/>
            <a:ext cx="1936800" cy="2438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33720" y="2209680"/>
            <a:ext cx="69339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É um conjunto de ferramentas computacionais fundamentadas em técnicas de Inteligência Artificial para geração automática de sistemas especialistas. Utilizando um modelo de representação do conhecimento baseado em um conjunto de variáveis e regras de produção e fatores de confiança, apresenta como objetivo principal simplificar o trabalho de implementação de sistemas especialist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886200" y="4114800"/>
            <a:ext cx="38098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copo Escolh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cidimos desenvolver um sistema sem base de conhecimento (histórico), baseado apenas em re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usuário utilizará este sistema para que este lhe forneça uma direção sobre que decisão tomar em relação a determinada 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Sistema solicita alguns valores para determinados índices, submete estes valores às regras, e tenta tomar uma decis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Índice de Força Relativa (IF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scilador Estocá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5280" y="274320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É um indicador que traz a relação entre a média dos preços de fechamento nos dias em que a ação fechou em alta, dividido pela média nos dias em que fechou em queda. Desta forma, um índice muito alto pode indicar que a ação já tenha subido muito em relação ao seu desempenho histórico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876920"/>
            <a:ext cx="7315200" cy="1465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É uma ferramenta que se preocupa mais com a oscilação dos ativos do que com a tendência. Por comparar o preço atual de uma ação com o seu comportamento recente, o estocástico é um bom indicador que mostra se o preço atual é insustentável, ou pode levar a uma mudança de direção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bbd71"/>
                </a:solidFill>
                <a:latin typeface="Arial"/>
              </a:rPr>
              <a:t>O Que e Como Foi Fei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Variáveis Escolh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nvelope Bandas Bollinger (EBB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A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2762280"/>
            <a:ext cx="7315200" cy="11912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 análise das Bandas de Bollinger nos permite identificar pontos extremos, onde a cotação da ação atinge valores muito altos ou muito baixos em relação à média, o que pode identificar pontos de compra ou venda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4876920"/>
            <a:ext cx="7315200" cy="20142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O MACD é um dos indicadores mais utilizados em análise técnica, sobretudo para determinar a tendência no qual o preço da ação se encontra. Determinar a tendência é muito importante, pois é mais fácil prever o comportamento de uma ação que segue uma tendência. Fica mais fácil ganhar dinheiro com uma ação que registra tendência de alta do que com um papel que sobe e desce demais!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8:15:32Z</dcterms:created>
  <dc:creator>Augusto Breno</dc:creator>
  <dc:description/>
  <dc:language>en-US</dc:language>
  <cp:lastModifiedBy>Augusto Breno</cp:lastModifiedBy>
  <dcterms:modified xsi:type="dcterms:W3CDTF">2006-06-12T16:39:48Z</dcterms:modified>
  <cp:revision>31</cp:revision>
  <dc:subject/>
  <dc:title>Slide 1</dc:title>
</cp:coreProperties>
</file>