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305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8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3840" indent="-216000">
              <a:lnSpc>
                <a:spcPct val="8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5480" indent="-214200">
              <a:lnSpc>
                <a:spcPct val="8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7480" indent="-216000">
              <a:lnSpc>
                <a:spcPct val="8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7480" indent="-216000">
              <a:lnSpc>
                <a:spcPct val="8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7480" indent="-216000">
              <a:lnSpc>
                <a:spcPct val="8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5000" y="914040"/>
            <a:ext cx="860904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932040"/>
                <a:tab algn="l" pos="1650960"/>
                <a:tab algn="l" pos="2370240"/>
                <a:tab algn="l" pos="3089160"/>
                <a:tab algn="l" pos="3808440"/>
                <a:tab algn="l" pos="4527720"/>
                <a:tab algn="l" pos="5246640"/>
                <a:tab algn="l" pos="5965920"/>
                <a:tab algn="l" pos="6684840"/>
                <a:tab algn="l" pos="7404120"/>
                <a:tab algn="l" pos="8123400"/>
                <a:tab algn="l" pos="8842320"/>
                <a:tab algn="l" pos="9561600"/>
                <a:tab algn="l" pos="10280520"/>
                <a:tab algn="l" pos="10999800"/>
              </a:tabLst>
            </a:pP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GeneGrade: Um algoritmo genético para escalonamento de aplicações em grades computacionais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89000" y="2224080"/>
            <a:ext cx="8477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Inteligência Artificial I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Professora Joseana Fechine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Leonardo de Assis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Pablo Riccelly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12/06/2006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GeneGra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unção </a:t>
            </a:r>
            <a:r>
              <a:rPr b="0" i="1" lang="en-GB" sz="3200" spc="-1" strike="noStrike">
                <a:solidFill>
                  <a:srgbClr val="e6e6e6"/>
                </a:solidFill>
                <a:latin typeface="Times New Roman"/>
              </a:rPr>
              <a:t>fitnes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O resultado da desta função é o tempo de execução do cromossom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É calculado através da simulação do escalonamento do cromossom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Quanto menor o resultado da função, melhor o cromossom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GeneGra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ndição de Parada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O processo pára quando em três </a:t>
            </a:r>
            <a:r>
              <a:rPr b="0" i="1" lang="en-GB" sz="2800" spc="-1" strike="noStrike">
                <a:solidFill>
                  <a:srgbClr val="e6e6e6"/>
                </a:solidFill>
                <a:latin typeface="Times New Roman"/>
              </a:rPr>
              <a:t>loops</a:t>
            </a: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da evolução, o melhor cromosso é sempre o mesm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imulaçõ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oi implementado um simulador de grades em Jav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ara comparação, foi implementada a heurística de escalonamento </a:t>
            </a:r>
            <a:r>
              <a:rPr b="0" i="1" lang="en-GB" sz="3200" spc="-1" strike="noStrike">
                <a:solidFill>
                  <a:srgbClr val="e6e6e6"/>
                </a:solidFill>
                <a:latin typeface="Times New Roman"/>
              </a:rPr>
              <a:t>Workqueu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mparamos o GeneGrade com o </a:t>
            </a:r>
            <a:r>
              <a:rPr b="0" i="1" lang="en-GB" sz="3200" spc="-1" strike="noStrike">
                <a:solidFill>
                  <a:srgbClr val="e6e6e6"/>
                </a:solidFill>
                <a:latin typeface="Times New Roman"/>
              </a:rPr>
              <a:t>Workqueue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em dois tipos de execução diferent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áquinas e Tarefas heterogênea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áquinas homogêneas e tarefas heterogênea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imulaçõ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áquinas e Tarefas heterogênea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rês cenários distinto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aixa Heterogeneidad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édia Heterogeneidad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lta Heterogeneidad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241960" y="2743200"/>
            <a:ext cx="483876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imulaçõ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áquinas homogêneas e Tarefas heterogênea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rês cenários distinto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aixa Heterogeneidad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édia Heterogeneidad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lta Heterogeneidad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92840" y="2514600"/>
            <a:ext cx="5087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nclusão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eneGrade é um algoritmo para escalonamento de aplicações em grades computacionai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e acordo com as simulações realizadas, o GeneGrade obteve uma performance melhor que o </a:t>
            </a:r>
            <a:r>
              <a:rPr b="0" i="1" lang="en-GB" sz="3200" spc="-1" strike="noStrike">
                <a:solidFill>
                  <a:srgbClr val="e6e6e6"/>
                </a:solidFill>
                <a:latin typeface="Times New Roman"/>
              </a:rPr>
              <a:t>Workqueue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mbientes heterogêneo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plicações com tarefas heterogênea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Obrigado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6000" spc="-1" strike="noStrike">
                <a:solidFill>
                  <a:srgbClr val="e6e6e6"/>
                </a:solidFill>
                <a:latin typeface="Times New Roman"/>
              </a:rPr>
              <a:t>Perguntas ?</a:t>
            </a:r>
            <a:endParaRPr b="0" lang="en-US" sz="6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932040"/>
                <a:tab algn="l" pos="1650960"/>
                <a:tab algn="l" pos="2370240"/>
                <a:tab algn="l" pos="3089160"/>
                <a:tab algn="l" pos="3808440"/>
                <a:tab algn="l" pos="4527720"/>
                <a:tab algn="l" pos="5246640"/>
                <a:tab algn="l" pos="5965920"/>
                <a:tab algn="l" pos="6684840"/>
                <a:tab algn="l" pos="7404120"/>
                <a:tab algn="l" pos="8123400"/>
                <a:tab algn="l" pos="8842320"/>
                <a:tab algn="l" pos="9561600"/>
                <a:tab algn="l" pos="10280520"/>
                <a:tab algn="l" pos="109998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oteiro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lgoritmos Genético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eneGrad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imulaçõ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nclusão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932040"/>
                <a:tab algn="l" pos="1650960"/>
                <a:tab algn="l" pos="2370240"/>
                <a:tab algn="l" pos="3089160"/>
                <a:tab algn="l" pos="3808440"/>
                <a:tab algn="l" pos="4527720"/>
                <a:tab algn="l" pos="5246640"/>
                <a:tab algn="l" pos="5965920"/>
                <a:tab algn="l" pos="6684840"/>
                <a:tab algn="l" pos="7404120"/>
                <a:tab algn="l" pos="8123400"/>
                <a:tab algn="l" pos="8842320"/>
                <a:tab algn="l" pos="9561600"/>
                <a:tab algn="l" pos="10280520"/>
                <a:tab algn="l" pos="109998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Introdução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rades computacionais a cada dia que passa estão sendo mais utilizada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oder Computacional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scalabilidad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aixo Cust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scalonamento de aplicações em grades computacionais não é uma tarefa trivia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932040"/>
                <a:tab algn="l" pos="1650960"/>
                <a:tab algn="l" pos="2370240"/>
                <a:tab algn="l" pos="3089160"/>
                <a:tab algn="l" pos="3808440"/>
                <a:tab algn="l" pos="4527720"/>
                <a:tab algn="l" pos="5246640"/>
                <a:tab algn="l" pos="5965920"/>
                <a:tab algn="l" pos="6684840"/>
                <a:tab algn="l" pos="7404120"/>
                <a:tab algn="l" pos="8123400"/>
                <a:tab algn="l" pos="8842320"/>
                <a:tab algn="l" pos="9561600"/>
                <a:tab algn="l" pos="10280520"/>
                <a:tab algn="l" pos="109998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Introdução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ropomos uma heurística de escalonamento que usa um algoritmo genético para escalonar partes da aplicação (tarefas) à recursos da grade (máquinas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932040"/>
                <a:tab algn="l" pos="1650960"/>
                <a:tab algn="l" pos="2370240"/>
                <a:tab algn="l" pos="3089160"/>
                <a:tab algn="l" pos="3808440"/>
                <a:tab algn="l" pos="4527720"/>
                <a:tab algn="l" pos="5246640"/>
                <a:tab algn="l" pos="5965920"/>
                <a:tab algn="l" pos="6684840"/>
                <a:tab algn="l" pos="7404120"/>
                <a:tab algn="l" pos="8123400"/>
                <a:tab algn="l" pos="8842320"/>
                <a:tab algn="l" pos="9561600"/>
                <a:tab algn="l" pos="10280520"/>
                <a:tab algn="l" pos="109998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Algoritmos Genético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lgoritmos para otimização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mita“ a evolução humana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ividido em etapa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riaçã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eleçã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eprodução (</a:t>
            </a:r>
            <a:r>
              <a:rPr b="0" i="1" lang="en-GB" sz="2800" spc="-1" strike="noStrike">
                <a:solidFill>
                  <a:srgbClr val="e6e6e6"/>
                </a:solidFill>
                <a:latin typeface="Times New Roman"/>
              </a:rPr>
              <a:t>Crossover</a:t>
            </a: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utaçã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932040"/>
                <a:tab algn="l" pos="1650960"/>
                <a:tab algn="l" pos="2370240"/>
                <a:tab algn="l" pos="3089160"/>
                <a:tab algn="l" pos="3808440"/>
                <a:tab algn="l" pos="4527720"/>
                <a:tab algn="l" pos="5246640"/>
                <a:tab algn="l" pos="5965920"/>
                <a:tab algn="l" pos="6684840"/>
                <a:tab algn="l" pos="7404120"/>
                <a:tab algn="l" pos="8123400"/>
                <a:tab algn="l" pos="8842320"/>
                <a:tab algn="l" pos="9561600"/>
                <a:tab algn="l" pos="10280520"/>
                <a:tab algn="l" pos="109998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GeneGra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romossomo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O cromossomo é modelado através de uma lista de Execuçõ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 Execução é uma abstração que associa uma máquina à uma tarefa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ntão, o cromossomo é uma lista de “casamentos“ entre máquinas e tarefa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932040"/>
                <a:tab algn="l" pos="1650960"/>
                <a:tab algn="l" pos="2370240"/>
                <a:tab algn="l" pos="3089160"/>
                <a:tab algn="l" pos="3808440"/>
                <a:tab algn="l" pos="4527720"/>
                <a:tab algn="l" pos="5246640"/>
                <a:tab algn="l" pos="5965920"/>
                <a:tab algn="l" pos="6684840"/>
                <a:tab algn="l" pos="7404120"/>
                <a:tab algn="l" pos="8123400"/>
                <a:tab algn="l" pos="8842320"/>
                <a:tab algn="l" pos="9561600"/>
                <a:tab algn="l" pos="10280520"/>
                <a:tab algn="l" pos="109998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GeneGra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7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riação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 população inicial é criada através da geração aleatória de cromossomo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áquinas são associadas à tarefas aleatoriamente de forma que todas as tarefas sejam escalonadas e todas as máquinas sejam usada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GeneGra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eprodução </a:t>
            </a:r>
            <a:r>
              <a:rPr b="0" i="1" lang="en-GB" sz="3200" spc="-1" strike="noStrike">
                <a:solidFill>
                  <a:srgbClr val="e6e6e6"/>
                </a:solidFill>
                <a:latin typeface="Times New Roman"/>
              </a:rPr>
              <a:t>(Crossover)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inco casais de cromossomos são escolhidos aleatoriamente dentro os dez melhores cromossomos de acordo com uma função </a:t>
            </a:r>
            <a:r>
              <a:rPr b="0" i="1" lang="en-GB" sz="2800" spc="-1" strike="noStrike">
                <a:solidFill>
                  <a:srgbClr val="e6e6e6"/>
                </a:solidFill>
                <a:latin typeface="Times New Roman"/>
              </a:rPr>
              <a:t>fitnes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da casal gera um descendente que possui partes dos cromossomos de seus ancestrais direto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s partes escolhidas são selecionadas de forma aleatória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GeneGra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utação</a:t>
            </a:r>
            <a:r>
              <a:rPr b="0" i="1" lang="en-GB" sz="3200" spc="-1" strike="noStrike">
                <a:solidFill>
                  <a:srgbClr val="e6e6e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pós a etapa de reprodução, os cinco piores cromossomos são submetidos a um processo de mutaçã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artes aleatórias desses cromossomos são trocadas por outras partes deste mesmo cromossom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onardo de Assis</dc:creator>
  <dc:description/>
  <dc:language>en-US</dc:language>
  <cp:lastModifiedBy/>
  <cp:revision>0</cp:revision>
  <dc:subject/>
  <dc:title/>
</cp:coreProperties>
</file>