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1453-E426-43D4-91C5-0B6024210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43AC6-4086-49B2-87C0-185D549F9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6A8B-A38B-40E1-902E-078D166DE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396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160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396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160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611F8-1937-4035-8F8B-E7FF6904D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FD0D-BD4D-4734-B147-A1382EEAD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1396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6160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6632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1396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6160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D8138-AEB5-4EBF-84D2-1A23A21DEE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31473-E78C-4B41-9839-7E96592E6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BAF39-3101-49C1-9D14-1BE3858C4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7C79-3169-48F9-AAA0-9065DC5E3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3A8CF-F902-43BB-94A0-3F9C5FD17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5B0D4-0157-41F1-BDE8-0181025864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3A899-6203-4E4B-A0E4-B53A0BCDC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705720" y="0"/>
            <a:ext cx="2438280" cy="2971440"/>
            <a:chOff x="6705720" y="0"/>
            <a:chExt cx="2438280" cy="2971440"/>
          </a:xfrm>
        </p:grpSpPr>
        <p:sp>
          <p:nvSpPr>
            <p:cNvPr id="1" name=""/>
            <p:cNvSpPr/>
            <p:nvPr/>
          </p:nvSpPr>
          <p:spPr>
            <a:xfrm>
              <a:off x="7620120" y="2327400"/>
              <a:ext cx="77400" cy="83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6705720" y="0"/>
              <a:ext cx="2438280" cy="29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_tech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7586280" y="684720"/>
              <a:ext cx="1340280" cy="228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helmet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7247520" y="233280"/>
              <a:ext cx="1354320" cy="93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3960" indent="-22680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803160" indent="-176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144440" indent="-174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43352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43352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43352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534520" y="6476760"/>
            <a:ext cx="457200" cy="23796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5861-BD36-4E6C-9A18-F7273C82F8C5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360" y="1600200"/>
            <a:ext cx="624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161040" y="1523880"/>
            <a:ext cx="87480" cy="103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771200" y="3807000"/>
            <a:ext cx="554364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47800" y="3706920"/>
            <a:ext cx="87480" cy="102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6971400" y="1440"/>
            <a:ext cx="1678752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69" y="13"/>
                </a:moveTo>
                <a:arcTo wR="10800" hR="10800" stAng="-5569118" swAng="2590457"/>
                <a:lnTo>
                  <a:pt x="10800" y="10800"/>
                </a:lnTo>
                <a:close/>
              </a:path>
              <a:path fill="none" w="21600" h="21600">
                <a:moveTo>
                  <a:pt x="10269" y="13"/>
                </a:moveTo>
                <a:arcTo wR="10800" hR="10800" stAng="-5569118" swAng="2590457"/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22003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400800" y="0"/>
            <a:ext cx="2743200" cy="3638520"/>
            <a:chOff x="6400800" y="0"/>
            <a:chExt cx="2743200" cy="3638520"/>
          </a:xfrm>
        </p:grpSpPr>
        <p:sp>
          <p:nvSpPr>
            <p:cNvPr id="52" name=""/>
            <p:cNvSpPr/>
            <p:nvPr/>
          </p:nvSpPr>
          <p:spPr>
            <a:xfrm>
              <a:off x="7429680" y="2849400"/>
              <a:ext cx="87120" cy="103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6400800" y="0"/>
              <a:ext cx="274320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_tech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7391520" y="838080"/>
              <a:ext cx="1508040" cy="28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helmet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7010640" y="304560"/>
              <a:ext cx="152388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227160" indent="0"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62712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698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1112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11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11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36232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Processamento e Transmissão Digital de Sinais de Voz:</a:t>
            </a:r>
            <a:br>
              <a:rPr sz="2800"/>
            </a:b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aracterização de Sinais de Voz </a:t>
            </a:r>
            <a:br>
              <a:rPr sz="2800"/>
            </a:b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(Parte I)</a:t>
            </a: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18960" y="3733560"/>
            <a:ext cx="655308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Benedito Aguiar Guimarães Neto    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Joseana Macêdo Fechin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Verdana"/>
              </a:rPr>
              <a:t>Universidade Federal de Campina Gran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Verdana"/>
              </a:rPr>
              <a:t>bganeto@dee.ufcg.edu.br, joseana@dsc.ufcg.edu.b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066680" y="609480"/>
          <a:ext cx="6386760" cy="476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09480"/>
                    <a:ext cx="6386760" cy="47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419040" y="548640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iodograma e respectiva envoltória espectral de um frame (20 ms) de um segmento fonético correspondente a um /i/, produzido por um locutor masculino (F1=266 Hz, F2=2044Hz, F3=2711Hz, F4=3422Hz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1219320"/>
            <a:ext cx="189864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Exemplo /i/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MMI10"/>
                <a:ea typeface="Times New Roman"/>
              </a:rPr>
              <a:t>F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=266 Hz, </a:t>
            </a:r>
            <a:r>
              <a:rPr b="0" lang="pt-PT" sz="1800" spc="-1" strike="noStrike">
                <a:solidFill>
                  <a:srgbClr val="000000"/>
                </a:solidFill>
                <a:latin typeface="CMMI10"/>
                <a:ea typeface="Times New Roman"/>
              </a:rPr>
              <a:t>F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=2044Hz, </a:t>
            </a:r>
            <a:r>
              <a:rPr b="0" lang="pt-PT" sz="1800" spc="-1" strike="noStrike">
                <a:solidFill>
                  <a:srgbClr val="000000"/>
                </a:solidFill>
                <a:latin typeface="CMMI10"/>
                <a:ea typeface="Times New Roman"/>
              </a:rPr>
              <a:t>F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=2711Hz, </a:t>
            </a:r>
            <a:r>
              <a:rPr b="0" lang="pt-PT" sz="1800" spc="-1" strike="noStrike">
                <a:solidFill>
                  <a:srgbClr val="000000"/>
                </a:solidFill>
                <a:latin typeface="CMMI10"/>
                <a:ea typeface="Times New Roman"/>
              </a:rPr>
              <a:t>F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=3422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4000" y="5943600"/>
            <a:ext cx="849600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édias das frequências dos três primeiros formantes : F</a:t>
            </a:r>
            <a:r>
              <a:rPr b="1" lang="pt-BR" sz="18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1" lang="pt-BR" sz="18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e F</a:t>
            </a:r>
            <a:r>
              <a:rPr b="1" lang="pt-BR" sz="18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das vogais orais do português brasileiro para uma população de 90 pesso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formantes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5143680" cy="4927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71600" y="38088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REQUÊNCIA DAS VOGAIS (RUSSO E BEHLAU, 199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594360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lores acústicos médios de freqüência e intensidade dos sons da fala do português brasileiro, dispostos no registro gráfico do audiogra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38088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UDIOGRAMA (RUSSO E BEHLAU, 199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ane1" descr=""/>
          <p:cNvPicPr/>
          <p:nvPr/>
        </p:nvPicPr>
        <p:blipFill>
          <a:blip r:embed="rId1"/>
          <a:stretch/>
        </p:blipFill>
        <p:spPr>
          <a:xfrm>
            <a:off x="1981080" y="960480"/>
            <a:ext cx="462924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380880"/>
            <a:ext cx="556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ISTAS E INFORMAÇÕES ACÚSTIC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RUSSO E BEHLAU, 199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87280" y="1676520"/>
          <a:ext cx="8567640" cy="43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676520"/>
                    <a:ext cx="8567640" cy="43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380880"/>
            <a:ext cx="556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ISTAS E INFORMAÇÕES ACÚSTIC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RUSSO E BEHLAU, 199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09520" y="1905120"/>
          <a:ext cx="8724960" cy="36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905120"/>
                    <a:ext cx="8724960" cy="36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174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600" spc="-1" strike="noStrike">
                <a:solidFill>
                  <a:srgbClr val="3333cc"/>
                </a:solidFill>
                <a:latin typeface="Arial"/>
              </a:rPr>
              <a:t>Coarticulação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Zonas vozeada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períodos glotais não são exatamente iguais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ontes de variação da forma de ond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6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evolução lenta do trato voc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diferenças de energia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fala não é na realidade uma seqüência de sons bem definido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transição entre um par de segmentos fonéticos produz-se de forma gradual, exibindo o sinal pequenas variações das características de um som para o som procedente, efeito denominado de </a:t>
            </a: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coarticul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fala contêm outra informação para além da simples seqüência de sons e respectiva coarticulação: identidade do locutor, gênero e idade, estado de alegria ou tristeza e as suas emoçõ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Coarticulaç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variância das características acústicas dos sons de fala é o grande problema para a elaboração dos modelos de percepção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0" algn="just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ão há correspondência unívoca entre os fonemas de uma língua e sua realização acústica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0" algn="just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ão se pronuncia uma sentença da mesma maneira por duas vezes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Coarticulaç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coarticulação pode ser exemplificada através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lofoni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quando uma mesma letra tem variação fônica dependendo do contexto em que se encontra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emplo no português - as letras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(respectivamente) nas seguintes palavras: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quer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x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rr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x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ort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s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x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ass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x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ast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x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sd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senvolvimento de sistemas de processamento de fala - freqüentemente necessário traduzir uma onda acústica nos sons produzidos - </a:t>
            </a: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transcrição fonétic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0" algn="just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e processo produz a sequência de símbolos fonéticos e respectivas marcas temporais, utilizando para tal um alfabeto fonético – tarefa difícil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0" algn="just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utro nível de anotação mais simples – “transcrição fonética larga”, derivada apenas da transcrição ortográfica de determinada frase, não tendo associada uma onda acústica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1143000" y="689040"/>
          <a:ext cx="6477120" cy="58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9040"/>
                    <a:ext cx="6477120" cy="58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1752480" y="22860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Transcrição Foné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Sons Sonoros (vozeados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cordas vocais vibram e fazem variar o grau de abertura da glote e conseqüentemente o volume de ar proveniente dos pulmões que passa através da mesm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riação periódica na velocidade de volume na glote </a:t>
            </a:r>
            <a:r>
              <a:rPr b="1" lang="pt-BR" sz="2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xcitação do trato vocal </a:t>
            </a:r>
            <a:r>
              <a:rPr b="1" lang="pt-BR" sz="2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rodução de sons com harmônicas da freqüência de vibração das cordas vocais  (frequência fundamental (F0) - frequência de pitch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185760" indent="0" algn="just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xemplo de uma transcrição fonológica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185760" indent="0" algn="just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"Mas ninguém poderia adivinhar o que ela pensav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18576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"mas nin'guEm pode'ria adivi'Nah o ke 'ela pen'sav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3657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8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Freqüência Fundament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3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83600" indent="-18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pende da dimensão e espessura da glot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3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800" spc="-1" strike="noStrike">
              <a:solidFill>
                <a:srgbClr val="000066"/>
              </a:solidFill>
              <a:latin typeface="Arial"/>
            </a:endParaRPr>
          </a:p>
          <a:p>
            <a:pPr marL="183600" indent="-18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cutores do gênero masculino - gama de vibração das cordas vocais situa-se nos 50-250 Hz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3600" indent="-18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cutores do gênero feminino – a gama situa-se nos 120-300 Hz, podendo chegar aos 500 Hz para as criança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3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183600" indent="-18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rtuguês falado no Brasi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80 Hz (homens) – 350 Hz (crianças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18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lores típicos: 150 Hz (homens) e 250 Hz (mulheres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183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83600" indent="-18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locutor pode ser caracterizado através da sua freqüência fundamental média, com variações naturais dependentes da entoação, estresse e emoçã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600" spc="-1" strike="noStrike">
                <a:solidFill>
                  <a:srgbClr val="3333cc"/>
                </a:solidFill>
                <a:latin typeface="Arial"/>
              </a:rPr>
              <a:t>Freqüência Fundamental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normal um locutor apresentar uma variação que pode atingir em fala natural uma oitava (e.g., 80-160 Hz para um locutor masculino), podendo atingir 2 oitavas no caso de fala forçada ou cantad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riações mais acentuadas requerem um esforço físico consideráve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Sons não vozead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glote mantém-se aberta e o ar proveniente dos pulmões, ao passar com velocidade suficiente por uma constrição do trato vocal, produz sons com turbulênc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320" y="586728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presentação temporal e respectivo espectrograma de um seg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onético vozeado /e/ e de um segmento não vozeado /s/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tos por um locutor masculino e outro femini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7827" t="3475" r="8072" b="6757"/>
          <a:stretch/>
        </p:blipFill>
        <p:spPr>
          <a:xfrm>
            <a:off x="914400" y="411120"/>
            <a:ext cx="655308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Sons vozeados/não vozead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ido à vibração das cordas vocais as zonas vozeadas têm uma característica passa-baix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zonas não vozeadas apresentam em geral maior energia nas altas freqüências que as zonas vozead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17244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Formant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7244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172440" indent="-17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dução de fala - uma operação de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filtragem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uma fonte de som excita o trato vocal e/ou o trato nasal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5844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Zonas vozead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excitação é periódic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5844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Zonas não vozead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excitação ruidosa e aperiódic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72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72440" indent="-17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rato voca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atuando como um filtro) - amplifica algumas zonas do espectro, atenuando outras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5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172440" indent="-17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Zonas amplificada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correspondem às zonas de ressonância, definidas por uma freqüência central, por uma largura de banda e por uma energia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72440" indent="-17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Frequência central da ressonânci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freqüência do formante (</a:t>
            </a:r>
            <a:r>
              <a:rPr b="1" lang="pt-BR" sz="2200" spc="-1" strike="noStrike">
                <a:solidFill>
                  <a:srgbClr val="3333cc"/>
                </a:solidFill>
                <a:latin typeface="Arial"/>
              </a:rPr>
              <a:t>formant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Formant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m ser definidos como picos de energia em uma região do espectro sonoro. Os parciais que se encontram nessa região de ressonância serão realçad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lmente representados por F1, F2, F3,...., começando pela freqüência mais baix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ição do trato vocal - especialmente para as vogais - determina os formantes e deste modo o som produzi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9T13:30:47Z</dcterms:created>
  <dc:creator>Benedito G. A. Neto/Joseana M. Fechine</dc:creator>
  <dc:description/>
  <dc:language>en-US</dc:language>
  <cp:lastModifiedBy>Particular</cp:lastModifiedBy>
  <cp:lastPrinted>1999-02-22T17:14:49Z</cp:lastPrinted>
  <dcterms:modified xsi:type="dcterms:W3CDTF">2004-11-10T12:03:15Z</dcterms:modified>
  <cp:revision>450</cp:revision>
  <dc:subject/>
  <dc:title>Processamento e Transmissão Digital de Sinais de Voz </dc:title>
</cp:coreProperties>
</file>