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12.wmf" ContentType="image/x-wmf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015A5-7E3D-4C88-A195-643309AF4A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6320" y="429336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55AF3-A6B3-4DEB-8DF8-6DABB052E6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761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08AC3-38B2-439F-AF3C-252251CB25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1396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6160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632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1396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6160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229EE-10D3-4EA3-89D5-BC375493BE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90512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6320" y="190512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C9A81-99A7-4FBE-99E0-F59B1EEB82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761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429336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761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1396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6160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1396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6160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08EBF-58FF-4863-8170-1DAA5FCA3F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ABF2B-5B46-470C-9B4A-A13DD58380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21185-D6AC-4CA2-8C22-3A0BA0836A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1C858-C39D-413E-AFDF-8CA89CCB9A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AB517-7476-442B-A0D0-79EF95B0E7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761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7694A-4A8F-4993-ADAF-6A21A1C024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2F5CC-EA73-40DC-A860-B9A5A69BE0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705720" y="0"/>
            <a:ext cx="2438280" cy="2971440"/>
            <a:chOff x="6705720" y="0"/>
            <a:chExt cx="2438280" cy="2971440"/>
          </a:xfrm>
        </p:grpSpPr>
        <p:sp>
          <p:nvSpPr>
            <p:cNvPr id="1" name=""/>
            <p:cNvSpPr/>
            <p:nvPr/>
          </p:nvSpPr>
          <p:spPr>
            <a:xfrm>
              <a:off x="7620120" y="2327400"/>
              <a:ext cx="77400" cy="83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6705720" y="0"/>
              <a:ext cx="2438280" cy="29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_tech" descr="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7586280" y="684720"/>
              <a:ext cx="1340280" cy="228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helmet" descr=""/>
            <p:cNvPicPr/>
            <p:nvPr/>
          </p:nvPicPr>
          <p:blipFill>
            <a:blip r:embed="rId4">
              <a:lum bright="70000" contrast="-70000"/>
            </a:blip>
            <a:stretch/>
          </p:blipFill>
          <p:spPr>
            <a:xfrm>
              <a:off x="7247520" y="233280"/>
              <a:ext cx="1354320" cy="93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1066320" y="190512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3960" indent="-22680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803160" indent="-176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144440" indent="-174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1433520" indent="-12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1433520" indent="-12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1433520" indent="-12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534520" y="6476760"/>
            <a:ext cx="457200" cy="237960"/>
          </a:xfrm>
          <a:prstGeom prst="rect">
            <a:avLst/>
          </a:prstGeom>
          <a:noFill/>
          <a:ln w="1260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79FA-F109-4A03-850A-B1E5CD7206CC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6629400"/>
            <a:ext cx="838080" cy="1206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800" spc="-1" strike="noStrike">
                <a:solidFill>
                  <a:srgbClr val="ffcc00"/>
                </a:solidFill>
                <a:latin typeface="Humanst521 BT"/>
              </a:rPr>
              <a:t>DSC/CCT/UFC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80880" y="6400800"/>
            <a:ext cx="312840" cy="237960"/>
          </a:xfrm>
          <a:custGeom>
            <a:avLst/>
            <a:gdLst/>
            <a:ahLst/>
            <a:rect l="l" t="t" r="r" b="b"/>
            <a:pathLst>
              <a:path w="1470" h="999">
                <a:moveTo>
                  <a:pt x="279" y="5"/>
                </a:moveTo>
                <a:cubicBezTo>
                  <a:pt x="333" y="20"/>
                  <a:pt x="361" y="24"/>
                  <a:pt x="393" y="32"/>
                </a:cubicBezTo>
                <a:cubicBezTo>
                  <a:pt x="425" y="40"/>
                  <a:pt x="439" y="44"/>
                  <a:pt x="474" y="53"/>
                </a:cubicBezTo>
                <a:cubicBezTo>
                  <a:pt x="474" y="53"/>
                  <a:pt x="603" y="89"/>
                  <a:pt x="603" y="89"/>
                </a:cubicBezTo>
                <a:cubicBezTo>
                  <a:pt x="637" y="100"/>
                  <a:pt x="656" y="108"/>
                  <a:pt x="678" y="119"/>
                </a:cubicBezTo>
                <a:cubicBezTo>
                  <a:pt x="700" y="130"/>
                  <a:pt x="724" y="145"/>
                  <a:pt x="738" y="155"/>
                </a:cubicBezTo>
                <a:cubicBezTo>
                  <a:pt x="752" y="165"/>
                  <a:pt x="757" y="173"/>
                  <a:pt x="765" y="182"/>
                </a:cubicBezTo>
                <a:cubicBezTo>
                  <a:pt x="773" y="191"/>
                  <a:pt x="780" y="200"/>
                  <a:pt x="785" y="209"/>
                </a:cubicBezTo>
                <a:cubicBezTo>
                  <a:pt x="794" y="223"/>
                  <a:pt x="793" y="227"/>
                  <a:pt x="795" y="239"/>
                </a:cubicBezTo>
                <a:cubicBezTo>
                  <a:pt x="797" y="251"/>
                  <a:pt x="800" y="268"/>
                  <a:pt x="800" y="279"/>
                </a:cubicBezTo>
                <a:cubicBezTo>
                  <a:pt x="801" y="296"/>
                  <a:pt x="801" y="296"/>
                  <a:pt x="798" y="308"/>
                </a:cubicBezTo>
                <a:cubicBezTo>
                  <a:pt x="795" y="320"/>
                  <a:pt x="787" y="336"/>
                  <a:pt x="780" y="349"/>
                </a:cubicBezTo>
                <a:cubicBezTo>
                  <a:pt x="772" y="361"/>
                  <a:pt x="765" y="375"/>
                  <a:pt x="753" y="386"/>
                </a:cubicBezTo>
                <a:cubicBezTo>
                  <a:pt x="740" y="399"/>
                  <a:pt x="721" y="414"/>
                  <a:pt x="702" y="425"/>
                </a:cubicBezTo>
                <a:cubicBezTo>
                  <a:pt x="683" y="436"/>
                  <a:pt x="662" y="444"/>
                  <a:pt x="642" y="452"/>
                </a:cubicBezTo>
                <a:cubicBezTo>
                  <a:pt x="622" y="460"/>
                  <a:pt x="612" y="466"/>
                  <a:pt x="585" y="473"/>
                </a:cubicBezTo>
                <a:cubicBezTo>
                  <a:pt x="585" y="473"/>
                  <a:pt x="535" y="486"/>
                  <a:pt x="480" y="494"/>
                </a:cubicBezTo>
                <a:cubicBezTo>
                  <a:pt x="425" y="502"/>
                  <a:pt x="370" y="504"/>
                  <a:pt x="295" y="504"/>
                </a:cubicBezTo>
                <a:cubicBezTo>
                  <a:pt x="220" y="504"/>
                  <a:pt x="235" y="499"/>
                  <a:pt x="145" y="504"/>
                </a:cubicBezTo>
                <a:cubicBezTo>
                  <a:pt x="72" y="751"/>
                  <a:pt x="0" y="999"/>
                  <a:pt x="0" y="999"/>
                </a:cubicBezTo>
                <a:cubicBezTo>
                  <a:pt x="0" y="999"/>
                  <a:pt x="230" y="999"/>
                  <a:pt x="230" y="999"/>
                </a:cubicBezTo>
                <a:cubicBezTo>
                  <a:pt x="230" y="999"/>
                  <a:pt x="490" y="984"/>
                  <a:pt x="490" y="984"/>
                </a:cubicBezTo>
                <a:cubicBezTo>
                  <a:pt x="556" y="979"/>
                  <a:pt x="582" y="975"/>
                  <a:pt x="627" y="968"/>
                </a:cubicBezTo>
                <a:cubicBezTo>
                  <a:pt x="672" y="961"/>
                  <a:pt x="717" y="953"/>
                  <a:pt x="760" y="944"/>
                </a:cubicBezTo>
                <a:cubicBezTo>
                  <a:pt x="803" y="935"/>
                  <a:pt x="846" y="925"/>
                  <a:pt x="888" y="914"/>
                </a:cubicBezTo>
                <a:cubicBezTo>
                  <a:pt x="930" y="903"/>
                  <a:pt x="971" y="894"/>
                  <a:pt x="1015" y="879"/>
                </a:cubicBezTo>
                <a:cubicBezTo>
                  <a:pt x="1078" y="858"/>
                  <a:pt x="1106" y="846"/>
                  <a:pt x="1150" y="824"/>
                </a:cubicBezTo>
                <a:cubicBezTo>
                  <a:pt x="1194" y="802"/>
                  <a:pt x="1247" y="771"/>
                  <a:pt x="1280" y="749"/>
                </a:cubicBezTo>
                <a:cubicBezTo>
                  <a:pt x="1312" y="724"/>
                  <a:pt x="1329" y="712"/>
                  <a:pt x="1350" y="689"/>
                </a:cubicBezTo>
                <a:cubicBezTo>
                  <a:pt x="1373" y="664"/>
                  <a:pt x="1385" y="649"/>
                  <a:pt x="1420" y="599"/>
                </a:cubicBezTo>
                <a:cubicBezTo>
                  <a:pt x="1455" y="549"/>
                  <a:pt x="1465" y="464"/>
                  <a:pt x="1465" y="464"/>
                </a:cubicBezTo>
                <a:cubicBezTo>
                  <a:pt x="1470" y="429"/>
                  <a:pt x="1464" y="416"/>
                  <a:pt x="1460" y="394"/>
                </a:cubicBezTo>
                <a:cubicBezTo>
                  <a:pt x="1456" y="372"/>
                  <a:pt x="1451" y="353"/>
                  <a:pt x="1443" y="332"/>
                </a:cubicBezTo>
                <a:cubicBezTo>
                  <a:pt x="1433" y="312"/>
                  <a:pt x="1428" y="290"/>
                  <a:pt x="1410" y="266"/>
                </a:cubicBezTo>
                <a:cubicBezTo>
                  <a:pt x="1392" y="242"/>
                  <a:pt x="1363" y="211"/>
                  <a:pt x="1335" y="189"/>
                </a:cubicBezTo>
                <a:cubicBezTo>
                  <a:pt x="1335" y="189"/>
                  <a:pt x="1299" y="160"/>
                  <a:pt x="1242" y="134"/>
                </a:cubicBezTo>
                <a:cubicBezTo>
                  <a:pt x="1185" y="108"/>
                  <a:pt x="1154" y="101"/>
                  <a:pt x="1116" y="89"/>
                </a:cubicBezTo>
                <a:cubicBezTo>
                  <a:pt x="1078" y="77"/>
                  <a:pt x="1063" y="72"/>
                  <a:pt x="1011" y="62"/>
                </a:cubicBezTo>
                <a:cubicBezTo>
                  <a:pt x="1011" y="62"/>
                  <a:pt x="879" y="38"/>
                  <a:pt x="801" y="26"/>
                </a:cubicBezTo>
                <a:cubicBezTo>
                  <a:pt x="727" y="15"/>
                  <a:pt x="629" y="9"/>
                  <a:pt x="564" y="5"/>
                </a:cubicBezTo>
                <a:cubicBezTo>
                  <a:pt x="499" y="1"/>
                  <a:pt x="449" y="2"/>
                  <a:pt x="411" y="2"/>
                </a:cubicBezTo>
                <a:cubicBezTo>
                  <a:pt x="374" y="1"/>
                  <a:pt x="358" y="0"/>
                  <a:pt x="336" y="2"/>
                </a:cubicBezTo>
                <a:cubicBezTo>
                  <a:pt x="314" y="2"/>
                  <a:pt x="288" y="2"/>
                  <a:pt x="279" y="5"/>
                </a:cubicBez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 flipV="1">
            <a:off x="204120" y="6247800"/>
            <a:ext cx="312840" cy="236520"/>
          </a:xfrm>
          <a:custGeom>
            <a:avLst/>
            <a:gdLst/>
            <a:ahLst/>
            <a:rect l="l" t="t" r="r" b="b"/>
            <a:pathLst>
              <a:path w="1470" h="999">
                <a:moveTo>
                  <a:pt x="279" y="5"/>
                </a:moveTo>
                <a:cubicBezTo>
                  <a:pt x="333" y="20"/>
                  <a:pt x="361" y="24"/>
                  <a:pt x="393" y="32"/>
                </a:cubicBezTo>
                <a:cubicBezTo>
                  <a:pt x="425" y="40"/>
                  <a:pt x="439" y="44"/>
                  <a:pt x="474" y="53"/>
                </a:cubicBezTo>
                <a:cubicBezTo>
                  <a:pt x="474" y="53"/>
                  <a:pt x="603" y="89"/>
                  <a:pt x="603" y="89"/>
                </a:cubicBezTo>
                <a:cubicBezTo>
                  <a:pt x="637" y="100"/>
                  <a:pt x="656" y="108"/>
                  <a:pt x="678" y="119"/>
                </a:cubicBezTo>
                <a:cubicBezTo>
                  <a:pt x="700" y="130"/>
                  <a:pt x="724" y="145"/>
                  <a:pt x="738" y="155"/>
                </a:cubicBezTo>
                <a:cubicBezTo>
                  <a:pt x="752" y="165"/>
                  <a:pt x="757" y="173"/>
                  <a:pt x="765" y="182"/>
                </a:cubicBezTo>
                <a:cubicBezTo>
                  <a:pt x="773" y="191"/>
                  <a:pt x="780" y="200"/>
                  <a:pt x="785" y="209"/>
                </a:cubicBezTo>
                <a:cubicBezTo>
                  <a:pt x="794" y="223"/>
                  <a:pt x="793" y="227"/>
                  <a:pt x="795" y="239"/>
                </a:cubicBezTo>
                <a:cubicBezTo>
                  <a:pt x="797" y="251"/>
                  <a:pt x="800" y="268"/>
                  <a:pt x="800" y="279"/>
                </a:cubicBezTo>
                <a:cubicBezTo>
                  <a:pt x="801" y="296"/>
                  <a:pt x="801" y="296"/>
                  <a:pt x="798" y="308"/>
                </a:cubicBezTo>
                <a:cubicBezTo>
                  <a:pt x="795" y="320"/>
                  <a:pt x="787" y="336"/>
                  <a:pt x="780" y="349"/>
                </a:cubicBezTo>
                <a:cubicBezTo>
                  <a:pt x="772" y="361"/>
                  <a:pt x="765" y="375"/>
                  <a:pt x="753" y="386"/>
                </a:cubicBezTo>
                <a:cubicBezTo>
                  <a:pt x="740" y="399"/>
                  <a:pt x="721" y="414"/>
                  <a:pt x="702" y="425"/>
                </a:cubicBezTo>
                <a:cubicBezTo>
                  <a:pt x="683" y="436"/>
                  <a:pt x="662" y="444"/>
                  <a:pt x="642" y="452"/>
                </a:cubicBezTo>
                <a:cubicBezTo>
                  <a:pt x="622" y="460"/>
                  <a:pt x="612" y="466"/>
                  <a:pt x="585" y="473"/>
                </a:cubicBezTo>
                <a:cubicBezTo>
                  <a:pt x="585" y="473"/>
                  <a:pt x="535" y="486"/>
                  <a:pt x="480" y="494"/>
                </a:cubicBezTo>
                <a:cubicBezTo>
                  <a:pt x="425" y="502"/>
                  <a:pt x="370" y="504"/>
                  <a:pt x="295" y="504"/>
                </a:cubicBezTo>
                <a:cubicBezTo>
                  <a:pt x="220" y="504"/>
                  <a:pt x="235" y="499"/>
                  <a:pt x="145" y="504"/>
                </a:cubicBezTo>
                <a:cubicBezTo>
                  <a:pt x="72" y="751"/>
                  <a:pt x="0" y="999"/>
                  <a:pt x="0" y="999"/>
                </a:cubicBezTo>
                <a:cubicBezTo>
                  <a:pt x="0" y="999"/>
                  <a:pt x="230" y="999"/>
                  <a:pt x="230" y="999"/>
                </a:cubicBezTo>
                <a:cubicBezTo>
                  <a:pt x="230" y="999"/>
                  <a:pt x="490" y="984"/>
                  <a:pt x="490" y="984"/>
                </a:cubicBezTo>
                <a:cubicBezTo>
                  <a:pt x="556" y="979"/>
                  <a:pt x="582" y="975"/>
                  <a:pt x="627" y="968"/>
                </a:cubicBezTo>
                <a:cubicBezTo>
                  <a:pt x="672" y="961"/>
                  <a:pt x="717" y="953"/>
                  <a:pt x="760" y="944"/>
                </a:cubicBezTo>
                <a:cubicBezTo>
                  <a:pt x="803" y="935"/>
                  <a:pt x="846" y="925"/>
                  <a:pt x="888" y="914"/>
                </a:cubicBezTo>
                <a:cubicBezTo>
                  <a:pt x="930" y="903"/>
                  <a:pt x="971" y="894"/>
                  <a:pt x="1015" y="879"/>
                </a:cubicBezTo>
                <a:cubicBezTo>
                  <a:pt x="1078" y="858"/>
                  <a:pt x="1106" y="846"/>
                  <a:pt x="1150" y="824"/>
                </a:cubicBezTo>
                <a:cubicBezTo>
                  <a:pt x="1194" y="802"/>
                  <a:pt x="1247" y="771"/>
                  <a:pt x="1280" y="749"/>
                </a:cubicBezTo>
                <a:cubicBezTo>
                  <a:pt x="1312" y="724"/>
                  <a:pt x="1329" y="712"/>
                  <a:pt x="1350" y="689"/>
                </a:cubicBezTo>
                <a:cubicBezTo>
                  <a:pt x="1373" y="664"/>
                  <a:pt x="1385" y="649"/>
                  <a:pt x="1420" y="599"/>
                </a:cubicBezTo>
                <a:cubicBezTo>
                  <a:pt x="1455" y="549"/>
                  <a:pt x="1465" y="464"/>
                  <a:pt x="1465" y="464"/>
                </a:cubicBezTo>
                <a:cubicBezTo>
                  <a:pt x="1470" y="429"/>
                  <a:pt x="1464" y="416"/>
                  <a:pt x="1460" y="394"/>
                </a:cubicBezTo>
                <a:cubicBezTo>
                  <a:pt x="1456" y="372"/>
                  <a:pt x="1451" y="353"/>
                  <a:pt x="1443" y="332"/>
                </a:cubicBezTo>
                <a:cubicBezTo>
                  <a:pt x="1433" y="312"/>
                  <a:pt x="1428" y="290"/>
                  <a:pt x="1410" y="266"/>
                </a:cubicBezTo>
                <a:cubicBezTo>
                  <a:pt x="1392" y="242"/>
                  <a:pt x="1363" y="211"/>
                  <a:pt x="1335" y="189"/>
                </a:cubicBezTo>
                <a:cubicBezTo>
                  <a:pt x="1335" y="189"/>
                  <a:pt x="1299" y="160"/>
                  <a:pt x="1242" y="134"/>
                </a:cubicBezTo>
                <a:cubicBezTo>
                  <a:pt x="1185" y="108"/>
                  <a:pt x="1154" y="101"/>
                  <a:pt x="1116" y="89"/>
                </a:cubicBezTo>
                <a:cubicBezTo>
                  <a:pt x="1078" y="77"/>
                  <a:pt x="1063" y="72"/>
                  <a:pt x="1011" y="62"/>
                </a:cubicBezTo>
                <a:cubicBezTo>
                  <a:pt x="1011" y="62"/>
                  <a:pt x="879" y="38"/>
                  <a:pt x="801" y="26"/>
                </a:cubicBezTo>
                <a:cubicBezTo>
                  <a:pt x="727" y="15"/>
                  <a:pt x="629" y="9"/>
                  <a:pt x="564" y="5"/>
                </a:cubicBezTo>
                <a:cubicBezTo>
                  <a:pt x="499" y="1"/>
                  <a:pt x="449" y="2"/>
                  <a:pt x="411" y="2"/>
                </a:cubicBezTo>
                <a:cubicBezTo>
                  <a:pt x="374" y="1"/>
                  <a:pt x="358" y="0"/>
                  <a:pt x="336" y="2"/>
                </a:cubicBezTo>
                <a:cubicBezTo>
                  <a:pt x="314" y="2"/>
                  <a:pt x="288" y="2"/>
                  <a:pt x="279" y="5"/>
                </a:cubicBez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-360" y="1600200"/>
            <a:ext cx="624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6161040" y="1523880"/>
            <a:ext cx="87480" cy="103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1771200" y="3807000"/>
            <a:ext cx="554364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47800" y="3706920"/>
            <a:ext cx="87480" cy="102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6971400" y="1440"/>
            <a:ext cx="16787520" cy="54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69" y="13"/>
                </a:moveTo>
                <a:arcTo wR="10800" hR="10800" stAng="-5569118" swAng="2590457"/>
                <a:lnTo>
                  <a:pt x="10800" y="10800"/>
                </a:lnTo>
                <a:close/>
              </a:path>
              <a:path fill="none" w="21600" h="21600">
                <a:moveTo>
                  <a:pt x="10269" y="13"/>
                </a:moveTo>
                <a:arcTo wR="10800" hR="10800" stAng="-5569118" swAng="2590457"/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22003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400800" y="0"/>
            <a:ext cx="2743200" cy="3638520"/>
            <a:chOff x="6400800" y="0"/>
            <a:chExt cx="2743200" cy="3638520"/>
          </a:xfrm>
        </p:grpSpPr>
        <p:sp>
          <p:nvSpPr>
            <p:cNvPr id="55" name=""/>
            <p:cNvSpPr/>
            <p:nvPr/>
          </p:nvSpPr>
          <p:spPr>
            <a:xfrm>
              <a:off x="7429680" y="2849400"/>
              <a:ext cx="87120" cy="103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6400800" y="0"/>
              <a:ext cx="2743200" cy="35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_tech" descr="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7391520" y="838080"/>
              <a:ext cx="1508040" cy="28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helmet" descr=""/>
            <p:cNvPicPr/>
            <p:nvPr/>
          </p:nvPicPr>
          <p:blipFill>
            <a:blip r:embed="rId4">
              <a:lum bright="70000" contrast="-70000"/>
            </a:blip>
            <a:stretch/>
          </p:blipFill>
          <p:spPr>
            <a:xfrm>
              <a:off x="7010640" y="304560"/>
              <a:ext cx="152388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227160" indent="0"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62712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698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31112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311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311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2438280"/>
            <a:ext cx="73152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Processamento e Transmissão Digital de Sinais de Voz:</a:t>
            </a:r>
            <a:br>
              <a:rPr sz="2800"/>
            </a:b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Mecanismo de Produção da Fala</a:t>
            </a: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800"/>
            </a:b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18960" y="3733560"/>
            <a:ext cx="655308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Verdana"/>
              </a:rPr>
              <a:t>Benedito Aguiar Guimarães Neto     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Verdana"/>
              </a:rPr>
              <a:t>Joseana Macêdo Fechin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Verdana"/>
              </a:rPr>
              <a:t>Universidade Federal de Campina Grand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66"/>
                </a:solidFill>
                <a:latin typeface="Verdana"/>
              </a:rPr>
              <a:t>bganeto@dee.ufcg.edu.br, joseana@dsc.ufcg.edu.b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Laringe - porção da via aérea que contém as cordas vocais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Ela é dividida em supraglote (acima das cordas vocais), glote (região das cordas vocais) e subglote (região abaixo das cordas vocais)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Supraglote - evita que os alimentos e a saliva entrem nos pulmões. Algumas estruturas da supraglote são: epiglote, aritenóides e falsas cordas vocais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cc"/>
                </a:solidFill>
                <a:latin typeface="Arial"/>
                <a:ea typeface="Arial"/>
              </a:rPr>
              <a:t>Cordas vocai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 - fecham-se para gerar voz e abrem-se para que possamos respirar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52280" y="5331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O  aparelho fonador humano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CE48F-925C-4DCD-9CF8-CCF09F095B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Traquéias, brônquios e bronquíolo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ão  tubos flexíveis, de extensibilidade limitad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 algn="just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rvem como dutos aéreos para permitir a movimentação do ar entre o meio ambiente e os pulmõ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0D935-4A66-4FBC-8590-79ECBAC809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O  aparelho fonador humano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4764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ssas nasai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oca e anex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nexos - (língua, os palatos duro e mole, a úvula,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s dentes, os alvéolos dentários, os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ábios e as bochechas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C6FC9-99E4-408B-882E-278481172A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Úvula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ando a úvula é levantada contra a parede da faringe, o movimento da coluna de ar se faz quase que exclusivamente pela boca, gerando os </a:t>
            </a:r>
            <a:r>
              <a:rPr b="1" lang="pt-BR" sz="2400" spc="-1" strike="noStrike" u="sng">
                <a:solidFill>
                  <a:srgbClr val="3333cc"/>
                </a:solidFill>
                <a:uFillTx/>
                <a:latin typeface="Arial"/>
              </a:rPr>
              <a:t>fonemas orai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o entanto, quando ela é rebaixada em direção à língua, o ar se movimenta principalmente pelas fossas nasais, produzindo-se, então, os </a:t>
            </a:r>
            <a:r>
              <a:rPr b="1" lang="pt-BR" sz="2400" spc="-1" strike="noStrike" u="sng">
                <a:solidFill>
                  <a:srgbClr val="3333cc"/>
                </a:solidFill>
                <a:uFillTx/>
                <a:latin typeface="Arial"/>
              </a:rPr>
              <a:t>fonemas nasai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B8EC8-D76E-45F3-9A41-CDB62640A9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5562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Produção da voz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ibração das cordas vocai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som é produzido por fragmentação da corrente aérea, semelhante aos instrumentos de sopr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54D9B-3E50-467B-9C36-822D690200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3160" y="3581280"/>
            <a:ext cx="739116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-1857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Gradiente de pressão entre as superfícies superior e inferior das cordas vocai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lasticidade das cordas vocai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feito Venturi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213372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Fatores de natureza biofísica  que  interferem  na vibração das cordas voc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533520" y="5331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Produção da voz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380CA-AC8B-4B83-B6CE-A363BDB8A6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Fatores que alteram a voz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Geometr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ssa das cordas vocai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stosterona - aumenta a massa das cordas vocais e desenvolve a  laring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dulto possui voz mais grave que a crianç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391D5-B74D-40A5-AF69-D473737FB9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286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 gosto pelo virtuosismo chegou ao seu ponto extremo com o fenômeno do castrato, indivíduo que, por meios cirúrgicos que o tornam eunuco, conserva, depois de adulto, sua voz de criança, acrescida de tudo que pode proporcionar a cultura e a arte de um adulto. Os castrati reinaram na Europa do século XVIII. Formados em escolas especiais, adquiriam um virtuosismo inigualável (capacidade de sustentar a respiração, velocidade, domínio do timbre, extensão de três oitavas, expressividade, etc.). A ópera italiana era escrita para eles , na qual tanto faziam papéis masculinos como femininos. Os castrati de sucesso foram as vedetes da época barroca, ganhando fortunas que fariam nossos grandes astros do cinema parecerem amadores.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Farineli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antava 150 notas de um só fôlego. Era um homem sério e um grande artista, que percorria a Europa disputado a peso de ouro. Tendo cantado para Luís XV e recebido, a título de agradecimento, um cofre de ouro constelado de diamantes, cheio de moedas de ouro, declarou, indignado, que jamais voltaria a pôr os pés naquele país de mendigos... 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 último castrato famoso, Moreschi, morto em 1922, gravou em 1902 alguns preciosos registros.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Informações interessantes: http://www.infonet.com.br/mozart/Manz.htm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3049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Informação adicional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6F463-0946-4F9C-A9B9-445758BFA1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Cavidades ressonante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s cavidades bucal, nasal, faríngea e laríngea funcionam como sistema que ressoa na faixa de 300 a 500 Hz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s grossos brônquios (diâmetro maior do que 3 mm) apresentam ressonância para freqüências entre 1.000 e 1.700 Hz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Hipertrofias das amídalas, cornetos nasais e tumores nas cavidades modificam a qualidade do son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3C60A-D319-490F-9F65-F625A91B69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Os fonema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-18576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 u="sng">
                <a:solidFill>
                  <a:srgbClr val="3333cc"/>
                </a:solidFill>
                <a:uFillTx/>
                <a:latin typeface="Arial"/>
              </a:rPr>
              <a:t>Vogai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- são fonemas sonoros gerados na laring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 u="sng">
                <a:solidFill>
                  <a:srgbClr val="3333cc"/>
                </a:solidFill>
                <a:uFillTx/>
                <a:latin typeface="Arial"/>
              </a:rPr>
              <a:t>Semivogai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- são os fonemas  i  ou  u átonos, quando estes aparecem unidos a uma vogal, formando com esta uma só sílaba. Ex. va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u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o, ág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u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 u="sng">
                <a:solidFill>
                  <a:srgbClr val="3333cc"/>
                </a:solidFill>
                <a:uFillTx/>
                <a:latin typeface="Arial"/>
              </a:rPr>
              <a:t>Consoante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- são ruídos,i.é., não são sons musicais. Elas se formam ao nível da boca pelo concurso dos seus órgãos anexos e acessóri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7DDB5-6241-431F-9C25-3A7CCDFAE2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Fala e Linguage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mbora os termos fala e linguagem sejam usados freqüentemente, não são sinônim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Linguage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refere-se à habilidade em manipular os símbolos. Os símbolos mais usados são as palavras, embora estas nem sempre tenham que ser ditas em voz alta. A linguagem significa expressar e receber informações de modo significativo. É compreender e ser compreendido através da comunica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Fal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A fala se refere basicamente à forma de articular sons nas palavras. A fala refere-se à produção de um conjunto especifico de símbolos verbai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B1CB5-7481-49E0-8F8C-D4386560F3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Classificação dos sons da fala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4952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 u="sng">
                <a:solidFill>
                  <a:srgbClr val="000066"/>
                </a:solidFill>
                <a:uFillTx/>
                <a:latin typeface="Arial"/>
              </a:rPr>
              <a:t>As vogais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. Zona de articulaçã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185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édia: a (amor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185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nteriores: é, ê, i (pé, crê, vi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1960" indent="-185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osteriores: ó, ô, u (pó, avô, caju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7" name="FIG2" descr=""/>
          <p:cNvPicPr/>
          <p:nvPr/>
        </p:nvPicPr>
        <p:blipFill>
          <a:blip r:embed="rId1"/>
          <a:srcRect l="0" t="0" r="0" b="7298"/>
          <a:stretch/>
        </p:blipFill>
        <p:spPr>
          <a:xfrm>
            <a:off x="5257800" y="2286000"/>
            <a:ext cx="3548160" cy="3476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1DF1D-F268-4DC1-9B75-3ED4D91449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33160" y="19051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000066"/>
                </a:solidFill>
                <a:uFillTx/>
                <a:latin typeface="Arial"/>
              </a:rPr>
              <a:t>As vogais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ogais anteriores (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é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ê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i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 - são emitidas abaixando-se a ponta da língua e elevando-se progressivamente a sua parte anterior em direção ao palato duro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just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ogais posteriores (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ó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ô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u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 - exigem que se eleve cada vez mais a base da língua em direção ao palato, enquanto os lábios vão tomando uma forma arredondada e fechad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 vogal média  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é produzida com a língua em posição de descanso e a boca entreabert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5228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Classificação dos sons da fala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AAD13-AA0C-438E-A134-B85E873E45A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76579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333399"/>
                </a:solidFill>
                <a:uFillTx/>
                <a:latin typeface="Arial"/>
              </a:rPr>
              <a:t>As vogais: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. Ressoador principal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Oral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- a, é, ê, i, ó, ô, u como nas palavras pato, ré, dê, vi, nó, fogo, luv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Nasal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- a, e, i, o , u quando acentuadas pelo til ou quando antecedem o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ou o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m,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o nas palavras vã, vento, fim, bom, fund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522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Classificação dos sons da fala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99F25-ED0A-4F75-84E6-4F21673950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4081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 úvula e palato mole exercem uma função de grande importância na fonação, pois podem modificar o timbre do fonema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elo movimento dessas estruturas, a coluna de ar pode ser expelida pela boca dando origem aos fonemas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orai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ou pelo nariz, quando então se formam os fonemas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nasai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3" name="FIG1" descr=""/>
          <p:cNvPicPr/>
          <p:nvPr/>
        </p:nvPicPr>
        <p:blipFill>
          <a:blip r:embed="rId1"/>
          <a:stretch/>
        </p:blipFill>
        <p:spPr>
          <a:xfrm>
            <a:off x="4916520" y="1905120"/>
            <a:ext cx="3228840" cy="4572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522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Classificação dos sons da fala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234D2-9786-4A09-9390-8AC19FA3466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757760" y="1905120"/>
            <a:ext cx="3548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ônicas: j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á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acaraj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é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o, aqu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dro, p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u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ubtônicas: armistíci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cafezinh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compadr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átonas: vel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bol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ção, dad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j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u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ga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sílaba tônica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- maior intensida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sílabas subtônica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- média intensida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sílabas átona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- baixa intensidade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6" name="FIG6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3548160" cy="3717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47" name=""/>
          <p:cNvSpPr/>
          <p:nvPr/>
        </p:nvSpPr>
        <p:spPr>
          <a:xfrm>
            <a:off x="533160" y="2438280"/>
            <a:ext cx="21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3. A Intens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5228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Classificação dos sons da fala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0800" y="1801800"/>
            <a:ext cx="197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 u="sng">
                <a:solidFill>
                  <a:srgbClr val="333399"/>
                </a:solidFill>
                <a:uFillTx/>
                <a:latin typeface="Arial"/>
              </a:rPr>
              <a:t>As voga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0A78C-BF61-401D-B3FC-106143B4427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3200400"/>
            <a:ext cx="449568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bertas: a, é, ó (v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á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f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é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jil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ó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fechadas: ê, ô, i, u e todas as nasais (ip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ê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, v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it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u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ã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f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da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duzidas: as vogais átonas orais ou nasais (revel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bul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al, rat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unçã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ei, entã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1" name="FIG4" descr=""/>
          <p:cNvPicPr/>
          <p:nvPr/>
        </p:nvPicPr>
        <p:blipFill>
          <a:blip r:embed="rId1"/>
          <a:stretch/>
        </p:blipFill>
        <p:spPr>
          <a:xfrm>
            <a:off x="5029200" y="2286000"/>
            <a:ext cx="3548160" cy="3429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457200" y="25146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 tim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0800" y="1801800"/>
            <a:ext cx="197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 u="sng">
                <a:solidFill>
                  <a:srgbClr val="333399"/>
                </a:solidFill>
                <a:uFillTx/>
                <a:latin typeface="Arial"/>
              </a:rPr>
              <a:t>As voga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52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Classificação dos sons da fala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26332-AD7A-42CA-88F1-1152823EC9C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419360" y="2133360"/>
            <a:ext cx="419076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lassificaçã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. Modo de articulaçã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Oclusivas: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quando ocorre o impedimento completo ao fluxo de saída do ar pela boc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85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Constritivas: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quando ocorre impedimento parcial à expulsão do ar pela boc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6" name="FIG3" descr=""/>
          <p:cNvPicPr/>
          <p:nvPr/>
        </p:nvPicPr>
        <p:blipFill>
          <a:blip r:embed="rId1"/>
          <a:stretch/>
        </p:blipFill>
        <p:spPr>
          <a:xfrm>
            <a:off x="533520" y="2743200"/>
            <a:ext cx="3547800" cy="3720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5228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Classificação dos sons da fala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2600" y="1801800"/>
            <a:ext cx="282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 u="sng">
                <a:solidFill>
                  <a:srgbClr val="333399"/>
                </a:solidFill>
                <a:uFillTx/>
                <a:latin typeface="Arial"/>
              </a:rPr>
              <a:t>As conso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8E0FA-CDB1-4F47-A8D9-51F3DC7584E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95360" y="2895120"/>
            <a:ext cx="81532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-18576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fricativa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 quando o ar é expulso por um conduto oral estreitado ou pelos lábios quase fechados (f, v, x, ç, s, z, j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vibrante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 quando, ao sair, o ar vibra de modo áspero ( r 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laterai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 quando a língua fica em contato com o palato e obstrui o canal central da boca, deixando que o ar se escoe por canais situados próximos às bochechas (l, lh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19051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Neste grupo estão as consoa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52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Classificação dos sons da fala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5600D-7D0A-47DF-865E-AB9509004DC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. Ponto de articula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bilabiai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 (p, b, m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labiodentai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 (f, v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linguodentai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 (t, d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alveolare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 língua e alvélos (s, z, l, n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palatai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 dorso da língua junto ao palato duro ( j, g com  som de j, e o x, lh, nh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velare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 região posterior da língua junto ao palato mole ( c com som de k, q, e o g com som de guê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5228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Classificação dos sons da fala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0BDF2-7E41-41DF-9396-6131B9541C2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3. Vibrações das cordas vocai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2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8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sonora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 quando há vibração das cordas vocai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surda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 quando não há vibração das cordas vocai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4. Ressoador princip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03360" indent="0">
              <a:spcBef>
                <a:spcPts val="2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8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orai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 t, b, p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nasai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 m, n, nh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52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Classificação dos sons da fala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2F68D-B3CE-4E81-843F-1FF364E8308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Fala e Linguage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981080"/>
            <a:ext cx="8343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-185760" algn="just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Sinal de voz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qüência de sons e suas respectivas transições que representam simbolicamente a informa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 algn="just">
              <a:spcBef>
                <a:spcPts val="3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 algn="just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Linguagem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junto de regras que regem a combinação dos sons (lingüística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 algn="just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 algn="just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Fonétic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udo e classificação dos sons (Fonemas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 algn="just"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 algn="just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Fonologi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udo da realização dos fonem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EE70B-9DFD-409A-B7B5-15B68B3C90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3333cc"/>
                </a:solidFill>
                <a:latin typeface="Arial"/>
              </a:rPr>
              <a:t>afasias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distúrbios do planejament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3333cc"/>
                </a:solidFill>
                <a:latin typeface="Arial"/>
              </a:rPr>
              <a:t>aparaxias</a:t>
            </a: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alteração da programação - lesão na área motora secundária. A pessoa não consegue elaborar uma seqüência longa de fonemas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3333cc"/>
                </a:solidFill>
                <a:latin typeface="Arial"/>
              </a:rPr>
              <a:t>disartrias</a:t>
            </a: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anormalidades de execução - lesão no córtex motor primário ou na região de onde emergem do cérebro os nervos cranianos orofaciais. Estes apresentam incapacidade de encontrar entre as diversas possibilidades de articulação aquela que é capaz de produzir uma voz clara na qual os fonemas, as palavras e o sentido das frases fiquem explícito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228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Sons da fala - Anomalia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5F020-5366-44D2-A04D-BDA1B181C78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3333cc"/>
                </a:solidFill>
                <a:latin typeface="Arial"/>
              </a:rPr>
              <a:t>Afasia de Brocca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pacientes portadores dessa anormalidade têm grande dificuldade  para falar e, geralmente, suprimem as palavras de ligação tais como as preposições e as conjunções. Estes apresentam lesão no córtex do lobo temporal anterior esquerdo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3333cc"/>
                </a:solidFill>
                <a:latin typeface="Arial"/>
              </a:rPr>
              <a:t>Parafasi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Emprego de palavras mal aplicadas, tornando a linguagem incompreensível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3333cc"/>
                </a:solidFill>
                <a:latin typeface="Arial"/>
              </a:rPr>
              <a:t>Anartri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impossibilidade de articular palavras, mas pode compreendê-las, quando ouve ou lê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3333cc"/>
                </a:solidFill>
                <a:latin typeface="Arial"/>
              </a:rPr>
              <a:t>Afonia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incapacidade de emitir voz, porque há paralisia das cordas vocai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Sons da fala - Anomalia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09C93-7F87-4376-9814-78EA1664737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33520" y="4952880"/>
            <a:ext cx="807696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ns da vo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noros        Surdos       Explosiv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xcitação Mis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28600" y="2438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Mecanismo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de Produ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da Voz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286000" y="1752480"/>
            <a:ext cx="6497640" cy="2667240"/>
            <a:chOff x="2286000" y="1752480"/>
            <a:chExt cx="6497640" cy="2667240"/>
          </a:xfrm>
        </p:grpSpPr>
        <p:sp>
          <p:nvSpPr>
            <p:cNvPr id="173" name=""/>
            <p:cNvSpPr/>
            <p:nvPr/>
          </p:nvSpPr>
          <p:spPr>
            <a:xfrm>
              <a:off x="5240160" y="1752480"/>
              <a:ext cx="3543480" cy="26672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4" name=""/>
            <p:cNvGraphicFramePr/>
            <p:nvPr/>
          </p:nvGraphicFramePr>
          <p:xfrm>
            <a:off x="2760480" y="1906560"/>
            <a:ext cx="2057400" cy="2436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60480" y="1906560"/>
                      <a:ext cx="2057400" cy="2436840"/>
                    </a:xfrm>
                    <a:prstGeom prst="rect">
                      <a:avLst/>
                    </a:prstGeom>
                    <a:ln w="38160">
                      <a:solidFill>
                        <a:srgbClr val="b2b2b2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76" name=""/>
            <p:cNvSpPr/>
            <p:nvPr/>
          </p:nvSpPr>
          <p:spPr>
            <a:xfrm>
              <a:off x="2286000" y="3009960"/>
              <a:ext cx="288720" cy="2887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78360" y="3009960"/>
              <a:ext cx="266400" cy="26676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8" name=""/>
          <p:cNvGraphicFramePr/>
          <p:nvPr/>
        </p:nvGraphicFramePr>
        <p:xfrm>
          <a:off x="4952880" y="1523880"/>
          <a:ext cx="5594400" cy="2787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1523880"/>
                    <a:ext cx="5594400" cy="27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380880" y="152280"/>
            <a:ext cx="601992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CVHM – </a:t>
            </a:r>
            <a:br>
              <a:rPr sz="3200"/>
            </a:b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Produção da Fala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3E784-8189-4D98-971C-E8AB526587D2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ns Sonor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ão geradas ondas de pressão, quase periódicas, excitando o trato voca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á vibração das cordas vocais (Ex: /a/, /i/, /l/, /m/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514600" y="3772080"/>
            <a:ext cx="4876920" cy="266220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4133880" y="6059520"/>
            <a:ext cx="1752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a/ em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u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5040" y="407880"/>
            <a:ext cx="263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Sons da voz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32474-1715-4BEE-9BAC-FB76999ABA85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ns Surd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 produzida uma turbulência gerando uma fonte de ruído de espectro largo (semelhante ao ruído branco) para excitar o trato vocal. (Ex: /s/, /f/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324160" y="3657600"/>
            <a:ext cx="4952880" cy="27590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187" name=""/>
          <p:cNvSpPr/>
          <p:nvPr/>
        </p:nvSpPr>
        <p:spPr>
          <a:xfrm>
            <a:off x="4133880" y="6040440"/>
            <a:ext cx="1752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s/ em aplaus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5040" y="407880"/>
            <a:ext cx="25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Sons da v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D18C3-9CA7-4B7D-BDFD-9AFAD7FEB427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808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ns Explosiv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 gerado um pulso que excita o aparelho fonador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 a excitação ocorre um movimento rápido dos articuladores em direção à configuração do próximo som. (Ex.: /p/, /t/, /k/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495520" y="3889440"/>
            <a:ext cx="4800600" cy="27399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191" name=""/>
          <p:cNvSpPr/>
          <p:nvPr/>
        </p:nvSpPr>
        <p:spPr>
          <a:xfrm>
            <a:off x="4210200" y="6211800"/>
            <a:ext cx="1752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p/ em 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u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25040" y="407880"/>
            <a:ext cx="25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Sons da v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29448-9967-4DC1-AD7D-56AE8139DD31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808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ns com excitação mist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ns fricativos sonoros. Ex.: /j/, /v/, /z/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ão produzidos combinando-se a vibração das cordas vocais e a excitação turbulent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ns oclusivos (explosivos) sonoros. Ex.: /d/, /b/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52600" y="4267080"/>
            <a:ext cx="4190760" cy="2278080"/>
          </a:xfrm>
          <a:prstGeom prst="rect">
            <a:avLst/>
          </a:prstGeom>
          <a:ln w="25560">
            <a:solidFill>
              <a:srgbClr val="b2b2b2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781520" y="4248000"/>
            <a:ext cx="4114800" cy="2297160"/>
          </a:xfrm>
          <a:prstGeom prst="rect">
            <a:avLst/>
          </a:prstGeom>
          <a:ln w="25560">
            <a:solidFill>
              <a:srgbClr val="b2b2b2"/>
            </a:solidFill>
            <a:miter/>
          </a:ln>
        </p:spPr>
      </p:pic>
      <p:sp>
        <p:nvSpPr>
          <p:cNvPr id="196" name=""/>
          <p:cNvSpPr/>
          <p:nvPr/>
        </p:nvSpPr>
        <p:spPr>
          <a:xfrm>
            <a:off x="1752480" y="6172200"/>
            <a:ext cx="1752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z/ em aplau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6172200"/>
            <a:ext cx="1752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b/ em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25040" y="484200"/>
            <a:ext cx="263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Sons da voz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90479-FA3C-4307-B845-F89F3C01ADA4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143000" y="2819520"/>
            <a:ext cx="67816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609120" y="2209680"/>
            <a:ext cx="7620120" cy="379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stema Digital Simplificado de produção da fal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676520" y="3048120"/>
            <a:ext cx="6094800" cy="3047400"/>
            <a:chOff x="1676520" y="3048120"/>
            <a:chExt cx="6094800" cy="3047400"/>
          </a:xfrm>
        </p:grpSpPr>
        <p:sp>
          <p:nvSpPr>
            <p:cNvPr id="202" name=""/>
            <p:cNvSpPr/>
            <p:nvPr/>
          </p:nvSpPr>
          <p:spPr>
            <a:xfrm>
              <a:off x="1676520" y="3761280"/>
              <a:ext cx="1879920" cy="86292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84880" y="3885120"/>
              <a:ext cx="16596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958400" y="3944160"/>
              <a:ext cx="1367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gerador do tr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44960" y="4187880"/>
              <a:ext cx="831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de puls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676520" y="5232600"/>
              <a:ext cx="1879920" cy="86292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230800" y="4497120"/>
              <a:ext cx="1879560" cy="86292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7108920" y="4799880"/>
              <a:ext cx="662400" cy="134280"/>
              <a:chOff x="7108920" y="4799880"/>
              <a:chExt cx="662400" cy="134280"/>
            </a:xfrm>
          </p:grpSpPr>
          <p:sp>
            <p:nvSpPr>
              <p:cNvPr id="209" name=""/>
              <p:cNvSpPr/>
              <p:nvPr/>
            </p:nvSpPr>
            <p:spPr>
              <a:xfrm>
                <a:off x="7108920" y="4862520"/>
                <a:ext cx="54612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650000" y="4799880"/>
                <a:ext cx="121320" cy="134280"/>
              </a:xfrm>
              <a:custGeom>
                <a:avLst/>
                <a:gdLst/>
                <a:ahLst/>
                <a:rect l="l" t="t" r="r" b="b"/>
                <a:pathLst>
                  <a:path w="73" h="73">
                    <a:moveTo>
                      <a:pt x="0" y="73"/>
                    </a:moveTo>
                    <a:lnTo>
                      <a:pt x="73" y="35"/>
                    </a:lnTo>
                    <a:lnTo>
                      <a:pt x="0" y="0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4676040" y="3881160"/>
              <a:ext cx="108000" cy="3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5009400" y="4796280"/>
              <a:ext cx="217440" cy="134280"/>
              <a:chOff x="5009400" y="4796280"/>
              <a:chExt cx="217440" cy="134280"/>
            </a:xfrm>
          </p:grpSpPr>
          <p:sp>
            <p:nvSpPr>
              <p:cNvPr id="213" name=""/>
              <p:cNvSpPr/>
              <p:nvPr/>
            </p:nvSpPr>
            <p:spPr>
              <a:xfrm>
                <a:off x="5009400" y="4862520"/>
                <a:ext cx="10296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105880" y="4796280"/>
                <a:ext cx="120960" cy="134280"/>
              </a:xfrm>
              <a:custGeom>
                <a:avLst/>
                <a:gdLst/>
                <a:ahLst/>
                <a:rect l="l" t="t" r="r" b="b"/>
                <a:pathLst>
                  <a:path w="73" h="73">
                    <a:moveTo>
                      <a:pt x="0" y="73"/>
                    </a:moveTo>
                    <a:lnTo>
                      <a:pt x="73" y="37"/>
                    </a:lnTo>
                    <a:lnTo>
                      <a:pt x="0" y="0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6160680" y="4023720"/>
              <a:ext cx="121320" cy="367560"/>
              <a:chOff x="6160680" y="4023720"/>
              <a:chExt cx="121320" cy="367560"/>
            </a:xfrm>
          </p:grpSpPr>
          <p:sp>
            <p:nvSpPr>
              <p:cNvPr id="216" name=""/>
              <p:cNvSpPr/>
              <p:nvPr/>
            </p:nvSpPr>
            <p:spPr>
              <a:xfrm>
                <a:off x="6223680" y="4023720"/>
                <a:ext cx="1800" cy="23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160680" y="4256640"/>
                <a:ext cx="121320" cy="134640"/>
              </a:xfrm>
              <a:custGeom>
                <a:avLst/>
                <a:gdLst/>
                <a:ahLst/>
                <a:rect l="l" t="t" r="r" b="b"/>
                <a:pathLst>
                  <a:path w="73" h="73">
                    <a:moveTo>
                      <a:pt x="0" y="0"/>
                    </a:moveTo>
                    <a:lnTo>
                      <a:pt x="38" y="73"/>
                    </a:lnTo>
                    <a:lnTo>
                      <a:pt x="7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598120" y="3402720"/>
              <a:ext cx="119160" cy="245520"/>
              <a:chOff x="2598120" y="3402720"/>
              <a:chExt cx="119160" cy="245520"/>
            </a:xfrm>
          </p:grpSpPr>
          <p:sp>
            <p:nvSpPr>
              <p:cNvPr id="219" name=""/>
              <p:cNvSpPr/>
              <p:nvPr/>
            </p:nvSpPr>
            <p:spPr>
              <a:xfrm>
                <a:off x="2659680" y="3402720"/>
                <a:ext cx="1440" cy="116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598120" y="3513600"/>
                <a:ext cx="119160" cy="134640"/>
              </a:xfrm>
              <a:custGeom>
                <a:avLst/>
                <a:gdLst/>
                <a:ahLst/>
                <a:rect l="l" t="t" r="r" b="b"/>
                <a:pathLst>
                  <a:path w="72" h="73">
                    <a:moveTo>
                      <a:pt x="0" y="0"/>
                    </a:moveTo>
                    <a:lnTo>
                      <a:pt x="37" y="73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1784880" y="5356080"/>
              <a:ext cx="16596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35360" y="5415840"/>
              <a:ext cx="1416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gerador de ruí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58280" y="5659560"/>
              <a:ext cx="74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aleatór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39160" y="4620600"/>
              <a:ext cx="16596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31760" y="4679640"/>
              <a:ext cx="1346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modelo do tra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762160" y="4924080"/>
              <a:ext cx="83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vocal V(z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78560" y="3048120"/>
              <a:ext cx="1386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período de pit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60920" y="3515400"/>
              <a:ext cx="1438200" cy="61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690880" y="3576600"/>
              <a:ext cx="1238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parâmetros 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47840" y="3822120"/>
              <a:ext cx="902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trato voc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124520" y="3393360"/>
              <a:ext cx="1326240" cy="61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24720" y="4023720"/>
              <a:ext cx="1137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chavea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68920" y="4289760"/>
              <a:ext cx="1190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sonoro/sur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373880" y="5106960"/>
              <a:ext cx="32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s(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87640" y="4740840"/>
              <a:ext cx="225000" cy="24912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4837680" y="5020200"/>
              <a:ext cx="120600" cy="244800"/>
              <a:chOff x="4837680" y="5020200"/>
              <a:chExt cx="120600" cy="244800"/>
            </a:xfrm>
          </p:grpSpPr>
          <p:sp>
            <p:nvSpPr>
              <p:cNvPr id="237" name=""/>
              <p:cNvSpPr/>
              <p:nvPr/>
            </p:nvSpPr>
            <p:spPr>
              <a:xfrm flipV="1">
                <a:off x="4897080" y="5147280"/>
                <a:ext cx="1800" cy="117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837680" y="5020200"/>
                <a:ext cx="120600" cy="134640"/>
              </a:xfrm>
              <a:custGeom>
                <a:avLst/>
                <a:gdLst/>
                <a:ahLst/>
                <a:rect l="l" t="t" r="r" b="b"/>
                <a:pathLst>
                  <a:path w="73" h="73">
                    <a:moveTo>
                      <a:pt x="73" y="73"/>
                    </a:moveTo>
                    <a:lnTo>
                      <a:pt x="36" y="0"/>
                    </a:lnTo>
                    <a:lnTo>
                      <a:pt x="0" y="73"/>
                    </a:lnTo>
                    <a:lnTo>
                      <a:pt x="73" y="73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3904560" y="4799880"/>
              <a:ext cx="879120" cy="134280"/>
              <a:chOff x="3904560" y="4799880"/>
              <a:chExt cx="879120" cy="134280"/>
            </a:xfrm>
          </p:grpSpPr>
          <p:sp>
            <p:nvSpPr>
              <p:cNvPr id="240" name=""/>
              <p:cNvSpPr/>
              <p:nvPr/>
            </p:nvSpPr>
            <p:spPr>
              <a:xfrm>
                <a:off x="3904560" y="4862520"/>
                <a:ext cx="76428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664160" y="4799880"/>
                <a:ext cx="119520" cy="134280"/>
              </a:xfrm>
              <a:custGeom>
                <a:avLst/>
                <a:gdLst/>
                <a:ahLst/>
                <a:rect l="l" t="t" r="r" b="b"/>
                <a:pathLst>
                  <a:path w="72" h="73">
                    <a:moveTo>
                      <a:pt x="0" y="73"/>
                    </a:moveTo>
                    <a:lnTo>
                      <a:pt x="72" y="35"/>
                    </a:lnTo>
                    <a:lnTo>
                      <a:pt x="0" y="0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3552840" y="4127400"/>
              <a:ext cx="221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52840" y="5722560"/>
              <a:ext cx="221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774600" y="4128840"/>
              <a:ext cx="1800" cy="61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3774600" y="4986720"/>
              <a:ext cx="1800" cy="73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00680" y="54619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124520" y="4986720"/>
              <a:ext cx="663120" cy="48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232880" y="5055120"/>
              <a:ext cx="33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u(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380880" y="152280"/>
            <a:ext cx="6019920" cy="12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CVHM – </a:t>
            </a:r>
            <a:br>
              <a:rPr sz="3200"/>
            </a:b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Produção da Fala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166BD-CC21-499A-BEC1-BFF69EF04AE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80880" y="19810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Ouvid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responsável por captar os sons (ondas sonoras) e passar suas informações para o cérebr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som captado passa pelo conduto auditivo externo e faz o tímpano vibrar, esta vibração é passada através de pequenos ossos, o martelo, a bigorna e o estribo. A informação então passa pelo labirinto (ou cóclea) e pelo nervo auditivo (ou nervo vestíbulo coclear) passa para o cérebr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Sistema Auditivo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DD348-0EBF-4A11-A04B-E99EB71306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7700760" cy="3436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304920" y="609480"/>
            <a:ext cx="7315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Sistema Audi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DD7FE-6A47-4A2C-ABF6-E23AD647F1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284880" cy="4713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304920" y="609480"/>
            <a:ext cx="7315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Mecanismos Voc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7C510-90F9-41B3-847F-832BCA5BDF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2209680"/>
            <a:ext cx="8229600" cy="34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-18576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200" spc="-1" strike="noStrike">
                <a:solidFill>
                  <a:srgbClr val="3333cc"/>
                </a:solidFill>
                <a:latin typeface="Arial"/>
              </a:rPr>
              <a:t>Aparelho respiratóri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- faculta ao organismo uma troca de gases com o ar atmosférico, assegurando permanente concentração de oxigênio no sangue, necessária para as reações metabólicas, e em contrapartida servindo como via de eliminação de gases residuais, que resultam dessas reações e que são representadas pelo gás carbônico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 vias aeríferas podem ser divididas em: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 algn="ctr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ARIZ - FARINGE - LARINGE - TRAQUÉIA – BRÔNQUIOS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609480"/>
            <a:ext cx="7315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Mecanismos Voc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B7F73-0070-4B81-BBFE-AF4528A5E3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2209320"/>
            <a:ext cx="8305560" cy="36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cc"/>
                </a:solidFill>
                <a:latin typeface="Arial"/>
              </a:rPr>
              <a:t>Narina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: São os dois buracos no nariz, é por lá que o ar entra. Aqueles pelinhos no nariz são o primeiro filtro. Eles vão reter (segurar) as sujeiras maiores como outros pelos, flocos de poeira, etc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cc"/>
                </a:solidFill>
                <a:latin typeface="Arial"/>
              </a:rPr>
              <a:t>Cavidade nasal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: A cavidade nasal fica logo depois das narinas. Lá está o segundo filtro: um muco que vai reter as sujeiras que passaram no primeiro filtro. Também ocorrem na cavidade nasal, outros dois processos: o umidecimento e o aquecimento do ar que entra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52280" y="5331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O  aparelho fonador humano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89EAB-15BE-4DCB-ABD5-56F9AD932B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200016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cc"/>
                </a:solidFill>
                <a:latin typeface="Arial"/>
              </a:rPr>
              <a:t>Faring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: A faringe é um local comum para o sistema digestório e respiratório, ou seja, é um local por onde passa o ar e o alimento. A faringe funciona como uma passagem de ar e alimento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cc"/>
                </a:solidFill>
                <a:latin typeface="Arial"/>
              </a:rPr>
              <a:t>Laring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: Como então o alimento não entra no pulmão? Isso é por conta da laringe e de sua "tampa" chamada epiglote.  A laringe é um órgão curto que conecta a faringe com a traquéia. A laringe também desempenha função na produção de som, que resulta na fonação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52280" y="5331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O  aparelho fonador humano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0097A-391C-499C-9050-2368E37595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9T13:30:47Z</dcterms:created>
  <dc:creator>Benedito G. A. Neto/Joseana M. Fechine</dc:creator>
  <dc:description/>
  <dc:language>en-US</dc:language>
  <cp:lastModifiedBy>Particular</cp:lastModifiedBy>
  <cp:lastPrinted>1999-02-22T17:14:49Z</cp:lastPrinted>
  <dcterms:modified xsi:type="dcterms:W3CDTF">2004-11-04T12:19:48Z</dcterms:modified>
  <cp:revision>413</cp:revision>
  <dc:subject/>
  <dc:title>Processamento e Transmissão Digital de Sinais de Voz </dc:title>
</cp:coreProperties>
</file>