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5458-C41C-4F45-80FD-BDAEC3FF9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37D4-75F7-4D40-A55C-AD2003AF7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831A-C273-488A-8A61-5F93F612B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21F9-A26F-4F14-B829-9D7C3EABD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7C86-75C4-4D8A-AF01-F4041359F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6CAF-C171-45E5-965D-F8B1F26E5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D0AE-3422-436B-BDC8-985D5260F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38AD-05F0-4613-92C4-FB1B3C447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4CBC-6553-43F8-B318-6A2897C89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06BC-7742-410C-A22F-56BAA7521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94D1-1B86-4D7A-8E19-F2A4B7741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9592-C9F3-427C-92CE-1F4E91CA0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430D-5FE4-49BA-8578-4A140FB98AD0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presentação da Disciplina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Guimarães Aguiar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43280" indent="-14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rga horária: 45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43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43280" indent="-14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éditos: 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43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43280" indent="-143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ment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processo natural de produção da fala. O sinal de voz: caracterização e análise. Conceitos de fonética e fonologia. Classificação dos sons da fala. Modelos para a produção da fala. Síntese de voz. Métodos básicos para o processamento de voz no domínio do tempo e da freqüência. Transcrição texto-fala. Filtro Wiener. Técnicas para melhoramento de sinais de voz degradados por ruído acústico. Técnicas para o reconhecimento de fala e de locutor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Apresentaçã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7DDC-5C51-4896-9D77-30F149D4EC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6956280" cy="33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25E1-7483-456C-98D9-C4B737558D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7620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ínu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avaliações individuais e trabalhos em labo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interativos de pesquisa extra-class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individuais e em grup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de pesquisa em sala de aul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individuais e em gru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Avaliaçã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9655-58E4-4B58-A41E-2D8270A45D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2666880"/>
            <a:ext cx="702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3200" spc="-1" strike="noStrike">
                <a:solidFill>
                  <a:srgbClr val="000066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28800"/>
            <a:ext cx="830592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1]RABINER, L. R. and SHAFER, R. W.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gital Processing of Speech Signa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Prentice-Hall, 197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2]DELLER Jr. R., PROAKIS, J. G., and HANSEN, J. H. L.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screte-tim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sing of Speech Signa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Macmillan Publishing Co., 19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3]KLEIJN, W. B. and PALIWAL, K. K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peech Coding and Synthesi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Elsevier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4]FLANAGAN, L. J., Speech Analysis Synthesis and Perception, Murray Hill Second Edition, 197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5]HAYKIN, S. S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ural Networks: A Comprehensive Foundation (2nd Edition)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tice-Hall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5ACC-BE41-400F-84FB-5DEAB0BA1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2666880"/>
            <a:ext cx="702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3200" spc="-1" strike="noStrike">
                <a:solidFill>
                  <a:srgbClr val="000066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6]JURAFSKY, D. and MARTIN, J. H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peech and Language Processing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Prentice-Hall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7]PAPOULIS, A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gnal Analysi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McGraw-Hill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8]DAN, A., SITARA, D.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media Servers: Applications, Environments, and Desig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media Information and System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organ Kaufmman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9]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ULA FILHO, W. P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mídia: Conceitos e Aplicaçõe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JC Editora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10]RUSSO, I. e BEHLAU, M., Percepção da Fala: Análise Acústica, Editora Lovise, 199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CBD3-E737-4B1E-BCC4-71582A98CE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Joseana Macêdo Fechine/DSC/UFCG</dc:creator>
  <dc:description/>
  <dc:language>en-US</dc:language>
  <cp:lastModifiedBy>Particular</cp:lastModifiedBy>
  <cp:lastPrinted>1999-02-22T17:14:49Z</cp:lastPrinted>
  <dcterms:modified xsi:type="dcterms:W3CDTF">2004-10-18T20:30:17Z</dcterms:modified>
  <cp:revision>411</cp:revision>
  <dc:subject/>
  <dc:title>Comunicação Vocal Homem Máquina: Princípios Fundamentais </dc:title>
</cp:coreProperties>
</file>