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C922-ECB3-4AE4-B0CA-CB32AC37D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C40E-77B8-455D-9A92-A9559973E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64F7-C05A-4002-AC50-8FECDD80B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D064-283F-447F-81D8-70161AB4E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4B320-DBC0-46A2-BD08-BD04A308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DA2C4-2A38-4920-8521-902DFA63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8F2B4-BC2B-4AFA-9790-90B63277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1EA6E-C99D-4F3A-8570-AF1D8F67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9B2E3-07FC-42D9-B5BB-5516B6F8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3F02D-7D14-4164-B222-C032D446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20DBA-82F3-44A9-932F-B7597A24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B55F-3B04-4194-B357-BC0EDDF2C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C48CE-13BD-450D-A082-DF9ADAAC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0FC15-2122-4F75-99E7-2D0C502B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24BE2-03F3-49EA-855E-01329B42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B0A3E-92D2-44EB-8906-A37D18F8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C02E3-7039-43B0-BEE7-6BE3F55B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F77C-E3E2-4E4D-AB37-38236020A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2371-BCEC-406B-BED7-4F7FE2C86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7CD8-2CE7-4C9B-B521-718732C9C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FEBE-BB36-4EFA-9562-CAD27472E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7D1F-69C8-4E88-9706-81C7D6EEE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B1BB-DD51-4F97-8463-E63825BAE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42E1-7F94-48B1-9CDD-F3E9BB4F6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4A1C-59D9-4182-841E-57EF85ED406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237000"/>
            <a:ext cx="647640" cy="576360"/>
            <a:chOff x="250920" y="623700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9888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419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23664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42816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24528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CE61-BF67-47B3-9D78-5A8BC0DCB6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692360" y="3357360"/>
            <a:ext cx="748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Verdana"/>
              </a:rPr>
              <a:t>Nível ISA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Verdana"/>
              </a:rPr>
              <a:t>(Parte I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58920" y="1700280"/>
            <a:ext cx="768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os de memó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cesso a memórias alinhadas são mais efic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0240" indent="-208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eitura de um endereço arbitrário requer um hardware mais sofisticado e é mais ca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smo quando alinhadas, os acessos à memória podem ser não alinh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0240" indent="-208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utenção de compatibilidade com arquiteturas antigas (máquinas de 8 ou 16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FB71-2A57-46F3-B81E-DD42B2B663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41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istra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s os processadores têm um conjunto de registradores visíveis no nível I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para controlar a execução do programa, para guardar resultados temporários e para outros propós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geral, os registradores visíveis no nível de microarquitetura, não são visíveis para o nível ISA. Há exceções (ex.: PC e SP visíveis em ambos os níve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gistradores visíveis no nível ISA são sempre visíveis no nível da microarquitetura, uma vez que é lá que são implemen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A1CD-CC4A-4255-BCA2-84428A27C1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conjunto de instruções controla tudo o que a máquina pode faz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instruções típ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, STORE - realizam o movimento de dados e instruções entre memória e registrad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- realizam cópia de valores entre regist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SUB, MULT,... - realizam operações aritméticas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, OR, XOR, ... - realizam operações lóg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, NEQ, LEQ,... - realizam operações de compar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TO - operação de desv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7A70-E208-40D3-AC43-6979067DC8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5040360" cy="3992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333440" y="184464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Instr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1627-B7D4-48F0-A2F2-022CCA443D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4968720" cy="4135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333440" y="177336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Instr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42B1-4B6D-4860-BD1B-FBAFD881C4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551640" cy="4008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333440" y="17002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Instr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8232-64F2-43BF-83E4-62914D7F60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5904000" cy="4370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333440" y="17002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Instr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4E82-4877-4516-AB57-24A10BEBB2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5616360" cy="3718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333440" y="184464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Instr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D753-2BD6-441E-AE52-042A71264F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6553080" cy="3814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333440" y="184464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Instr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23A3-ED31-47E9-811F-6F137B0186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2627" t="0" r="0" b="0"/>
          <a:stretch/>
        </p:blipFill>
        <p:spPr>
          <a:xfrm>
            <a:off x="1547640" y="2637000"/>
            <a:ext cx="7094880" cy="3024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333440" y="184464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Instr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29ED-E7A9-4176-9070-3B89944B36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ível 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ível da Arquitetura do Conjunto de Instru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6DD8-782A-4347-B63B-D9F9548AE33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2841" t="0" r="2293" b="0"/>
          <a:stretch/>
        </p:blipFill>
        <p:spPr>
          <a:xfrm>
            <a:off x="1187280" y="2421000"/>
            <a:ext cx="7848720" cy="2989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333440" y="184464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Instr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6E69-ADCC-47BB-80BC-D03A4BB340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33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Dados - Numér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ir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mente de 8, 16, 32 e 64 bits, com sinal e sem s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itas vezes representados em complemento de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: Para o caso de 32 bits sem sin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ores intei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: Para caso de 32 bits com sin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ores inteiros mais o sinal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F859-92C9-4961-BED6-EBB4FFD507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Dados - Numér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nto Flutua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mente de  32, 64 e 128 bits, com sinal e sem s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-se o sinal, a parte inteira e a parte decim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em existir registradores específicos para esses tipos de d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F05D5-5CB1-4E4C-A440-9120EAB0BC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58560" y="1916280"/>
            <a:ext cx="7489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Dados – Não Numér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xt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fanuméric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icamente usados em processadores de texto, planilhas e banco de d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digos mais usados atualmente: ASCII (8 bits) e UNICODE (16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BE95-BCBD-4CCE-B602-7E534BD888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331640" y="1956960"/>
            <a:ext cx="7561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 de Instr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instrução é formada p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código de operação (obrigatóri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ormações a respeito da fonte e do destino de seus operandos (facultativ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, dois ou três endereç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6336-6B83-4778-A6DB-DFAB156AB3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331640" y="1628280"/>
            <a:ext cx="7561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o de Instr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7489800" cy="2004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58920" y="4365720"/>
            <a:ext cx="76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tro formatos de instruções muito comuns: (a) Instrução sem endereço. (b) Instrução com um endereço. (c) Instrução com dois endereços. (d) instrução com três endereç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6308640"/>
            <a:ext cx="6840720" cy="337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s.: OPCODE – Código de operação, ADDRESS, ADDR  - Endereç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37E3-FDF3-4AAF-86F9-B327980345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403280" y="1916280"/>
            <a:ext cx="7331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ódigo de operação informa ao hardware o que deve ser feito quando de sua execu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instru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em ter tamanhos diversos (complica o projeto mas tem-se economia de memória)  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em ser todas de tamanhos iguais (simplifica o projeto, mas desperdiça espaço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r qu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9FD9-6B5E-465C-A24D-E8A8C8C281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27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mportante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tamanho ideal  de uma instrução deve considerar, além do preço da memória, o tempo de decodificação e de execução de uma instru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os processadores modernos são capazes de executar várias instruções no mesmo ciclo de clock, torna-se imperativo um mecanismo de busca de várias instruções em cada ciclo de clock (memórias cach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uma instrução tem endereços, o tamanho do endereço deve ser compatível com o tamanho máximo da memória do computador. Mas, memórias maiores requerem endereços mais longos resultando em instruções mai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C5D1-02F9-4DD3-BED1-85618DCD0D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2920" y="1844640"/>
            <a:ext cx="727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ível 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a interface entre o software e o hard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cação atual: “a arquitetura” da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 empregada pelos Arquitetos de Siste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ita-se programas em diversas linguagens de Alto Ní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duz-se a linguagem para uma linguagem intermediária - o nível I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rói-se um hardware, com ou sem microprogramação, que executa instruções do nível ISA. Nesse nível está definida a interface entre os compiladores e o hard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5A3A-248B-4969-B4F3-398F2F91D6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76360" y="1916280"/>
            <a:ext cx="7331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Nível ISA depende de uma negociação entre os projetistas de compiladores e os engenheiros de Hardw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novas máquinas devem ser compatíveis co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gos Sistemas Operacion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ções já desenvolvi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desafio é construir máquinas melhores e compatíveis com as anteri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1F9C-5FA1-4C02-BD39-DC360EA537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32000" y="184428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ão Geral do N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dades do Nível I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nível ISA define o aspecto da máquina para um programador de linguagem de máqu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gerar código para o nível ISA o projetista do compilador deve conhec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modelo de memória da máqu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is os registradores que estão implemen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tipos de dados e de instruções disponíve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D387-C213-4A5D-B6B3-C36EFC60B4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03280" y="1700280"/>
            <a:ext cx="741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são Geral do N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riedades do Nível I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bém afetam o desempenho e devem ser visíveis ao projetista do compilador: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a máquina é microprogramada ou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ardw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é projetada ou não e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ipelin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erescalar ou n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algumas arquiteturas não existe uma documentação formal de especific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bricante não quer clones de sua máquin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ex: Pentium-Inte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A62B-E62B-4C67-A7CA-9B9047761E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são Geral do N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riedades do Nível I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ência de, no mínimo, dois modos de execu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do kerne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ou supervisor) – usado para executar o sistema operacional e, portanto, permite que qualquer instrução da máquina seja executada no me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do usuári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usado para executar programas de aplicação e não permite que certas instruções mais sensíveis executem no me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301C-A64C-41F5-BFA4-3C39F15633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02920" y="1916280"/>
            <a:ext cx="720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os de memó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s os computadores dividem suas memórias em um conjunto de células que têm endereços consecutivos. O tamanho mais comum das células é de 8 bits (by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bytes são em geral agrupados em palavras de 4 bytes (32 bits) ou de 8 bytes (64 bi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lavras de 4 ou 8 bytes podem estar alinhadas ou não alinhadas com as fronteiras naturais da memó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E81B-E5B9-4B82-8815-2F352D5467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42920" y="5157720"/>
            <a:ext cx="78120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Uma palavra de 8 bytes em uma memória little-endian.  (a) Alinhada      (b) Não Alinhada. Algumas máquinas exigem que as palavras da memória sejam alinhad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7812000" cy="2447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05280" y="3995640"/>
            <a:ext cx="46674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4120" y="4014720"/>
            <a:ext cx="261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lavra de 8 bytes, alinhada, armazenada no endereço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34040" y="3995640"/>
            <a:ext cx="26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lavra de 8 bytes, não-alinhada, armazenada no endereço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2300400"/>
            <a:ext cx="5257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38520" y="2319480"/>
            <a:ext cx="52387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338560"/>
            <a:ext cx="533412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38520" y="23572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ereç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10560" y="2395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ereç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5311-D2D1-4F98-82BD-48AA553C99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8-24T09:58:19Z</dcterms:modified>
  <cp:revision>253</cp:revision>
  <dc:subject/>
  <dc:title>Organização e Arquitetura de Computadores I</dc:title>
</cp:coreProperties>
</file>