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3.wmf" ContentType="image/x-wmf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9.wmf" ContentType="image/x-wmf"/>
  <Override PartName="/ppt/media/image14.wmf" ContentType="image/x-wmf"/>
  <Override PartName="/ppt/media/image6.png" ContentType="image/png"/>
  <Override PartName="/ppt/media/image10.wmf" ContentType="image/x-wmf"/>
  <Override PartName="/ppt/media/image8.png" ContentType="image/png"/>
  <Override PartName="/ppt/media/image11.wmf" ContentType="image/x-wmf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EFBD-B4CB-470A-9346-AB3E5060D5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8B3ABE-9527-49CC-8E63-9F8FB2072C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A73A69-6F6A-4B06-8787-CFC7EB5C59C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03F0C-B67D-46E9-B784-AB9451678BD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A45A2C3-237B-4BD6-BC0A-97C0F35078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59FA5-65FB-4D26-8DDF-D09448822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B963B0-CA7C-4887-A29D-3F4E83EA4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2B0D8A8-E5BE-4E42-BF68-5A5D4E7CF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9F60973-6F07-44E7-8B9F-4CE5D5CB6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ECBDB7-84C8-4D0F-8307-3625DF66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7EB236-345E-40F5-B0DA-93000BD57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FAD602-06EB-4696-90F9-508F45514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F865F86-2B8D-4436-91B7-D03EC9CDE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04ABC8-8C5F-4F6C-AC36-2DBA900B4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5B0816-57C8-4B5D-8284-982B5B022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3EB5EE-8417-4028-B367-8A69FEDE00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96000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516720" y="181296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140328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96000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516720" y="4161240"/>
            <a:ext cx="243468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E4D16E-473F-4AB6-9229-FD7EA6AE0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66C901-DB15-43DC-B737-292D22374A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1DFB22-BE2E-4E94-9A80-A6030567CD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DABBAC-6AD5-4078-BCA5-B7E5AD5D36A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219320" y="18864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D4F2E7-823D-44E6-AB2A-102F51D03BE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879236-1DA2-4CD3-92D2-F9DBD66BFE8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277960" y="416124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A8913-16B8-4DCE-BE5D-F0426F9ACA4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40328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277960" y="1812960"/>
            <a:ext cx="3689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403280" y="4161240"/>
            <a:ext cx="75614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8BC610-6BC2-42CE-A82C-0438D2959E5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143000" y="155736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8728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403280" y="1812960"/>
            <a:ext cx="7561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4244B-F3C5-46AC-BA4C-21AE83209490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250920" y="6237000"/>
            <a:ext cx="647640" cy="576360"/>
            <a:chOff x="250920" y="6237000"/>
            <a:chExt cx="647640" cy="576360"/>
          </a:xfrm>
        </p:grpSpPr>
        <p:sp>
          <p:nvSpPr>
            <p:cNvPr id="6" name=""/>
            <p:cNvSpPr/>
            <p:nvPr/>
          </p:nvSpPr>
          <p:spPr>
            <a:xfrm>
              <a:off x="250920" y="669888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13000" y="6419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flipV="1">
              <a:off x="281520" y="623664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515160" y="642816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282600" y="624528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892080" y="3141720"/>
            <a:ext cx="8001000" cy="0"/>
          </a:xfrm>
          <a:prstGeom prst="line">
            <a:avLst/>
          </a:prstGeom>
          <a:ln cap="sq"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6364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8144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2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3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4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37329-5377-41EA-B5D4-87EE0E0DD492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39640" y="6165360"/>
            <a:ext cx="647640" cy="576360"/>
            <a:chOff x="539640" y="6165360"/>
            <a:chExt cx="647640" cy="576360"/>
          </a:xfrm>
        </p:grpSpPr>
        <p:sp>
          <p:nvSpPr>
            <p:cNvPr id="54" name=""/>
            <p:cNvSpPr/>
            <p:nvPr/>
          </p:nvSpPr>
          <p:spPr>
            <a:xfrm>
              <a:off x="539640" y="6627240"/>
              <a:ext cx="647640" cy="11448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600" spc="-1" strike="noStrike">
                  <a:solidFill>
                    <a:srgbClr val="000000"/>
                  </a:solidFill>
                  <a:latin typeface="Humanst521 BT"/>
                </a:rPr>
                <a:t>DSC/CEEI/UFCG</a:t>
              </a:r>
              <a:endParaRPr b="0" lang="en-US" sz="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01720" y="634788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 flipV="1">
              <a:off x="570240" y="6165000"/>
              <a:ext cx="35172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03880" y="6356520"/>
              <a:ext cx="35280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571320" y="6173640"/>
              <a:ext cx="353880" cy="2530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ffffff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1763640" y="115920"/>
            <a:ext cx="7129440" cy="162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Departamento de Sistemas e Computaçã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1692360" y="3357360"/>
            <a:ext cx="7488000" cy="309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Verdana"/>
              </a:rPr>
              <a:t>(Parte V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Prof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Verdan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Verdan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Verdana"/>
              </a:rPr>
              <a:t>Carga Horária: 60 hora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algn="ctr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908000" y="1413000"/>
            <a:ext cx="693432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Organização e Arquitetura </a:t>
            </a:r>
            <a:br>
              <a:rPr sz="3200"/>
            </a:br>
            <a:r>
              <a:rPr b="1" lang="pt-BR" sz="3200" spc="-1" strike="noStrike">
                <a:solidFill>
                  <a:srgbClr val="000066"/>
                </a:solidFill>
                <a:latin typeface="Verdana"/>
              </a:rPr>
              <a:t>de Computadores I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1402920" y="1714680"/>
            <a:ext cx="7209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Controle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Control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 Bus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incroniza as atividades do sistema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Conduz o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status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e a informação de controle de/para o microprocessador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ara um Barramento de Controle ser formado, várias linhas de controle são necessária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2BE246-8633-48BF-A92B-A869D5EE6FA6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rcRect l="2066" t="0" r="2334" b="0"/>
          <a:stretch/>
        </p:blipFill>
        <p:spPr>
          <a:xfrm>
            <a:off x="1258920" y="2637000"/>
            <a:ext cx="7740720" cy="2465280"/>
          </a:xfrm>
          <a:prstGeom prst="rect">
            <a:avLst/>
          </a:prstGeom>
          <a:ln w="0">
            <a:noFill/>
          </a:ln>
        </p:spPr>
      </p:pic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30D30-501C-41D2-B484-42F74D1C8AC0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1332000" y="1844640"/>
            <a:ext cx="7488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Barrament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di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para linhas de dados e endere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ultiplex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lha linhas de dados e endereç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 linhas de endereço válido ou dado váli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m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– Poucas linhas, espaço,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role mais complex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000000"/>
              </a:buClr>
              <a:buSzPct val="80000"/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dução do desempenh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99771D-CBBE-4893-A2A9-DB123FB9648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900" spc="-1" strike="noStrike">
                <a:solidFill>
                  <a:srgbClr val="000000"/>
                </a:solidFill>
                <a:latin typeface="Arial"/>
              </a:rPr>
              <a:t>Cada dispositivo de E/S é composto de duas partes: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Controladora – contém a maioria dos circuitos eletrônicos do dispositivo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25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O dispositivo propriamente dito (ex.: drive de disco)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1547640" y="3716280"/>
            <a:ext cx="6909120" cy="297180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AA3CAD-4C1C-4376-8604-964E0A74802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Controladora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 está em uma placa ligada a um slot livre, exceto no caso daquelas que não são opcionais (ex.: teclado), que muitas vezes está na placa mã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Função: controlar seu dispositivo de E/S e tratar o acesso do dispositivo a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controladora que lê ou escreve dados da/na memória sem que seja necessária a intervenção do processador, executa Acesso Direto à Memória (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Direct Memory Access – DM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933D20-9335-4192-96A6-A47A53B047F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167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cesso Direto à Memória (</a:t>
            </a: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DMA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termina a transferência dos dados, a controladora força uma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interrup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, fazendo com que o processador suspenda a execução do programa corrente, para começar a rodar um procedimento especial – </a:t>
            </a: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rotina de tratamento da interrupção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ando a rotina de tratamento da interrupção terminar sua execução, o processador retorna a execução do programa interrompido quando da ocorrência da interrup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E4AD7-E421-4171-9C1D-29B260FBA7C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1370160" y="2565360"/>
            <a:ext cx="7773840" cy="286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C4A05F-700E-4C57-AD23-33FF1F83A30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1258560" y="1916280"/>
            <a:ext cx="7257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barramento não é usado apenas pelas controladoras de E/S, mas também pelo processador na busca de instruções e dados da memó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200" spc="-1" strike="noStrike">
                <a:solidFill>
                  <a:srgbClr val="000000"/>
                </a:solidFill>
                <a:latin typeface="Arial"/>
              </a:rPr>
              <a:t>O que vai acontecer se o processador e uma controladora de E/S decidirem usar o barramento ao mesmo tempo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5126FF-751E-4A85-80CF-C5C7C55F651A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35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Árbitro de barr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um chip), decide de quem é a vez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m geral, os dispositivos de E/S têm preferência, preterindo o processador, pois os discos e demais dispositivos, cuja operação dependa de movimento de suas partes, não podem ter seu trabalho interrompi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a operação de E/S estiver em andamento, será garantido acesso prioritário ao barramento ao dispositivo que estiver realizando a tarefa. Denominação: roubo de ciclo (tem influência direta no desempenho do computador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1258920" y="5805360"/>
            <a:ext cx="7634160" cy="8240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Essa metodologia funcionou muito bem nos primeiros PC, dado que a velocidade de operação de todos os seus componentes era, em linhas gerais, da mesma ordem de magnitude da banda passante do barrament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CCD886-ECC6-4DDE-B69F-7A50D218EE60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53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ipos de Arbitragem de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itragem cent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cisa de um árbitro para controlar o acesso ao barramento que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termina quem será o próximo mestre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Arbitragem descentraliz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usa árbitro para controlar o acesso a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um dispositivo precisar usar o barramento, o dispositivo deve ativar a linha de requisi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dispositivos monitoram todas as linhas de requisi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17D852-1E19-4CB9-90DA-E7DD7838966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Tópicos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03280" y="1916280"/>
            <a:ext cx="7593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rganização Básica de Computador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osição (Dispositivos de Entrada e Saída Interligado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7BDD12-7370-49CE-833E-60E3CE891F33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1258920" y="1628280"/>
            <a:ext cx="75312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bitragem de Barramento 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332000" y="2205000"/>
            <a:ext cx="7502400" cy="4533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CBF505-74DF-4517-8F9B-5DCEDD1FABE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5312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Arbitragem de Barramento Descentralizad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1619280" y="2781360"/>
            <a:ext cx="7008840" cy="2485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FEBAE4-A011-4FB0-91A6-383BB46D306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3436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Protocolo de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junto de regras que especificam o funcionamento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fine as regras e especificações, elétricas e mecânicas, de compatibilização de um conjunto de dispositivos de E/S, em geral fornecidos por terceiros, com 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dispositivos ligados ao barramento podem funcionar com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mestre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dispositivos ativos, ou seja, que comandam o barramen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crav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 dispositivos passivos, ou seja, não controlam o barramento.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2AED1C-ABAB-40DB-B0C8-9BD1478F389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332000" y="2708280"/>
            <a:ext cx="7638840" cy="230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5DA18E-5F3F-479A-B99D-19F326D83CB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Temporização do 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êm uma de suas linhas alimentada por um oscilador a cristal (clock). Todas as atividades do barramento gastam um número inteiro de ciclos desse sinal – ciclos do barramen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As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usam clock para sincronização de opera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262160" y="5805360"/>
            <a:ext cx="7630920" cy="8636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  <a:effectLst>
            <a:outerShdw dist="12600" dir="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mportante: O maior problema com o barramento síncrono é que os dispositivos mais rápidos têm que esperar alguns clocks inteiros para finalização de operações com dispositivos mais len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1E81E2-3DD0-4D8D-8880-ABCB135B39B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5793"/>
          <a:stretch/>
        </p:blipFill>
        <p:spPr>
          <a:xfrm>
            <a:off x="1763640" y="2276640"/>
            <a:ext cx="6553440" cy="4105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339D6C-8DD7-4EEB-9886-0BBAEA52669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1258920" y="177336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s Assíncron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1476360" y="2492280"/>
            <a:ext cx="7053120" cy="348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A11048-12B0-45C9-8338-869EF763389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nhuma ou pouca lógica é necessária durante a trans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amento rápido e de baixo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odos os dispositivos devem operar na mesma velocida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isco de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lock skew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êm comprimento físico limita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ransação consiste basicamente de duas partes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e leitura dos d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F03FFE-CEAF-48D2-A242-37EEA1599D2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As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unicação se dá a partir de um protocolo conhecido como aperto de mão 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handshaking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que é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elf-time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s adaptável a mudanças tecnológi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daptável a uma grande variedade de dispositivos (velocidad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mite maior comprimento físic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sado tipicamente em transações de entrada/saí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F1D2D0-9ADB-4D78-8C1E-0C3EE76636A6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Assíncro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svantage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ógica dedicada é necessária em cada dispositiv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ior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verhead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evido ao processo de sincron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nor BW (Banda Passante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D94B98-1A10-4761-9DA9-BAD5B9B8501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caminho de comunicação entre duas ou mais un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artilhado –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um usuário por ve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omunicação é do tipo um para todos -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broadcas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são agrupamentos de canais da largura de um bi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. Um barramento de 32 bits é constituído de 32 canais de um b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D463B5-8EA5-4160-9FDF-496415857A1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1258560" y="1773360"/>
            <a:ext cx="770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Assíncrono - Transaç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0 – colocação do endereço nas linhas de dados e ativação do sinal de leitura requerida pelo dispositivo de entrada/saíd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1 – leitura do endereço e ativação do sinal de reconhecimento pela memó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2 – detecção do sinal de reconhecimento e liberação das linhas de dados e leitura requerida pelo dispositiv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3 – reconhecimento da liberação das linhas e desativação do sinal de reconhecimento pela memória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4 – quando pronta, a memória coloca os dados nas linhas de dados e ativa o sinal de dados pro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5 – o dispositivo reconhece o sinal de dados prontos, lê os dados e ativa o sinal de reconheci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6 – a memória detecta o sinal de reconhecimento, e então libera as linhas de dados e dados prontos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700" spc="-1" strike="noStrike">
                <a:solidFill>
                  <a:srgbClr val="000000"/>
                </a:solidFill>
                <a:latin typeface="Arial"/>
              </a:rPr>
              <a:t>7 – o dispositivo detecta a liberação da linha dados prontos e desativa o sinal de reconhecimento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356F01-E7CB-4296-898C-C841C6CC8A3C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/>
          </p:nvPr>
        </p:nvSpPr>
        <p:spPr>
          <a:xfrm>
            <a:off x="1331640" y="1773360"/>
            <a:ext cx="73738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rcício 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nsidere um barramento síncrono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para a memória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itura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dado para o dispositivo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responda as quest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o tempo total para a leitura de uma palav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banda passante máx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0E8001-102A-4EC6-B318-62680CADCCEB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endereço para a memória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eitura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vio do dado para o dispositivo: 5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total para a leitura de uma palav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 ns + 20 ns + 5 ns = 3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Banda passante máx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bytes / 30 ns  = 133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55888F-0684-43FF-BE49-676DBD82661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446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Exercício 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Considere um barramento assíncrono com as seguintes característic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cada passo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passo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responda as questões abaix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o tempo total para a leitura de uma palav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 a banda passante máxim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1DB76-A3CC-4A30-AD33-560A1456B190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spost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argura do barramento = 4 byt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passo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 da memória: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empo total para a leitura de uma palavr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 1: 4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s 2,3,4: máximo (3 x 4 ns , 20 ns) = 20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ssos 5,6,7: 3 x 4 ns = 12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ns + 20 ns + 12 ns = 36 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- Banda passante máxim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3621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 bytes / 36 ns = 111 MB/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5D8DA4-952D-4DB9-8899-9CBA4968ABBF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1212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Síncron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ssíncr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barramentos síncronos não podem tirar vantagem dos ganhos em desempenho das novas tecnologias surgidas após a sua defini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cada mudança de tecnologia, para se aumentar o desempenho do sistema, é necessário trocar todos os dispositivos da tecnologia anterior. Isto não acontece com os barramentos assíncronos, pois cada operação pode definir a sua própria temporizaç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 conviver num mesmo barramento assíncrono dispositivos de tecnologias diferentes. Esta flexibilidade tem, como custo, uma maior complexidade do barrament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A79FC-D518-48C4-AD92-8428B95E5465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/>
          </p:nvPr>
        </p:nvSpPr>
        <p:spPr>
          <a:xfrm>
            <a:off x="1331640" y="191628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Barramento Síncrono </a:t>
            </a:r>
            <a:r>
              <a:rPr b="1" i="1" lang="pt-BR" sz="2000" spc="-1" strike="noStrike">
                <a:solidFill>
                  <a:srgbClr val="000000"/>
                </a:solidFill>
                <a:latin typeface="Arial"/>
              </a:rPr>
              <a:t>x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 Assíncro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medida que os avanços tecnológicos aproximam-se dos limites físicos de velocidade dos dispositivos, a vantagem da flexibilidade dos barramentos assíncronos perde um pouco a sua importâ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is numa mesma tecnologia, o desempenho dos barramentos síncronos é um pouco maior que o desempenho dos barramentos assíncro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7D04CB-624B-4AAA-AA9D-0C23F0CDAA79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/>
          </p:nvPr>
        </p:nvSpPr>
        <p:spPr>
          <a:xfrm>
            <a:off x="1258920" y="1844640"/>
            <a:ext cx="7634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arramento assíncrono tem vantagens em relação ao síncrono, porém os síncronos são mais usados pois:</a:t>
            </a:r>
            <a:br>
              <a:rPr sz="2000"/>
            </a:b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ão mais fáceis de construir, o processador simplesmente ativa seus sinais e a memória simplesmente reage a eles. Não há realimentação (causa e efeito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há uma boa soma de dinheiro investida na tecnologia de barramentos síncron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0D400A-F5A2-404B-BEB1-A7D842BF28C8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1" name=""/>
          <p:cNvGraphicFramePr/>
          <p:nvPr/>
        </p:nvGraphicFramePr>
        <p:xfrm>
          <a:off x="1332000" y="981000"/>
          <a:ext cx="7592760" cy="5678280"/>
        </p:xfrm>
        <a:graphic>
          <a:graphicData uri="http://schemas.openxmlformats.org/drawingml/2006/table">
            <a:tbl>
              <a:tblPr/>
              <a:tblGrid>
                <a:gridCol w="1528560"/>
                <a:gridCol w="1118880"/>
                <a:gridCol w="1281240"/>
                <a:gridCol w="1432080"/>
                <a:gridCol w="2232000"/>
              </a:tblGrid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Barrament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Número de bit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Dado por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ciclo de cloc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Taxa máxima de transferênci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26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132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-X 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33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66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AGP X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66 M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133 MB/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3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1lan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5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2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2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5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0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4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1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891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16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4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PCI Express X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2.5 GH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serial/32lan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PT" sz="1200" spc="-1" strike="noStrike">
                          <a:solidFill>
                            <a:srgbClr val="000000"/>
                          </a:solidFill>
                          <a:latin typeface="Arial"/>
                          <a:ea typeface="SimSun"/>
                        </a:rPr>
                        <a:t>8.000 MB/s em cada senti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2" name=""/>
          <p:cNvSpPr/>
          <p:nvPr/>
        </p:nvSpPr>
        <p:spPr>
          <a:xfrm>
            <a:off x="2990880" y="260280"/>
            <a:ext cx="4024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s de Barramen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C62C8-BDB7-47B3-A6EF-6F5D4AF2E90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1979640" y="1989000"/>
            <a:ext cx="6064200" cy="451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CA860D-E017-4148-9C9E-02FD705C305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1331640" y="1628280"/>
            <a:ext cx="75610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 de um computad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224000" y="2637000"/>
            <a:ext cx="7812000" cy="3252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47EAB3-1963-43C9-B114-25C08B79785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rcRect l="5936" t="0" r="0" b="0"/>
          <a:stretch/>
        </p:blipFill>
        <p:spPr>
          <a:xfrm>
            <a:off x="2124000" y="1690560"/>
            <a:ext cx="6264360" cy="51674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F04DDF-C204-4400-8EC7-9FD39C0022F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1258920" y="1773000"/>
            <a:ext cx="7634160" cy="321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ndo os barramentos são longos e com muitos dispositivos usam-se chips amplificadores digit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barramento tem linhas de endereços, dados e controle, porém não é necessário o mapeamento 1 para 1 com os pinos do processador. Para compatibilizar sinais e pinos dos processadores são usados chips conhecidos com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decodificador de barrament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o se projetar um barramento, faz-se necessário considerar os seguintes aspectos: largura, metodologia de temporização, arbitragem e operações possíveis.  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332000" y="6308640"/>
            <a:ext cx="7226280" cy="312840"/>
          </a:xfrm>
          <a:prstGeom prst="rect">
            <a:avLst/>
          </a:prstGeom>
          <a:noFill/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 projeto eficiente de barramentos é crucial para a velocidade do sistem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2E9AA-48E1-4961-986D-8DC1EC34FE6E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simp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476360" y="2852640"/>
            <a:ext cx="7143840" cy="32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93E55F-F3CD-4788-9556-71A147F76E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1331640" y="1844640"/>
            <a:ext cx="7561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s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múltipl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692360" y="2924280"/>
            <a:ext cx="6603840" cy="339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166699-7D7C-4898-9444-141844EE3D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/>
          </p:nvPr>
        </p:nvSpPr>
        <p:spPr>
          <a:xfrm>
            <a:off x="1403280" y="1812960"/>
            <a:ext cx="73389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s – Tip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dados –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endereços – un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rramento de controle - bidirecion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B4FE18-468F-4031-BDE9-A8C82AD6C54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1332000" y="1916280"/>
            <a:ext cx="76197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Dado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Data B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São linhas usadas para transferência de dados e instruções entre processador, memória e dispositivos de E/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Possuem diferentes tamanhos, dependendo do processador. Exemplo: 8, 16, 32, 64 e 128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3CBE01-949E-4B5E-95B7-A93901F6373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1258560" y="1844640"/>
            <a:ext cx="75531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Barramento de Endereços (</a:t>
            </a:r>
            <a:r>
              <a:rPr b="1" i="1" lang="pt-BR" sz="2400" spc="-1" strike="noStrike">
                <a:solidFill>
                  <a:srgbClr val="000000"/>
                </a:solidFill>
                <a:latin typeface="Arial"/>
              </a:rPr>
              <a:t>Address Bus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sado para selecionar a origem ou destino de sinais transmitidos em um dos outros barramentos ou em uma de suas linhas. Conduz endereç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Uma função típica: selecionar um registrador em um dos dispositivos do sistema, que é usado como a fonte ou o destino do dado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O processador usa </a:t>
            </a:r>
            <a:r>
              <a:rPr b="0" i="1" lang="pt-BR" sz="2200" spc="-1" strike="noStrike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linhas de endereço do barramento para endereçar 2</a:t>
            </a:r>
            <a:r>
              <a:rPr b="0" i="1" lang="pt-BR" sz="22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posições diferentes de memóri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SzPct val="8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Exemplo: Barramento de Endereços com 32 linhas, pode endereçar 2</a:t>
            </a:r>
            <a:r>
              <a:rPr b="0" lang="pt-BR" sz="2200" spc="-1" strike="noStrike" baseline="30000">
                <a:solidFill>
                  <a:srgbClr val="000000"/>
                </a:solidFill>
                <a:latin typeface="Arial"/>
              </a:rPr>
              <a:t>32</a:t>
            </a:r>
            <a:r>
              <a:rPr b="0" lang="pt-BR" sz="2200" spc="-1" strike="noStrike">
                <a:solidFill>
                  <a:srgbClr val="000000"/>
                </a:solidFill>
                <a:latin typeface="Arial"/>
              </a:rPr>
              <a:t> dispositivo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1219320" y="18864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Organização Básica de Computadore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8D5C7D-50A8-4081-AE8F-DD83A820537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8T22:34:42Z</dcterms:created>
  <dc:creator>Joseana Macêdo Fechine/DSC/UFCG</dc:creator>
  <dc:description/>
  <dc:language>en-US</dc:language>
  <cp:lastModifiedBy>USE</cp:lastModifiedBy>
  <dcterms:modified xsi:type="dcterms:W3CDTF">2008-03-13T10:19:40Z</dcterms:modified>
  <cp:revision>239</cp:revision>
  <dc:subject/>
  <dc:title>Organização e Arquitetura de Computadores I</dc:title>
</cp:coreProperties>
</file>