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4E1E-3363-4FB0-AF09-0DC6C398D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A40F-F5F7-43C5-8F53-F664CDCD86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62F1-82A5-4333-B410-6940BB91D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E80EA-F57B-40FF-8A13-CD38C2AC8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BC2DB-954C-4DDD-B386-C069484F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5A503-2742-4E24-B2D1-A6006D1D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060E0-EE61-4335-8B13-91702F0C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C41FA-4A73-4AE7-A3A5-26FEBD88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3F0C8-534D-45C1-94BF-A40DE146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D66F1-97CE-45BD-B625-904DF356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16AFC-3A23-4467-93A5-06A53D98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7C41-FAC4-413A-BC84-DE1F06931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DCB3E-F9A5-44AA-B03D-53B484FF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73DC7-BC7A-40AE-9C38-B076EE9A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08FAC-BE6E-4250-A715-DFCA7381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0A182-0D47-43DF-871E-734BEC07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C41C0-7095-4F3F-ADE0-F5BC33EE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1089E-1C06-4FA6-A7D5-A1FDA9F8C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154F-F1F9-4CA0-AF41-4DA6A10B43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29A6-CD32-4142-89CB-123E831E3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21B-3FCD-44FA-9F37-A3F19E7B3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27C5-7BD0-4909-A2BD-EC9B928B3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BBEF-2B1E-467D-8A94-A91007BAD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92B7-3779-49FF-B156-44FDA593C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4EF3-2F95-4713-94BE-2BA8683139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18D7-F95D-43B3-BE64-9FC8C51E6D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III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Aritm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770200"/>
            <a:ext cx="6913440" cy="36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CA7AA-B06A-46E4-B60F-027F543F66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Aritm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17195" r="0" b="0"/>
          <a:stretch/>
        </p:blipFill>
        <p:spPr>
          <a:xfrm>
            <a:off x="1403280" y="2781360"/>
            <a:ext cx="7489800" cy="24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E6BA2-AF01-4877-A174-90C6EDFEBC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Projeto do Circuito 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7323120" cy="37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3E95-0184-4700-AC4D-0350DA0B2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3280" y="1988640"/>
            <a:ext cx="7561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Unidade Aritmética + Unidade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03280" y="2637000"/>
            <a:ext cx="7307280" cy="393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C443-3194-4C56-9DE9-69D206EC62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LA – Ope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7548480" cy="443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0B10-3B36-42A2-B279-6BE6C34F6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331640" y="1700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763280" y="2565360"/>
            <a:ext cx="6962760" cy="3333960"/>
            <a:chOff x="1763280" y="2565360"/>
            <a:chExt cx="6962760" cy="3333960"/>
          </a:xfrm>
        </p:grpSpPr>
        <p:sp>
          <p:nvSpPr>
            <p:cNvPr id="168" name=""/>
            <p:cNvSpPr/>
            <p:nvPr/>
          </p:nvSpPr>
          <p:spPr>
            <a:xfrm>
              <a:off x="2357280" y="4647960"/>
              <a:ext cx="113040" cy="812880"/>
            </a:xfrm>
            <a:custGeom>
              <a:avLst/>
              <a:gdLst/>
              <a:ahLst/>
              <a:rect l="l" t="t" r="r" b="b"/>
              <a:pathLst>
                <a:path w="71" h="512">
                  <a:moveTo>
                    <a:pt x="71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22840" y="4647960"/>
              <a:ext cx="269640" cy="812880"/>
            </a:xfrm>
            <a:custGeom>
              <a:avLst/>
              <a:gdLst/>
              <a:ahLst/>
              <a:rect l="l" t="t" r="r" b="b"/>
              <a:pathLst>
                <a:path w="170" h="512">
                  <a:moveTo>
                    <a:pt x="170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6800" y="4647960"/>
              <a:ext cx="271440" cy="812880"/>
            </a:xfrm>
            <a:custGeom>
              <a:avLst/>
              <a:gdLst/>
              <a:ahLst/>
              <a:rect l="l" t="t" r="r" b="b"/>
              <a:pathLst>
                <a:path w="171" h="512">
                  <a:moveTo>
                    <a:pt x="171" y="0"/>
                  </a:moveTo>
                  <a:lnTo>
                    <a:pt x="0" y="0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71720" y="4647960"/>
              <a:ext cx="5371920" cy="812880"/>
            </a:xfrm>
            <a:custGeom>
              <a:avLst/>
              <a:gdLst/>
              <a:ahLst/>
              <a:rect l="l" t="t" r="r" b="b"/>
              <a:pathLst>
                <a:path w="3384" h="512">
                  <a:moveTo>
                    <a:pt x="3384" y="0"/>
                  </a:moveTo>
                  <a:lnTo>
                    <a:pt x="3213" y="0"/>
                  </a:lnTo>
                  <a:lnTo>
                    <a:pt x="3213" y="512"/>
                  </a:lnTo>
                  <a:lnTo>
                    <a:pt x="0" y="51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90800" y="4929120"/>
              <a:ext cx="180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24480" y="4929120"/>
              <a:ext cx="144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9600" y="4929120"/>
              <a:ext cx="1440" cy="74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794720" y="4941720"/>
              <a:ext cx="144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51200" y="4111560"/>
              <a:ext cx="987120" cy="272880"/>
            </a:xfrm>
            <a:custGeom>
              <a:avLst/>
              <a:gdLst/>
              <a:ahLst/>
              <a:rect l="l" t="t" r="r" b="b"/>
              <a:pathLst>
                <a:path w="622" h="172">
                  <a:moveTo>
                    <a:pt x="0" y="0"/>
                  </a:moveTo>
                  <a:lnTo>
                    <a:pt x="622" y="2"/>
                  </a:lnTo>
                  <a:lnTo>
                    <a:pt x="622" y="1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57360" y="3055680"/>
              <a:ext cx="2138400" cy="1336680"/>
            </a:xfrm>
            <a:custGeom>
              <a:avLst/>
              <a:gdLst/>
              <a:ahLst/>
              <a:rect l="l" t="t" r="r" b="b"/>
              <a:pathLst>
                <a:path w="1347" h="842">
                  <a:moveTo>
                    <a:pt x="0" y="0"/>
                  </a:moveTo>
                  <a:lnTo>
                    <a:pt x="1347" y="0"/>
                  </a:lnTo>
                  <a:lnTo>
                    <a:pt x="1347" y="8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69200" y="3887640"/>
              <a:ext cx="1490400" cy="501480"/>
            </a:xfrm>
            <a:custGeom>
              <a:avLst/>
              <a:gdLst/>
              <a:ahLst/>
              <a:rect l="l" t="t" r="r" b="b"/>
              <a:pathLst>
                <a:path w="939" h="316">
                  <a:moveTo>
                    <a:pt x="0" y="316"/>
                  </a:moveTo>
                  <a:lnTo>
                    <a:pt x="0" y="0"/>
                  </a:lnTo>
                  <a:lnTo>
                    <a:pt x="93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64360" y="4141800"/>
              <a:ext cx="266760" cy="242640"/>
            </a:xfrm>
            <a:custGeom>
              <a:avLst/>
              <a:gdLst/>
              <a:ahLst/>
              <a:rect l="l" t="t" r="r" b="b"/>
              <a:pathLst>
                <a:path w="168" h="153">
                  <a:moveTo>
                    <a:pt x="0" y="153"/>
                  </a:moveTo>
                  <a:lnTo>
                    <a:pt x="0" y="0"/>
                  </a:lnTo>
                  <a:lnTo>
                    <a:pt x="16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11520" y="2783880"/>
              <a:ext cx="144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728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3960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3280" y="40050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25560" y="4084560"/>
              <a:ext cx="92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72160" y="403380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32640" y="4113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45720" y="537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5200" y="2874960"/>
              <a:ext cx="44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25200" y="3054240"/>
              <a:ext cx="669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utput 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95600" y="3709800"/>
              <a:ext cx="44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r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96680" y="3884400"/>
              <a:ext cx="72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output 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62040" y="4392360"/>
              <a:ext cx="1025640" cy="536760"/>
            </a:xfrm>
            <a:custGeom>
              <a:avLst/>
              <a:gdLst/>
              <a:ahLst/>
              <a:rect l="l" t="t" r="r" b="b"/>
              <a:pathLst>
                <a:path w="646" h="338">
                  <a:moveTo>
                    <a:pt x="48" y="0"/>
                  </a:moveTo>
                  <a:lnTo>
                    <a:pt x="646" y="0"/>
                  </a:lnTo>
                  <a:lnTo>
                    <a:pt x="646" y="338"/>
                  </a:lnTo>
                  <a:lnTo>
                    <a:pt x="0" y="338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0400" y="4394160"/>
              <a:ext cx="1022400" cy="539640"/>
            </a:xfrm>
            <a:custGeom>
              <a:avLst/>
              <a:gdLst/>
              <a:ahLst/>
              <a:rect l="l" t="t" r="r" b="b"/>
              <a:pathLst>
                <a:path w="644" h="340">
                  <a:moveTo>
                    <a:pt x="46" y="0"/>
                  </a:moveTo>
                  <a:lnTo>
                    <a:pt x="644" y="2"/>
                  </a:lnTo>
                  <a:lnTo>
                    <a:pt x="644" y="340"/>
                  </a:lnTo>
                  <a:lnTo>
                    <a:pt x="0" y="340"/>
                  </a:lnTo>
                  <a:lnTo>
                    <a:pt x="0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59240" y="2783880"/>
              <a:ext cx="1800" cy="15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22920" y="4394160"/>
              <a:ext cx="1023840" cy="538200"/>
            </a:xfrm>
            <a:custGeom>
              <a:avLst/>
              <a:gdLst/>
              <a:ahLst/>
              <a:rect l="l" t="t" r="r" b="b"/>
              <a:pathLst>
                <a:path w="645" h="339">
                  <a:moveTo>
                    <a:pt x="48" y="0"/>
                  </a:moveTo>
                  <a:lnTo>
                    <a:pt x="645" y="0"/>
                  </a:lnTo>
                  <a:lnTo>
                    <a:pt x="645" y="339"/>
                  </a:lnTo>
                  <a:lnTo>
                    <a:pt x="0" y="339"/>
                  </a:lnTo>
                  <a:lnTo>
                    <a:pt x="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48680" y="4394160"/>
              <a:ext cx="1022040" cy="539640"/>
            </a:xfrm>
            <a:custGeom>
              <a:avLst/>
              <a:gdLst/>
              <a:ahLst/>
              <a:rect l="l" t="t" r="r" b="b"/>
              <a:pathLst>
                <a:path w="644" h="340">
                  <a:moveTo>
                    <a:pt x="47" y="0"/>
                  </a:moveTo>
                  <a:lnTo>
                    <a:pt x="644" y="2"/>
                  </a:lnTo>
                  <a:lnTo>
                    <a:pt x="644" y="340"/>
                  </a:lnTo>
                  <a:lnTo>
                    <a:pt x="0" y="340"/>
                  </a:lnTo>
                  <a:lnTo>
                    <a:pt x="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013440" y="2793600"/>
              <a:ext cx="1440" cy="15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604280" y="2783880"/>
              <a:ext cx="1440" cy="15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63880" y="5362200"/>
              <a:ext cx="1666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6040" y="52466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68720" y="3315960"/>
              <a:ext cx="3073320" cy="1073160"/>
            </a:xfrm>
            <a:custGeom>
              <a:avLst/>
              <a:gdLst/>
              <a:ahLst/>
              <a:rect l="l" t="t" r="r" b="b"/>
              <a:pathLst>
                <a:path w="1936" h="676">
                  <a:moveTo>
                    <a:pt x="0" y="676"/>
                  </a:moveTo>
                  <a:lnTo>
                    <a:pt x="2" y="2"/>
                  </a:lnTo>
                  <a:lnTo>
                    <a:pt x="1936" y="0"/>
                  </a:lnTo>
                  <a:lnTo>
                    <a:pt x="1936" y="6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7500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732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3064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4296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0040" y="25653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32000" y="264132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0040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3072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6528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9704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3016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6192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96840" y="56718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26800" y="574668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0308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9400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30192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0660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712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6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2984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4900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172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5000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5468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1892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4428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777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6360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4840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5632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6100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974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9992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335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86120" y="45590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80280" y="439884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190000" y="457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94680" y="4755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36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8896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22600" y="4400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81280" y="3025440"/>
              <a:ext cx="60480" cy="5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29000" y="3288960"/>
              <a:ext cx="58680" cy="59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85000" y="3560760"/>
              <a:ext cx="5868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27400" y="54306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92600" y="54306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8000" y="5430600"/>
              <a:ext cx="5904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75480" y="3857400"/>
              <a:ext cx="58680" cy="60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4808520" y="3590640"/>
              <a:ext cx="3035160" cy="800280"/>
              <a:chOff x="4808520" y="3590640"/>
              <a:chExt cx="3035160" cy="800280"/>
            </a:xfrm>
          </p:grpSpPr>
          <p:sp>
            <p:nvSpPr>
              <p:cNvPr id="252" name=""/>
              <p:cNvSpPr/>
              <p:nvPr/>
            </p:nvSpPr>
            <p:spPr>
              <a:xfrm flipV="1">
                <a:off x="4808520" y="3590640"/>
                <a:ext cx="0" cy="77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8520" y="3590640"/>
                <a:ext cx="303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843680" y="3590640"/>
                <a:ext cx="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BE61E-33D0-46CC-912F-92F97E39C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lavra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1403280" y="3933720"/>
            <a:ext cx="3129120" cy="24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– 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 – A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 – B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B – Mux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S – Function Selec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D – Mux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 – Register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050920" y="2492280"/>
            <a:ext cx="5289480" cy="1920240"/>
            <a:chOff x="2050920" y="2492280"/>
            <a:chExt cx="5289480" cy="1920240"/>
          </a:xfrm>
        </p:grpSpPr>
        <p:sp>
          <p:nvSpPr>
            <p:cNvPr id="259" name=""/>
            <p:cNvSpPr/>
            <p:nvPr/>
          </p:nvSpPr>
          <p:spPr>
            <a:xfrm>
              <a:off x="4044600" y="3802680"/>
              <a:ext cx="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0920" y="2849040"/>
              <a:ext cx="5289480" cy="78984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452320" y="3098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85520" y="30988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67080" y="309888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24600" y="309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15440" y="30016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916520" y="328932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41360" y="3098880"/>
              <a:ext cx="267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4092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2328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600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7680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27920" y="2835000"/>
              <a:ext cx="288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43160" y="2835000"/>
              <a:ext cx="2160" cy="81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93200" y="300168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793560" y="32893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9920" y="30016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78680" y="3289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638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6772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8776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0564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02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19080" y="2492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406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0272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5228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7016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4096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1248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8112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526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234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4040" y="2492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AFC4D-18F1-4BAC-9F8B-7CD6B04BE4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403280" y="203040"/>
            <a:ext cx="7596360" cy="65390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331640" y="2060640"/>
            <a:ext cx="259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palavra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0"/>
            <a:ext cx="86364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C83E-A039-48B0-B47B-2BFD577377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odificação da palavra de cont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7097760" cy="41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AE98-3734-41E9-B3A3-74BF240DE2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Simbó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258920" y="2735280"/>
            <a:ext cx="7773840" cy="285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DDDB-574C-443B-BF97-74F76F7376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pectos Básicos do Projeto de um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inho de Dado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5251-89BF-4849-BA65-F8F5BC0335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em Bin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6676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FA99-EBA9-428A-A72E-FE3890ECCF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58560" y="2997360"/>
            <a:ext cx="208764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– Simul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5603760" cy="528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1DC5-2FE5-438E-96A0-4AACAD45A0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ho de dado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e constituída dos registradores, UAL e barr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gistradores alimentam as duas entradas (A e B) da 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a UAL é conectada a um dos regist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5A0D-27AB-438A-9407-17FD63A2DE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050920" y="1052640"/>
            <a:ext cx="5730840" cy="5111640"/>
            <a:chOff x="2050920" y="1052640"/>
            <a:chExt cx="5730840" cy="51116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2050920" y="1052640"/>
              <a:ext cx="5730840" cy="511164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5" name=""/>
            <p:cNvSpPr/>
            <p:nvPr/>
          </p:nvSpPr>
          <p:spPr>
            <a:xfrm>
              <a:off x="3663720" y="4917600"/>
              <a:ext cx="1529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366920" y="6237360"/>
            <a:ext cx="72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inho de dados de uma Máquina típica de Von Neuman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8078-7465-448E-A8B5-659DC3042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09840" y="1844640"/>
            <a:ext cx="731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minho de dado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velocidade do ciclo do caminho de dados  determina, em última análise, a velocidade d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“Palavras” – são as unidades de dados movidas entre a memória e os registradores. A referência a uma palavra deve ser feita por meio de um número intei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9906-1D85-4A98-B556-2627DD4E21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tetura de um computador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pa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dade de Controle para controlar as operações d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pecificaçã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onjunto de regist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microopera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interface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C7A9-5B59-4107-9E17-F6505B9B8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332000" y="3141360"/>
            <a:ext cx="23032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um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51280" y="31680"/>
            <a:ext cx="5048280" cy="678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75EF-8B39-4138-8238-431699E18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51480" y="1241280"/>
            <a:ext cx="4086000" cy="5489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58920" y="1844280"/>
            <a:ext cx="4013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operaçã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0 ← R1 +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xemplo d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atapath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: execução de uma microoper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77720" y="1568520"/>
            <a:ext cx="7085160" cy="3587760"/>
            <a:chOff x="477720" y="1568520"/>
            <a:chExt cx="7085160" cy="3587760"/>
          </a:xfrm>
        </p:grpSpPr>
        <p:sp>
          <p:nvSpPr>
            <p:cNvPr id="118" name=""/>
            <p:cNvSpPr/>
            <p:nvPr/>
          </p:nvSpPr>
          <p:spPr>
            <a:xfrm>
              <a:off x="477720" y="1568520"/>
              <a:ext cx="401328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72120" y="2387520"/>
              <a:ext cx="1490760" cy="2768760"/>
            </a:xfrm>
            <a:custGeom>
              <a:avLst/>
              <a:gdLst/>
              <a:ahLst/>
              <a:rect l="l" t="t" r="r" b="b"/>
              <a:pathLst>
                <a:path w="939" h="1744">
                  <a:moveTo>
                    <a:pt x="239" y="0"/>
                  </a:moveTo>
                  <a:cubicBezTo>
                    <a:pt x="239" y="24"/>
                    <a:pt x="230" y="112"/>
                    <a:pt x="237" y="143"/>
                  </a:cubicBezTo>
                  <a:cubicBezTo>
                    <a:pt x="244" y="174"/>
                    <a:pt x="260" y="177"/>
                    <a:pt x="283" y="184"/>
                  </a:cubicBezTo>
                  <a:cubicBezTo>
                    <a:pt x="306" y="191"/>
                    <a:pt x="354" y="177"/>
                    <a:pt x="375" y="184"/>
                  </a:cubicBezTo>
                  <a:cubicBezTo>
                    <a:pt x="396" y="191"/>
                    <a:pt x="402" y="192"/>
                    <a:pt x="407" y="228"/>
                  </a:cubicBezTo>
                  <a:cubicBezTo>
                    <a:pt x="412" y="264"/>
                    <a:pt x="396" y="365"/>
                    <a:pt x="403" y="400"/>
                  </a:cubicBezTo>
                  <a:cubicBezTo>
                    <a:pt x="410" y="435"/>
                    <a:pt x="395" y="429"/>
                    <a:pt x="447" y="436"/>
                  </a:cubicBezTo>
                  <a:cubicBezTo>
                    <a:pt x="499" y="443"/>
                    <a:pt x="648" y="439"/>
                    <a:pt x="715" y="440"/>
                  </a:cubicBezTo>
                  <a:cubicBezTo>
                    <a:pt x="782" y="441"/>
                    <a:pt x="818" y="443"/>
                    <a:pt x="847" y="444"/>
                  </a:cubicBezTo>
                  <a:cubicBezTo>
                    <a:pt x="876" y="445"/>
                    <a:pt x="876" y="439"/>
                    <a:pt x="888" y="446"/>
                  </a:cubicBezTo>
                  <a:cubicBezTo>
                    <a:pt x="900" y="453"/>
                    <a:pt x="915" y="467"/>
                    <a:pt x="921" y="488"/>
                  </a:cubicBezTo>
                  <a:cubicBezTo>
                    <a:pt x="927" y="509"/>
                    <a:pt x="924" y="520"/>
                    <a:pt x="924" y="572"/>
                  </a:cubicBezTo>
                  <a:cubicBezTo>
                    <a:pt x="924" y="624"/>
                    <a:pt x="923" y="709"/>
                    <a:pt x="923" y="800"/>
                  </a:cubicBezTo>
                  <a:cubicBezTo>
                    <a:pt x="923" y="891"/>
                    <a:pt x="939" y="1052"/>
                    <a:pt x="927" y="1118"/>
                  </a:cubicBezTo>
                  <a:cubicBezTo>
                    <a:pt x="915" y="1184"/>
                    <a:pt x="918" y="1183"/>
                    <a:pt x="849" y="1196"/>
                  </a:cubicBezTo>
                  <a:cubicBezTo>
                    <a:pt x="780" y="1209"/>
                    <a:pt x="642" y="1196"/>
                    <a:pt x="515" y="1196"/>
                  </a:cubicBezTo>
                  <a:cubicBezTo>
                    <a:pt x="388" y="1196"/>
                    <a:pt x="168" y="1179"/>
                    <a:pt x="84" y="1193"/>
                  </a:cubicBezTo>
                  <a:cubicBezTo>
                    <a:pt x="0" y="1207"/>
                    <a:pt x="24" y="1239"/>
                    <a:pt x="12" y="1283"/>
                  </a:cubicBezTo>
                  <a:cubicBezTo>
                    <a:pt x="0" y="1327"/>
                    <a:pt x="12" y="1380"/>
                    <a:pt x="12" y="1457"/>
                  </a:cubicBezTo>
                  <a:cubicBezTo>
                    <a:pt x="12" y="1534"/>
                    <a:pt x="15" y="1684"/>
                    <a:pt x="15" y="1744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7720" y="2114640"/>
            <a:ext cx="8033040" cy="3043080"/>
            <a:chOff x="477720" y="2114640"/>
            <a:chExt cx="8033040" cy="3043080"/>
          </a:xfrm>
        </p:grpSpPr>
        <p:sp>
          <p:nvSpPr>
            <p:cNvPr id="121" name=""/>
            <p:cNvSpPr/>
            <p:nvPr/>
          </p:nvSpPr>
          <p:spPr>
            <a:xfrm>
              <a:off x="477720" y="2114640"/>
              <a:ext cx="401328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81720" y="2641680"/>
              <a:ext cx="2129040" cy="2516040"/>
            </a:xfrm>
            <a:custGeom>
              <a:avLst/>
              <a:gdLst/>
              <a:ahLst/>
              <a:rect l="l" t="t" r="r" b="b"/>
              <a:pathLst>
                <a:path w="1341" h="1585">
                  <a:moveTo>
                    <a:pt x="30" y="358"/>
                  </a:moveTo>
                  <a:cubicBezTo>
                    <a:pt x="31" y="358"/>
                    <a:pt x="35" y="338"/>
                    <a:pt x="36" y="358"/>
                  </a:cubicBezTo>
                  <a:cubicBezTo>
                    <a:pt x="37" y="378"/>
                    <a:pt x="24" y="449"/>
                    <a:pt x="36" y="478"/>
                  </a:cubicBezTo>
                  <a:cubicBezTo>
                    <a:pt x="48" y="507"/>
                    <a:pt x="0" y="522"/>
                    <a:pt x="111" y="532"/>
                  </a:cubicBezTo>
                  <a:cubicBezTo>
                    <a:pt x="222" y="542"/>
                    <a:pt x="593" y="541"/>
                    <a:pt x="705" y="538"/>
                  </a:cubicBezTo>
                  <a:cubicBezTo>
                    <a:pt x="817" y="535"/>
                    <a:pt x="770" y="528"/>
                    <a:pt x="786" y="514"/>
                  </a:cubicBezTo>
                  <a:cubicBezTo>
                    <a:pt x="802" y="500"/>
                    <a:pt x="796" y="514"/>
                    <a:pt x="798" y="457"/>
                  </a:cubicBezTo>
                  <a:cubicBezTo>
                    <a:pt x="800" y="400"/>
                    <a:pt x="790" y="230"/>
                    <a:pt x="801" y="172"/>
                  </a:cubicBezTo>
                  <a:cubicBezTo>
                    <a:pt x="812" y="114"/>
                    <a:pt x="816" y="118"/>
                    <a:pt x="864" y="106"/>
                  </a:cubicBezTo>
                  <a:cubicBezTo>
                    <a:pt x="912" y="94"/>
                    <a:pt x="1036" y="107"/>
                    <a:pt x="1092" y="100"/>
                  </a:cubicBezTo>
                  <a:cubicBezTo>
                    <a:pt x="1148" y="93"/>
                    <a:pt x="1176" y="70"/>
                    <a:pt x="1203" y="61"/>
                  </a:cubicBezTo>
                  <a:cubicBezTo>
                    <a:pt x="1230" y="52"/>
                    <a:pt x="1236" y="30"/>
                    <a:pt x="1257" y="46"/>
                  </a:cubicBezTo>
                  <a:cubicBezTo>
                    <a:pt x="1278" y="62"/>
                    <a:pt x="1317" y="0"/>
                    <a:pt x="1329" y="157"/>
                  </a:cubicBezTo>
                  <a:cubicBezTo>
                    <a:pt x="1341" y="314"/>
                    <a:pt x="1329" y="842"/>
                    <a:pt x="1329" y="988"/>
                  </a:cubicBezTo>
                  <a:cubicBezTo>
                    <a:pt x="1329" y="1134"/>
                    <a:pt x="1334" y="1021"/>
                    <a:pt x="1329" y="1036"/>
                  </a:cubicBezTo>
                  <a:cubicBezTo>
                    <a:pt x="1324" y="1051"/>
                    <a:pt x="1328" y="1071"/>
                    <a:pt x="1302" y="1078"/>
                  </a:cubicBezTo>
                  <a:cubicBezTo>
                    <a:pt x="1276" y="1085"/>
                    <a:pt x="1327" y="1079"/>
                    <a:pt x="1170" y="1078"/>
                  </a:cubicBezTo>
                  <a:cubicBezTo>
                    <a:pt x="1013" y="1077"/>
                    <a:pt x="514" y="1062"/>
                    <a:pt x="360" y="1074"/>
                  </a:cubicBezTo>
                  <a:cubicBezTo>
                    <a:pt x="206" y="1086"/>
                    <a:pt x="279" y="1123"/>
                    <a:pt x="248" y="1152"/>
                  </a:cubicBezTo>
                  <a:cubicBezTo>
                    <a:pt x="217" y="1181"/>
                    <a:pt x="191" y="1219"/>
                    <a:pt x="176" y="1249"/>
                  </a:cubicBezTo>
                  <a:cubicBezTo>
                    <a:pt x="161" y="1279"/>
                    <a:pt x="158" y="1277"/>
                    <a:pt x="156" y="1333"/>
                  </a:cubicBezTo>
                  <a:cubicBezTo>
                    <a:pt x="154" y="1389"/>
                    <a:pt x="161" y="1533"/>
                    <a:pt x="162" y="1585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77720" y="3232080"/>
            <a:ext cx="6151680" cy="2482920"/>
            <a:chOff x="477720" y="3232080"/>
            <a:chExt cx="6151680" cy="2482920"/>
          </a:xfrm>
        </p:grpSpPr>
        <p:sp>
          <p:nvSpPr>
            <p:cNvPr id="124" name=""/>
            <p:cNvSpPr/>
            <p:nvPr/>
          </p:nvSpPr>
          <p:spPr>
            <a:xfrm>
              <a:off x="477720" y="3232080"/>
              <a:ext cx="40132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6520" y="5153040"/>
              <a:ext cx="276120" cy="549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350040" y="5156280"/>
              <a:ext cx="279360" cy="55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77720" y="1496880"/>
            <a:ext cx="6177240" cy="5226120"/>
            <a:chOff x="477720" y="1496880"/>
            <a:chExt cx="6177240" cy="5226120"/>
          </a:xfrm>
        </p:grpSpPr>
        <p:grpSp>
          <p:nvGrpSpPr>
            <p:cNvPr id="128" name=""/>
            <p:cNvGrpSpPr/>
            <p:nvPr/>
          </p:nvGrpSpPr>
          <p:grpSpPr>
            <a:xfrm>
              <a:off x="477720" y="3765600"/>
              <a:ext cx="6064200" cy="2682720"/>
              <a:chOff x="477720" y="3765600"/>
              <a:chExt cx="6064200" cy="268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477720" y="3765600"/>
                <a:ext cx="40132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9080" indent="-289080">
                  <a:spcBef>
                    <a:spcPts val="451"/>
                  </a:spcBef>
                  <a:buClr>
                    <a:srgbClr val="0099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327720" y="5715000"/>
                <a:ext cx="214200" cy="733320"/>
              </a:xfrm>
              <a:custGeom>
                <a:avLst/>
                <a:gdLst/>
                <a:ahLst/>
                <a:rect l="l" t="t" r="r" b="b"/>
                <a:pathLst>
                  <a:path w="135" h="462">
                    <a:moveTo>
                      <a:pt x="22" y="0"/>
                    </a:moveTo>
                    <a:cubicBezTo>
                      <a:pt x="11" y="67"/>
                      <a:pt x="0" y="135"/>
                      <a:pt x="16" y="180"/>
                    </a:cubicBezTo>
                    <a:cubicBezTo>
                      <a:pt x="32" y="225"/>
                      <a:pt x="101" y="223"/>
                      <a:pt x="118" y="270"/>
                    </a:cubicBezTo>
                    <a:cubicBezTo>
                      <a:pt x="135" y="317"/>
                      <a:pt x="119" y="431"/>
                      <a:pt x="118" y="462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527720" y="1496880"/>
              <a:ext cx="2127240" cy="5226120"/>
            </a:xfrm>
            <a:custGeom>
              <a:avLst/>
              <a:gdLst/>
              <a:ahLst/>
              <a:rect l="l" t="t" r="r" b="b"/>
              <a:pathLst>
                <a:path w="1340" h="3292">
                  <a:moveTo>
                    <a:pt x="1260" y="3113"/>
                  </a:moveTo>
                  <a:cubicBezTo>
                    <a:pt x="1285" y="3159"/>
                    <a:pt x="1340" y="3205"/>
                    <a:pt x="1324" y="3233"/>
                  </a:cubicBezTo>
                  <a:cubicBezTo>
                    <a:pt x="1308" y="3261"/>
                    <a:pt x="1264" y="3276"/>
                    <a:pt x="1162" y="3284"/>
                  </a:cubicBezTo>
                  <a:cubicBezTo>
                    <a:pt x="1060" y="3292"/>
                    <a:pt x="878" y="3281"/>
                    <a:pt x="712" y="3281"/>
                  </a:cubicBezTo>
                  <a:cubicBezTo>
                    <a:pt x="546" y="3281"/>
                    <a:pt x="292" y="3284"/>
                    <a:pt x="166" y="3281"/>
                  </a:cubicBezTo>
                  <a:cubicBezTo>
                    <a:pt x="40" y="3278"/>
                    <a:pt x="10" y="3199"/>
                    <a:pt x="12" y="3057"/>
                  </a:cubicBezTo>
                  <a:cubicBezTo>
                    <a:pt x="14" y="2915"/>
                    <a:pt x="7" y="976"/>
                    <a:pt x="7" y="488"/>
                  </a:cubicBezTo>
                  <a:cubicBezTo>
                    <a:pt x="7" y="0"/>
                    <a:pt x="0" y="199"/>
                    <a:pt x="10" y="128"/>
                  </a:cubicBezTo>
                  <a:cubicBezTo>
                    <a:pt x="20" y="57"/>
                    <a:pt x="25" y="69"/>
                    <a:pt x="67" y="59"/>
                  </a:cubicBezTo>
                  <a:cubicBezTo>
                    <a:pt x="109" y="49"/>
                    <a:pt x="230" y="70"/>
                    <a:pt x="262" y="71"/>
                  </a:cubicBezTo>
                  <a:cubicBezTo>
                    <a:pt x="294" y="72"/>
                    <a:pt x="153" y="69"/>
                    <a:pt x="262" y="68"/>
                  </a:cubicBezTo>
                  <a:cubicBezTo>
                    <a:pt x="371" y="67"/>
                    <a:pt x="788" y="63"/>
                    <a:pt x="916" y="65"/>
                  </a:cubicBezTo>
                  <a:cubicBezTo>
                    <a:pt x="1044" y="67"/>
                    <a:pt x="1010" y="71"/>
                    <a:pt x="1030" y="83"/>
                  </a:cubicBezTo>
                  <a:cubicBezTo>
                    <a:pt x="1050" y="95"/>
                    <a:pt x="1035" y="126"/>
                    <a:pt x="1036" y="137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77000" y="1600200"/>
              <a:ext cx="306360" cy="2006640"/>
            </a:xfrm>
            <a:custGeom>
              <a:avLst/>
              <a:gdLst/>
              <a:ahLst/>
              <a:rect l="l" t="t" r="r" b="b"/>
              <a:pathLst>
                <a:path w="193" h="1264">
                  <a:moveTo>
                    <a:pt x="10" y="0"/>
                  </a:moveTo>
                  <a:cubicBezTo>
                    <a:pt x="10" y="174"/>
                    <a:pt x="0" y="851"/>
                    <a:pt x="12" y="1047"/>
                  </a:cubicBezTo>
                  <a:cubicBezTo>
                    <a:pt x="24" y="1243"/>
                    <a:pt x="48" y="1173"/>
                    <a:pt x="81" y="1179"/>
                  </a:cubicBezTo>
                  <a:cubicBezTo>
                    <a:pt x="114" y="1185"/>
                    <a:pt x="144" y="1174"/>
                    <a:pt x="162" y="1179"/>
                  </a:cubicBezTo>
                  <a:cubicBezTo>
                    <a:pt x="180" y="1184"/>
                    <a:pt x="185" y="1198"/>
                    <a:pt x="189" y="1212"/>
                  </a:cubicBezTo>
                  <a:cubicBezTo>
                    <a:pt x="193" y="1226"/>
                    <a:pt x="187" y="1253"/>
                    <a:pt x="186" y="1264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2840" y="2116080"/>
              <a:ext cx="297000" cy="136440"/>
            </a:xfrm>
            <a:custGeom>
              <a:avLst/>
              <a:gdLst/>
              <a:ahLst/>
              <a:rect l="l" t="t" r="r" b="b"/>
              <a:pathLst>
                <a:path w="187" h="86">
                  <a:moveTo>
                    <a:pt x="0" y="3"/>
                  </a:moveTo>
                  <a:cubicBezTo>
                    <a:pt x="22" y="3"/>
                    <a:pt x="101" y="0"/>
                    <a:pt x="131" y="5"/>
                  </a:cubicBezTo>
                  <a:cubicBezTo>
                    <a:pt x="161" y="10"/>
                    <a:pt x="171" y="19"/>
                    <a:pt x="179" y="32"/>
                  </a:cubicBezTo>
                  <a:cubicBezTo>
                    <a:pt x="187" y="45"/>
                    <a:pt x="182" y="75"/>
                    <a:pt x="182" y="86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080" y="2916360"/>
              <a:ext cx="299880" cy="169920"/>
            </a:xfrm>
            <a:custGeom>
              <a:avLst/>
              <a:gdLst/>
              <a:ahLst/>
              <a:rect l="l" t="t" r="r" b="b"/>
              <a:pathLst>
                <a:path w="189" h="107">
                  <a:moveTo>
                    <a:pt x="0" y="8"/>
                  </a:moveTo>
                  <a:cubicBezTo>
                    <a:pt x="18" y="7"/>
                    <a:pt x="79" y="0"/>
                    <a:pt x="108" y="5"/>
                  </a:cubicBezTo>
                  <a:cubicBezTo>
                    <a:pt x="137" y="10"/>
                    <a:pt x="165" y="24"/>
                    <a:pt x="177" y="41"/>
                  </a:cubicBezTo>
                  <a:cubicBezTo>
                    <a:pt x="189" y="58"/>
                    <a:pt x="181" y="93"/>
                    <a:pt x="182" y="107"/>
                  </a:cubicBezTo>
                </a:path>
              </a:pathLst>
            </a:custGeom>
            <a:noFill/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90680" y="1881360"/>
            <a:ext cx="4757760" cy="3394080"/>
            <a:chOff x="490680" y="1881360"/>
            <a:chExt cx="4757760" cy="3394080"/>
          </a:xfrm>
        </p:grpSpPr>
        <p:sp>
          <p:nvSpPr>
            <p:cNvPr id="136" name=""/>
            <p:cNvSpPr/>
            <p:nvPr/>
          </p:nvSpPr>
          <p:spPr>
            <a:xfrm>
              <a:off x="490680" y="4591080"/>
              <a:ext cx="4012920" cy="6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spcBef>
                  <a:spcPts val="451"/>
                </a:spcBef>
                <a:buClr>
                  <a:srgbClr val="009999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49840" y="1881360"/>
              <a:ext cx="498600" cy="2298600"/>
            </a:xfrm>
            <a:custGeom>
              <a:avLst/>
              <a:gdLst/>
              <a:ahLst/>
              <a:rect l="l" t="t" r="r" b="b"/>
              <a:pathLst>
                <a:path w="314" h="1448">
                  <a:moveTo>
                    <a:pt x="117" y="1448"/>
                  </a:moveTo>
                  <a:cubicBezTo>
                    <a:pt x="101" y="1428"/>
                    <a:pt x="39" y="1375"/>
                    <a:pt x="20" y="1329"/>
                  </a:cubicBezTo>
                  <a:cubicBezTo>
                    <a:pt x="1" y="1283"/>
                    <a:pt x="4" y="1372"/>
                    <a:pt x="2" y="1173"/>
                  </a:cubicBezTo>
                  <a:cubicBezTo>
                    <a:pt x="0" y="974"/>
                    <a:pt x="4" y="321"/>
                    <a:pt x="7" y="132"/>
                  </a:cubicBezTo>
                  <a:cubicBezTo>
                    <a:pt x="8" y="0"/>
                    <a:pt x="6" y="56"/>
                    <a:pt x="20" y="39"/>
                  </a:cubicBezTo>
                  <a:cubicBezTo>
                    <a:pt x="34" y="22"/>
                    <a:pt x="40" y="33"/>
                    <a:pt x="89" y="31"/>
                  </a:cubicBezTo>
                  <a:cubicBezTo>
                    <a:pt x="203" y="30"/>
                    <a:pt x="267" y="28"/>
                    <a:pt x="314" y="27"/>
                  </a:cubicBezTo>
                </a:path>
              </a:pathLst>
            </a:custGeom>
            <a:noFill/>
            <a:ln w="284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258920" y="1413000"/>
            <a:ext cx="5681520" cy="4487400"/>
            <a:chOff x="1258920" y="1413000"/>
            <a:chExt cx="5681520" cy="4487400"/>
          </a:xfrm>
        </p:grpSpPr>
        <p:grpSp>
          <p:nvGrpSpPr>
            <p:cNvPr id="139" name=""/>
            <p:cNvGrpSpPr/>
            <p:nvPr/>
          </p:nvGrpSpPr>
          <p:grpSpPr>
            <a:xfrm>
              <a:off x="1258920" y="1413000"/>
              <a:ext cx="5681520" cy="4487400"/>
              <a:chOff x="1258920" y="1413000"/>
              <a:chExt cx="5681520" cy="44874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58920" y="5216400"/>
                <a:ext cx="4228920" cy="68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289080" indent="-289080">
                  <a:lnSpc>
                    <a:spcPct val="100000"/>
                  </a:lnSpc>
                  <a:spcBef>
                    <a:spcPts val="499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iclos de clock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89080" indent="-289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queridos: 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03640" y="1413000"/>
                <a:ext cx="122400" cy="2481120"/>
              </a:xfrm>
              <a:custGeom>
                <a:avLst/>
                <a:gdLst/>
                <a:ahLst/>
                <a:rect l="l" t="t" r="r" b="b"/>
                <a:pathLst>
                  <a:path w="77" h="1563">
                    <a:moveTo>
                      <a:pt x="13" y="0"/>
                    </a:moveTo>
                    <a:cubicBezTo>
                      <a:pt x="13" y="220"/>
                      <a:pt x="11" y="1073"/>
                      <a:pt x="11" y="1318"/>
                    </a:cubicBezTo>
                    <a:cubicBezTo>
                      <a:pt x="11" y="1563"/>
                      <a:pt x="0" y="1444"/>
                      <a:pt x="11" y="1471"/>
                    </a:cubicBezTo>
                    <a:cubicBezTo>
                      <a:pt x="41" y="1492"/>
                      <a:pt x="63" y="1478"/>
                      <a:pt x="77" y="1480"/>
                    </a:cubicBezTo>
                  </a:path>
                </a:pathLst>
              </a:custGeom>
              <a:noFill/>
              <a:ln w="2844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24520" y="1857240"/>
                <a:ext cx="889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924520" y="2403360"/>
                <a:ext cx="1015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22720" y="3228840"/>
                <a:ext cx="103320" cy="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940440" y="1790640"/>
                <a:ext cx="0" cy="1281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242040" y="1933560"/>
              <a:ext cx="571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F001-CF99-4E24-AB16-95FCA559AC89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7561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osição da Unidade Lógica e Aritm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Aritm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rcuito sele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21040" y="2612880"/>
            <a:ext cx="5214960" cy="384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AEA7-EF6B-484F-BCA1-FC626680CB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2-26T23:29:47Z</dcterms:modified>
  <cp:revision>247</cp:revision>
  <dc:subject/>
  <dc:title>Organização e Arquitetura de Computadores I</dc:title>
</cp:coreProperties>
</file>