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76F9-B532-41CF-98DE-F2116F73D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F615-8040-45A9-95D6-1642AD8E9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2E9D-0F7C-4920-8E6B-B0F821476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63EF-01E1-4C9F-98F0-EDDACCB9A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52F1C-F25C-42A0-8562-F824C728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17CA9-0872-4992-BA72-31DBB469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FCDA2-6B3E-45F9-96F1-F770C382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CAC72-1AA9-402C-A281-A94A99C4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C33DA-1A60-4105-A760-9865B097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07A88-FD45-4122-ACA1-8756EA54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3EA62-3225-4D0F-B6B3-23C7D4AE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7BEB-F7FC-483B-8CAD-D540B515A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BB9C2-EF3F-4406-A817-15828520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50F93-ADA9-4B3F-93CF-06A6BAE8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B10E1-272B-4A98-8C36-0EA2B18E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2E9F0-7361-44D9-92A1-04D95822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7F07F-1142-4F71-BB3E-F83B01D5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6BF8-6DD4-4206-B13D-0F044A79C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810B-A49F-4750-ABE4-82D65AB3C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E15C-B198-4B17-BD2B-789B050F7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95CD-3670-484A-9690-0C2389DDA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85AC-25E0-4793-9409-0F6F28D69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9683-6152-4309-8E32-A17006E50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D1FC-4F0F-408E-A393-6266ECDDE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77A4-8807-43B9-AB93-FFD9454192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237000"/>
            <a:ext cx="647640" cy="576360"/>
            <a:chOff x="250920" y="623700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9888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419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23664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42816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24528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044F-2F7D-451B-9F23-317F63E9331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692360" y="3357360"/>
            <a:ext cx="7488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(Parte III - Adicional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peamento Direto para 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6481800" cy="417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2B8D-B4BC-49B2-BB36-4F582C335F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peamento Associativo para 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rcRect l="0" t="5000" r="0" b="0"/>
          <a:stretch/>
        </p:blipFill>
        <p:spPr>
          <a:xfrm>
            <a:off x="1763640" y="2565360"/>
            <a:ext cx="655956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D775-A670-421D-8BBA-AB7F9A14BA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ção Básica de Computa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sição (Memória) – Informações adi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6FF9-306D-4DBD-B457-F6C83B85226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de Acesso Aleató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M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andom Access Memor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aleató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posição de memória acessada no mesmo intervalo de t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M estática (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seada em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eúdo persiste enquanto circuito alimen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s ráp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M dinâmica (D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seada em capaci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rga deve ser restaurada period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nor, mais econô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83128-C347-4C56-BFDD-A9100FE4F2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ortamento Funcional de uma Célula 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6408720" cy="424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08A2-1A49-4789-AF32-55BB035833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élula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195640" y="2637000"/>
            <a:ext cx="5422680" cy="2791800"/>
            <a:chOff x="2195640" y="2637000"/>
            <a:chExt cx="5422680" cy="2791800"/>
          </a:xfrm>
        </p:grpSpPr>
        <p:sp>
          <p:nvSpPr>
            <p:cNvPr id="109" name=""/>
            <p:cNvSpPr/>
            <p:nvPr/>
          </p:nvSpPr>
          <p:spPr>
            <a:xfrm>
              <a:off x="2195640" y="5217840"/>
              <a:ext cx="16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65320" y="3055680"/>
              <a:ext cx="3888000" cy="2373120"/>
            </a:xfrm>
            <a:custGeom>
              <a:avLst/>
              <a:gdLst/>
              <a:ahLst/>
              <a:rect l="l" t="t" r="r" b="b"/>
              <a:pathLst>
                <a:path w="2449" h="1495">
                  <a:moveTo>
                    <a:pt x="0" y="0"/>
                  </a:moveTo>
                  <a:lnTo>
                    <a:pt x="2449" y="0"/>
                  </a:lnTo>
                  <a:lnTo>
                    <a:pt x="2449" y="1495"/>
                  </a:lnTo>
                  <a:lnTo>
                    <a:pt x="0" y="14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03920" y="3881160"/>
              <a:ext cx="719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00680" y="4751280"/>
              <a:ext cx="7128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89720" y="4900320"/>
              <a:ext cx="59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89080" y="263700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3960" y="4903560"/>
              <a:ext cx="488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63960" y="4017600"/>
              <a:ext cx="488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22760" y="4017600"/>
              <a:ext cx="663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715840" y="3877920"/>
              <a:ext cx="731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715840" y="5041800"/>
              <a:ext cx="731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0840" y="4159080"/>
              <a:ext cx="328680" cy="604440"/>
            </a:xfrm>
            <a:custGeom>
              <a:avLst/>
              <a:gdLst/>
              <a:ahLst/>
              <a:rect l="l" t="t" r="r" b="b"/>
              <a:pathLst>
                <a:path w="207" h="381">
                  <a:moveTo>
                    <a:pt x="207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206" y="38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0840" y="2862000"/>
              <a:ext cx="1076400" cy="1603080"/>
            </a:xfrm>
            <a:custGeom>
              <a:avLst/>
              <a:gdLst/>
              <a:ahLst/>
              <a:rect l="l" t="t" r="r" b="b"/>
              <a:pathLst>
                <a:path w="678" h="1010">
                  <a:moveTo>
                    <a:pt x="0" y="1010"/>
                  </a:moveTo>
                  <a:lnTo>
                    <a:pt x="678" y="1010"/>
                  </a:lnTo>
                  <a:lnTo>
                    <a:pt x="6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97240" y="3306600"/>
              <a:ext cx="1989360" cy="1315440"/>
            </a:xfrm>
            <a:custGeom>
              <a:avLst/>
              <a:gdLst/>
              <a:ahLst/>
              <a:rect l="l" t="t" r="r" b="b"/>
              <a:pathLst>
                <a:path w="1253" h="829">
                  <a:moveTo>
                    <a:pt x="0" y="0"/>
                  </a:moveTo>
                  <a:lnTo>
                    <a:pt x="1002" y="0"/>
                  </a:lnTo>
                  <a:lnTo>
                    <a:pt x="1002" y="829"/>
                  </a:lnTo>
                  <a:lnTo>
                    <a:pt x="1253" y="82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5784480" y="3736800"/>
              <a:ext cx="406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20360" y="37573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57200" y="5119560"/>
              <a:ext cx="828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Times New Roman"/>
                </a:rPr>
                <a:t>RAM 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62440" y="3759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65680" y="4632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62800" y="4644720"/>
              <a:ext cx="155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2440" y="4924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09920" y="4938480"/>
              <a:ext cx="155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86600" y="3662280"/>
              <a:ext cx="517320" cy="429840"/>
            </a:xfrm>
            <a:custGeom>
              <a:avLst/>
              <a:gdLst/>
              <a:ahLst/>
              <a:rect l="l" t="t" r="r" b="b"/>
              <a:pathLst>
                <a:path w="248" h="207">
                  <a:moveTo>
                    <a:pt x="0" y="0"/>
                  </a:moveTo>
                  <a:cubicBezTo>
                    <a:pt x="0" y="207"/>
                    <a:pt x="0" y="207"/>
                    <a:pt x="0" y="207"/>
                  </a:cubicBezTo>
                  <a:cubicBezTo>
                    <a:pt x="143" y="207"/>
                    <a:pt x="143" y="207"/>
                    <a:pt x="143" y="207"/>
                  </a:cubicBezTo>
                  <a:cubicBezTo>
                    <a:pt x="200" y="207"/>
                    <a:pt x="248" y="161"/>
                    <a:pt x="248" y="105"/>
                  </a:cubicBezTo>
                  <a:cubicBezTo>
                    <a:pt x="248" y="48"/>
                    <a:pt x="202" y="1"/>
                    <a:pt x="146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48080" y="3803400"/>
              <a:ext cx="515880" cy="431280"/>
            </a:xfrm>
            <a:custGeom>
              <a:avLst/>
              <a:gdLst/>
              <a:ahLst/>
              <a:rect l="l" t="t" r="r" b="b"/>
              <a:pathLst>
                <a:path w="248" h="207">
                  <a:moveTo>
                    <a:pt x="0" y="0"/>
                  </a:moveTo>
                  <a:cubicBezTo>
                    <a:pt x="0" y="207"/>
                    <a:pt x="0" y="207"/>
                    <a:pt x="0" y="207"/>
                  </a:cubicBezTo>
                  <a:cubicBezTo>
                    <a:pt x="143" y="206"/>
                    <a:pt x="143" y="206"/>
                    <a:pt x="143" y="206"/>
                  </a:cubicBezTo>
                  <a:cubicBezTo>
                    <a:pt x="200" y="206"/>
                    <a:pt x="248" y="161"/>
                    <a:pt x="248" y="104"/>
                  </a:cubicBezTo>
                  <a:cubicBezTo>
                    <a:pt x="248" y="48"/>
                    <a:pt x="202" y="1"/>
                    <a:pt x="146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48080" y="4689360"/>
              <a:ext cx="515880" cy="428040"/>
            </a:xfrm>
            <a:custGeom>
              <a:avLst/>
              <a:gdLst/>
              <a:ahLst/>
              <a:rect l="l" t="t" r="r" b="b"/>
              <a:pathLst>
                <a:path w="248" h="206">
                  <a:moveTo>
                    <a:pt x="0" y="0"/>
                  </a:moveTo>
                  <a:cubicBezTo>
                    <a:pt x="0" y="206"/>
                    <a:pt x="0" y="206"/>
                    <a:pt x="0" y="206"/>
                  </a:cubicBezTo>
                  <a:cubicBezTo>
                    <a:pt x="143" y="206"/>
                    <a:pt x="143" y="206"/>
                    <a:pt x="143" y="206"/>
                  </a:cubicBezTo>
                  <a:cubicBezTo>
                    <a:pt x="200" y="206"/>
                    <a:pt x="248" y="161"/>
                    <a:pt x="248" y="104"/>
                  </a:cubicBezTo>
                  <a:cubicBezTo>
                    <a:pt x="248" y="47"/>
                    <a:pt x="202" y="1"/>
                    <a:pt x="146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86600" y="4546440"/>
              <a:ext cx="517320" cy="431280"/>
            </a:xfrm>
            <a:custGeom>
              <a:avLst/>
              <a:gdLst/>
              <a:ahLst/>
              <a:rect l="l" t="t" r="r" b="b"/>
              <a:pathLst>
                <a:path w="248" h="207">
                  <a:moveTo>
                    <a:pt x="0" y="0"/>
                  </a:moveTo>
                  <a:cubicBezTo>
                    <a:pt x="0" y="207"/>
                    <a:pt x="0" y="207"/>
                    <a:pt x="0" y="207"/>
                  </a:cubicBezTo>
                  <a:cubicBezTo>
                    <a:pt x="143" y="206"/>
                    <a:pt x="143" y="206"/>
                    <a:pt x="143" y="206"/>
                  </a:cubicBezTo>
                  <a:cubicBezTo>
                    <a:pt x="200" y="206"/>
                    <a:pt x="248" y="161"/>
                    <a:pt x="248" y="104"/>
                  </a:cubicBezTo>
                  <a:cubicBezTo>
                    <a:pt x="248" y="47"/>
                    <a:pt x="202" y="1"/>
                    <a:pt x="146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27800" y="4838400"/>
              <a:ext cx="12528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52840" y="3620880"/>
              <a:ext cx="1074960" cy="1647360"/>
            </a:xfrm>
            <a:custGeom>
              <a:avLst/>
              <a:gdLst/>
              <a:ahLst/>
              <a:rect l="l" t="t" r="r" b="b"/>
              <a:pathLst>
                <a:path w="677" h="1038">
                  <a:moveTo>
                    <a:pt x="0" y="0"/>
                  </a:moveTo>
                  <a:lnTo>
                    <a:pt x="677" y="0"/>
                  </a:lnTo>
                  <a:lnTo>
                    <a:pt x="677" y="1038"/>
                  </a:lnTo>
                  <a:lnTo>
                    <a:pt x="0" y="10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27360" y="38937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27000" y="4787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85160" y="389376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85160" y="478764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60880" y="3268440"/>
              <a:ext cx="74520" cy="74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48480" y="370008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84480" y="442872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B788-40D5-425C-AA8D-B32171D8B5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050920" y="0"/>
            <a:ext cx="6624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87280" y="2781360"/>
            <a:ext cx="1440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agrama de uma RAM 16x1 usando RAM 4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340000" y="171360"/>
            <a:ext cx="6623280" cy="6642720"/>
            <a:chOff x="2340000" y="171360"/>
            <a:chExt cx="6623280" cy="6642720"/>
          </a:xfrm>
        </p:grpSpPr>
        <p:sp>
          <p:nvSpPr>
            <p:cNvPr id="147" name=""/>
            <p:cNvSpPr/>
            <p:nvPr/>
          </p:nvSpPr>
          <p:spPr>
            <a:xfrm>
              <a:off x="2686680" y="334440"/>
              <a:ext cx="818640" cy="2987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30720" y="3866760"/>
              <a:ext cx="4634280" cy="1666440"/>
            </a:xfrm>
            <a:custGeom>
              <a:avLst/>
              <a:gdLst/>
              <a:ahLst/>
              <a:rect l="l" t="t" r="r" b="b"/>
              <a:pathLst>
                <a:path w="2354" h="879">
                  <a:moveTo>
                    <a:pt x="2292" y="96"/>
                  </a:moveTo>
                  <a:lnTo>
                    <a:pt x="2354" y="96"/>
                  </a:lnTo>
                  <a:lnTo>
                    <a:pt x="2354" y="688"/>
                  </a:lnTo>
                  <a:moveTo>
                    <a:pt x="574" y="289"/>
                  </a:moveTo>
                  <a:lnTo>
                    <a:pt x="574" y="879"/>
                  </a:lnTo>
                  <a:moveTo>
                    <a:pt x="1903" y="0"/>
                  </a:moveTo>
                  <a:lnTo>
                    <a:pt x="1862" y="0"/>
                  </a:lnTo>
                  <a:lnTo>
                    <a:pt x="1862" y="393"/>
                  </a:lnTo>
                  <a:lnTo>
                    <a:pt x="0" y="393"/>
                  </a:lnTo>
                  <a:moveTo>
                    <a:pt x="274" y="0"/>
                  </a:moveTo>
                  <a:lnTo>
                    <a:pt x="233" y="0"/>
                  </a:lnTo>
                  <a:lnTo>
                    <a:pt x="233" y="393"/>
                  </a:lnTo>
                  <a:moveTo>
                    <a:pt x="817" y="0"/>
                  </a:moveTo>
                  <a:lnTo>
                    <a:pt x="776" y="0"/>
                  </a:lnTo>
                  <a:lnTo>
                    <a:pt x="776" y="393"/>
                  </a:lnTo>
                  <a:moveTo>
                    <a:pt x="1360" y="0"/>
                  </a:moveTo>
                  <a:lnTo>
                    <a:pt x="1319" y="0"/>
                  </a:lnTo>
                  <a:lnTo>
                    <a:pt x="1319" y="393"/>
                  </a:lnTo>
                  <a:moveTo>
                    <a:pt x="1993" y="292"/>
                  </a:moveTo>
                  <a:lnTo>
                    <a:pt x="1993" y="490"/>
                  </a:lnTo>
                  <a:lnTo>
                    <a:pt x="7" y="490"/>
                  </a:lnTo>
                  <a:moveTo>
                    <a:pt x="383" y="292"/>
                  </a:moveTo>
                  <a:lnTo>
                    <a:pt x="383" y="490"/>
                  </a:lnTo>
                  <a:moveTo>
                    <a:pt x="923" y="292"/>
                  </a:moveTo>
                  <a:lnTo>
                    <a:pt x="923" y="490"/>
                  </a:lnTo>
                  <a:moveTo>
                    <a:pt x="1464" y="292"/>
                  </a:moveTo>
                  <a:lnTo>
                    <a:pt x="1464" y="49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49400" y="4048560"/>
              <a:ext cx="4154400" cy="1484640"/>
            </a:xfrm>
            <a:custGeom>
              <a:avLst/>
              <a:gdLst/>
              <a:ahLst/>
              <a:rect l="l" t="t" r="r" b="b"/>
              <a:pathLst>
                <a:path w="2110" h="783">
                  <a:moveTo>
                    <a:pt x="442" y="193"/>
                  </a:moveTo>
                  <a:lnTo>
                    <a:pt x="442" y="783"/>
                  </a:lnTo>
                  <a:moveTo>
                    <a:pt x="978" y="193"/>
                  </a:moveTo>
                  <a:lnTo>
                    <a:pt x="978" y="783"/>
                  </a:lnTo>
                  <a:moveTo>
                    <a:pt x="1516" y="193"/>
                  </a:moveTo>
                  <a:lnTo>
                    <a:pt x="1516" y="783"/>
                  </a:lnTo>
                  <a:moveTo>
                    <a:pt x="0" y="0"/>
                  </a:moveTo>
                  <a:lnTo>
                    <a:pt x="61" y="0"/>
                  </a:lnTo>
                  <a:lnTo>
                    <a:pt x="61" y="592"/>
                  </a:lnTo>
                  <a:lnTo>
                    <a:pt x="13" y="592"/>
                  </a:lnTo>
                  <a:lnTo>
                    <a:pt x="2110" y="592"/>
                  </a:lnTo>
                  <a:lnTo>
                    <a:pt x="2110" y="689"/>
                  </a:lnTo>
                  <a:moveTo>
                    <a:pt x="539" y="0"/>
                  </a:moveTo>
                  <a:lnTo>
                    <a:pt x="603" y="0"/>
                  </a:lnTo>
                  <a:lnTo>
                    <a:pt x="603" y="592"/>
                  </a:lnTo>
                  <a:moveTo>
                    <a:pt x="1081" y="0"/>
                  </a:moveTo>
                  <a:lnTo>
                    <a:pt x="1142" y="0"/>
                  </a:lnTo>
                  <a:lnTo>
                    <a:pt x="1142" y="59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37360" y="4532400"/>
              <a:ext cx="52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ata inp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02800" y="4718160"/>
              <a:ext cx="572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ad/Wr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21760" y="5104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2600" y="5104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87360" y="5104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19520" y="64774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3480" y="6536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5440" y="64774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9760" y="6536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11360" y="729000"/>
              <a:ext cx="5038560" cy="5932800"/>
            </a:xfrm>
            <a:custGeom>
              <a:avLst/>
              <a:gdLst/>
              <a:ahLst/>
              <a:rect l="l" t="t" r="r" b="b"/>
              <a:pathLst>
                <a:path w="2559" h="3129">
                  <a:moveTo>
                    <a:pt x="1096" y="2924"/>
                  </a:moveTo>
                  <a:lnTo>
                    <a:pt x="1096" y="3024"/>
                  </a:lnTo>
                  <a:moveTo>
                    <a:pt x="1291" y="2924"/>
                  </a:moveTo>
                  <a:lnTo>
                    <a:pt x="1291" y="3024"/>
                  </a:lnTo>
                  <a:moveTo>
                    <a:pt x="2559" y="2925"/>
                  </a:moveTo>
                  <a:lnTo>
                    <a:pt x="2559" y="3129"/>
                  </a:lnTo>
                  <a:moveTo>
                    <a:pt x="89" y="190"/>
                  </a:moveTo>
                  <a:lnTo>
                    <a:pt x="0" y="190"/>
                  </a:lnTo>
                  <a:moveTo>
                    <a:pt x="89" y="0"/>
                  </a:move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55960" y="334440"/>
              <a:ext cx="818640" cy="4101120"/>
            </a:xfrm>
            <a:custGeom>
              <a:avLst/>
              <a:gdLst/>
              <a:ahLst/>
              <a:rect l="l" t="t" r="r" b="b"/>
              <a:pathLst>
                <a:path w="416" h="2163">
                  <a:moveTo>
                    <a:pt x="0" y="0"/>
                  </a:moveTo>
                  <a:lnTo>
                    <a:pt x="416" y="0"/>
                  </a:lnTo>
                  <a:lnTo>
                    <a:pt x="416" y="2163"/>
                  </a:lnTo>
                  <a:lnTo>
                    <a:pt x="0" y="2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55960" y="334440"/>
              <a:ext cx="818640" cy="4101120"/>
            </a:xfrm>
            <a:custGeom>
              <a:avLst/>
              <a:gdLst/>
              <a:ahLst/>
              <a:rect l="l" t="t" r="r" b="b"/>
              <a:pathLst>
                <a:path w="416" h="2163">
                  <a:moveTo>
                    <a:pt x="0" y="0"/>
                  </a:moveTo>
                  <a:lnTo>
                    <a:pt x="416" y="0"/>
                  </a:lnTo>
                  <a:lnTo>
                    <a:pt x="416" y="2163"/>
                  </a:lnTo>
                  <a:lnTo>
                    <a:pt x="0" y="2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65640" y="544680"/>
              <a:ext cx="2160" cy="19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52440" y="729000"/>
              <a:ext cx="62208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52440" y="729000"/>
              <a:ext cx="62208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72240" y="804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35400" y="925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65640" y="1257840"/>
              <a:ext cx="2160" cy="193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52440" y="1441800"/>
              <a:ext cx="62208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52440" y="1441800"/>
              <a:ext cx="62208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72240" y="1515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35400" y="163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65640" y="1968840"/>
              <a:ext cx="2160" cy="195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52440" y="2156400"/>
              <a:ext cx="62208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52440" y="2156400"/>
              <a:ext cx="62208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72240" y="2226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35400" y="2348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65640" y="2681640"/>
              <a:ext cx="2160" cy="193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52440" y="2869200"/>
              <a:ext cx="62208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52440" y="2869200"/>
              <a:ext cx="62208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72240" y="29358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07320" y="3058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35160" y="3377520"/>
              <a:ext cx="572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ad/Wr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33720" y="350496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93400" y="3798360"/>
              <a:ext cx="36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ata 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17680" y="3976920"/>
              <a:ext cx="425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ata o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03480" y="4287960"/>
              <a:ext cx="294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02400" y="4158720"/>
              <a:ext cx="28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ad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03120" y="4280040"/>
              <a:ext cx="285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11000" y="41587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i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11360" y="4280040"/>
              <a:ext cx="26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el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29120" y="334440"/>
              <a:ext cx="819000" cy="4101120"/>
            </a:xfrm>
            <a:custGeom>
              <a:avLst/>
              <a:gdLst/>
              <a:ahLst/>
              <a:rect l="l" t="t" r="r" b="b"/>
              <a:pathLst>
                <a:path w="416" h="2163">
                  <a:moveTo>
                    <a:pt x="0" y="0"/>
                  </a:moveTo>
                  <a:lnTo>
                    <a:pt x="416" y="0"/>
                  </a:lnTo>
                  <a:lnTo>
                    <a:pt x="416" y="2163"/>
                  </a:lnTo>
                  <a:lnTo>
                    <a:pt x="0" y="2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29120" y="334440"/>
              <a:ext cx="819000" cy="4101120"/>
            </a:xfrm>
            <a:custGeom>
              <a:avLst/>
              <a:gdLst/>
              <a:ahLst/>
              <a:rect l="l" t="t" r="r" b="b"/>
              <a:pathLst>
                <a:path w="416" h="2163">
                  <a:moveTo>
                    <a:pt x="0" y="0"/>
                  </a:moveTo>
                  <a:lnTo>
                    <a:pt x="416" y="0"/>
                  </a:lnTo>
                  <a:lnTo>
                    <a:pt x="416" y="2163"/>
                  </a:lnTo>
                  <a:lnTo>
                    <a:pt x="0" y="2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38440" y="544680"/>
              <a:ext cx="2160" cy="19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25600" y="729000"/>
              <a:ext cx="62208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25600" y="729000"/>
              <a:ext cx="62208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47200" y="804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12160" y="925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38440" y="1257840"/>
              <a:ext cx="2160" cy="193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5600" y="1441800"/>
              <a:ext cx="62208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25600" y="1441800"/>
              <a:ext cx="62208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43240" y="1515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08200" y="163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38440" y="1968840"/>
              <a:ext cx="2160" cy="195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25600" y="2156400"/>
              <a:ext cx="62208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5600" y="2156400"/>
              <a:ext cx="62208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43240" y="2226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08200" y="2348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38440" y="2681640"/>
              <a:ext cx="2160" cy="193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5600" y="2869200"/>
              <a:ext cx="62208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25600" y="2869200"/>
              <a:ext cx="62208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45040" y="29358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80120" y="3058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07960" y="3377520"/>
              <a:ext cx="572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ad/Wr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06520" y="350496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70520" y="3798360"/>
              <a:ext cx="36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ata 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85080" y="3970800"/>
              <a:ext cx="425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ata o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68360" y="4287960"/>
              <a:ext cx="299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67640" y="4158720"/>
              <a:ext cx="28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ad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68360" y="4280040"/>
              <a:ext cx="285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93160" y="41587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i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94600" y="4280040"/>
              <a:ext cx="26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el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00120" y="334440"/>
              <a:ext cx="820800" cy="4101120"/>
            </a:xfrm>
            <a:custGeom>
              <a:avLst/>
              <a:gdLst/>
              <a:ahLst/>
              <a:rect l="l" t="t" r="r" b="b"/>
              <a:pathLst>
                <a:path w="417" h="2163">
                  <a:moveTo>
                    <a:pt x="0" y="0"/>
                  </a:moveTo>
                  <a:lnTo>
                    <a:pt x="417" y="0"/>
                  </a:lnTo>
                  <a:lnTo>
                    <a:pt x="417" y="2163"/>
                  </a:lnTo>
                  <a:lnTo>
                    <a:pt x="0" y="2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0120" y="334440"/>
              <a:ext cx="820800" cy="4101120"/>
            </a:xfrm>
            <a:custGeom>
              <a:avLst/>
              <a:gdLst/>
              <a:ahLst/>
              <a:rect l="l" t="t" r="r" b="b"/>
              <a:pathLst>
                <a:path w="417" h="2163">
                  <a:moveTo>
                    <a:pt x="0" y="0"/>
                  </a:moveTo>
                  <a:lnTo>
                    <a:pt x="417" y="0"/>
                  </a:lnTo>
                  <a:lnTo>
                    <a:pt x="417" y="2163"/>
                  </a:lnTo>
                  <a:lnTo>
                    <a:pt x="0" y="2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11600" y="544680"/>
              <a:ext cx="1440" cy="19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8760" y="729000"/>
              <a:ext cx="62172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98760" y="729000"/>
              <a:ext cx="62172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14240" y="804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79200" y="925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11600" y="1257840"/>
              <a:ext cx="1440" cy="193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8760" y="1441800"/>
              <a:ext cx="62172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8760" y="1441800"/>
              <a:ext cx="62172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12080" y="1515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77400" y="163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11600" y="1968840"/>
              <a:ext cx="1440" cy="195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98760" y="2156400"/>
              <a:ext cx="62172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98760" y="2156400"/>
              <a:ext cx="62172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18560" y="2226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53640" y="23482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11600" y="2681640"/>
              <a:ext cx="1440" cy="193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98760" y="2869200"/>
              <a:ext cx="62172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98760" y="2869200"/>
              <a:ext cx="62172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14240" y="29358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49680" y="3058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78600" y="3377520"/>
              <a:ext cx="572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ad/Wr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77880" y="350496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45480" y="3804120"/>
              <a:ext cx="36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ata 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57880" y="3976920"/>
              <a:ext cx="425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ata o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37560" y="4291560"/>
              <a:ext cx="294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36480" y="4158720"/>
              <a:ext cx="28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ad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37200" y="4280040"/>
              <a:ext cx="285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56600" y="41587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i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56960" y="4280040"/>
              <a:ext cx="26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el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72920" y="334440"/>
              <a:ext cx="820800" cy="4101120"/>
            </a:xfrm>
            <a:custGeom>
              <a:avLst/>
              <a:gdLst/>
              <a:ahLst/>
              <a:rect l="l" t="t" r="r" b="b"/>
              <a:pathLst>
                <a:path w="417" h="2163">
                  <a:moveTo>
                    <a:pt x="0" y="0"/>
                  </a:moveTo>
                  <a:lnTo>
                    <a:pt x="417" y="0"/>
                  </a:lnTo>
                  <a:lnTo>
                    <a:pt x="417" y="2163"/>
                  </a:lnTo>
                  <a:lnTo>
                    <a:pt x="0" y="2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72920" y="334440"/>
              <a:ext cx="820800" cy="4101120"/>
            </a:xfrm>
            <a:custGeom>
              <a:avLst/>
              <a:gdLst/>
              <a:ahLst/>
              <a:rect l="l" t="t" r="r" b="b"/>
              <a:pathLst>
                <a:path w="417" h="2163">
                  <a:moveTo>
                    <a:pt x="0" y="0"/>
                  </a:moveTo>
                  <a:lnTo>
                    <a:pt x="417" y="0"/>
                  </a:lnTo>
                  <a:lnTo>
                    <a:pt x="417" y="2163"/>
                  </a:lnTo>
                  <a:lnTo>
                    <a:pt x="0" y="2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82960" y="544680"/>
              <a:ext cx="1440" cy="19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71560" y="729000"/>
              <a:ext cx="619920" cy="401760"/>
            </a:xfrm>
            <a:custGeom>
              <a:avLst/>
              <a:gdLst/>
              <a:ahLst/>
              <a:rect l="l" t="t" r="r" b="b"/>
              <a:pathLst>
                <a:path w="315" h="212">
                  <a:moveTo>
                    <a:pt x="0" y="0"/>
                  </a:moveTo>
                  <a:lnTo>
                    <a:pt x="315" y="0"/>
                  </a:lnTo>
                  <a:lnTo>
                    <a:pt x="315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71560" y="729000"/>
              <a:ext cx="619920" cy="401760"/>
            </a:xfrm>
            <a:custGeom>
              <a:avLst/>
              <a:gdLst/>
              <a:ahLst/>
              <a:rect l="l" t="t" r="r" b="b"/>
              <a:pathLst>
                <a:path w="315" h="212">
                  <a:moveTo>
                    <a:pt x="0" y="0"/>
                  </a:moveTo>
                  <a:lnTo>
                    <a:pt x="315" y="0"/>
                  </a:lnTo>
                  <a:lnTo>
                    <a:pt x="315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89560" y="804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54520" y="925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82960" y="1257840"/>
              <a:ext cx="1440" cy="193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71560" y="1441800"/>
              <a:ext cx="619920" cy="401760"/>
            </a:xfrm>
            <a:custGeom>
              <a:avLst/>
              <a:gdLst/>
              <a:ahLst/>
              <a:rect l="l" t="t" r="r" b="b"/>
              <a:pathLst>
                <a:path w="315" h="212">
                  <a:moveTo>
                    <a:pt x="0" y="0"/>
                  </a:moveTo>
                  <a:lnTo>
                    <a:pt x="315" y="0"/>
                  </a:lnTo>
                  <a:lnTo>
                    <a:pt x="315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71560" y="1441800"/>
              <a:ext cx="619920" cy="401760"/>
            </a:xfrm>
            <a:custGeom>
              <a:avLst/>
              <a:gdLst/>
              <a:ahLst/>
              <a:rect l="l" t="t" r="r" b="b"/>
              <a:pathLst>
                <a:path w="315" h="212">
                  <a:moveTo>
                    <a:pt x="0" y="0"/>
                  </a:moveTo>
                  <a:lnTo>
                    <a:pt x="315" y="0"/>
                  </a:lnTo>
                  <a:lnTo>
                    <a:pt x="315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89560" y="1515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54520" y="163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82960" y="1968840"/>
              <a:ext cx="1440" cy="195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71560" y="2156400"/>
              <a:ext cx="619920" cy="397800"/>
            </a:xfrm>
            <a:custGeom>
              <a:avLst/>
              <a:gdLst/>
              <a:ahLst/>
              <a:rect l="l" t="t" r="r" b="b"/>
              <a:pathLst>
                <a:path w="315" h="210">
                  <a:moveTo>
                    <a:pt x="0" y="0"/>
                  </a:moveTo>
                  <a:lnTo>
                    <a:pt x="315" y="0"/>
                  </a:lnTo>
                  <a:lnTo>
                    <a:pt x="315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71560" y="2156400"/>
              <a:ext cx="619920" cy="397800"/>
            </a:xfrm>
            <a:custGeom>
              <a:avLst/>
              <a:gdLst/>
              <a:ahLst/>
              <a:rect l="l" t="t" r="r" b="b"/>
              <a:pathLst>
                <a:path w="315" h="210">
                  <a:moveTo>
                    <a:pt x="0" y="0"/>
                  </a:moveTo>
                  <a:lnTo>
                    <a:pt x="315" y="0"/>
                  </a:lnTo>
                  <a:lnTo>
                    <a:pt x="315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89560" y="2226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24640" y="23482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82960" y="2681640"/>
              <a:ext cx="1440" cy="193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71560" y="2869200"/>
              <a:ext cx="619920" cy="397800"/>
            </a:xfrm>
            <a:custGeom>
              <a:avLst/>
              <a:gdLst/>
              <a:ahLst/>
              <a:rect l="l" t="t" r="r" b="b"/>
              <a:pathLst>
                <a:path w="315" h="210">
                  <a:moveTo>
                    <a:pt x="0" y="0"/>
                  </a:moveTo>
                  <a:lnTo>
                    <a:pt x="315" y="0"/>
                  </a:lnTo>
                  <a:lnTo>
                    <a:pt x="315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71560" y="2869200"/>
              <a:ext cx="619920" cy="397800"/>
            </a:xfrm>
            <a:custGeom>
              <a:avLst/>
              <a:gdLst/>
              <a:ahLst/>
              <a:rect l="l" t="t" r="r" b="b"/>
              <a:pathLst>
                <a:path w="315" h="210">
                  <a:moveTo>
                    <a:pt x="0" y="0"/>
                  </a:moveTo>
                  <a:lnTo>
                    <a:pt x="315" y="0"/>
                  </a:lnTo>
                  <a:lnTo>
                    <a:pt x="315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87400" y="29358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22480" y="3058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1400" y="3377520"/>
              <a:ext cx="572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ad/Wr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50680" y="350496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16840" y="3798360"/>
              <a:ext cx="36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ata 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33560" y="3970800"/>
              <a:ext cx="425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ata o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06400" y="4287960"/>
              <a:ext cx="305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07840" y="4158720"/>
              <a:ext cx="28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ad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08560" y="4280040"/>
              <a:ext cx="285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33360" y="41587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i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34440" y="4280040"/>
              <a:ext cx="26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el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59880" y="5514480"/>
              <a:ext cx="3663720" cy="782640"/>
            </a:xfrm>
            <a:custGeom>
              <a:avLst/>
              <a:gdLst/>
              <a:ahLst/>
              <a:rect l="l" t="t" r="r" b="b"/>
              <a:pathLst>
                <a:path w="1861" h="413">
                  <a:moveTo>
                    <a:pt x="0" y="0"/>
                  </a:moveTo>
                  <a:lnTo>
                    <a:pt x="1861" y="0"/>
                  </a:lnTo>
                  <a:lnTo>
                    <a:pt x="1861" y="413"/>
                  </a:lnTo>
                  <a:lnTo>
                    <a:pt x="0" y="4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59880" y="5514480"/>
              <a:ext cx="3663720" cy="782640"/>
            </a:xfrm>
            <a:custGeom>
              <a:avLst/>
              <a:gdLst/>
              <a:ahLst/>
              <a:rect l="l" t="t" r="r" b="b"/>
              <a:pathLst>
                <a:path w="1861" h="413">
                  <a:moveTo>
                    <a:pt x="0" y="0"/>
                  </a:moveTo>
                  <a:lnTo>
                    <a:pt x="1861" y="0"/>
                  </a:lnTo>
                  <a:lnTo>
                    <a:pt x="1861" y="413"/>
                  </a:lnTo>
                  <a:lnTo>
                    <a:pt x="0" y="4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27080" y="5766480"/>
              <a:ext cx="39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olum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27080" y="5889960"/>
              <a:ext cx="38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eco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07400" y="5766480"/>
              <a:ext cx="72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-to-4 Deco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07040" y="5889960"/>
              <a:ext cx="56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with ena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38960" y="61441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7720" y="6093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27040" y="61441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95800" y="6093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32320" y="5535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91440" y="5535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45520" y="5335920"/>
              <a:ext cx="68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olumn sel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552720" y="5535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71000" y="614772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na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08240" y="5535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75600" y="6676560"/>
              <a:ext cx="53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hip sel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678880" y="53665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36400" y="549360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57480" y="5188320"/>
              <a:ext cx="1045440" cy="1285560"/>
            </a:xfrm>
            <a:custGeom>
              <a:avLst/>
              <a:gdLst/>
              <a:ahLst/>
              <a:rect l="l" t="t" r="r" b="b"/>
              <a:pathLst>
                <a:path w="531" h="678">
                  <a:moveTo>
                    <a:pt x="531" y="0"/>
                  </a:moveTo>
                  <a:lnTo>
                    <a:pt x="531" y="678"/>
                  </a:lnTo>
                  <a:lnTo>
                    <a:pt x="0" y="67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33040" y="1563120"/>
              <a:ext cx="22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o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33040" y="1686600"/>
              <a:ext cx="26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el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39240" y="1713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ow deco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40000" y="1018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35760" y="10774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40000" y="658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35760" y="7171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915680" y="5104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05680" y="548640"/>
              <a:ext cx="4474800" cy="2136960"/>
            </a:xfrm>
            <a:custGeom>
              <a:avLst/>
              <a:gdLst/>
              <a:ahLst/>
              <a:rect l="l" t="t" r="r" b="b"/>
              <a:pathLst>
                <a:path w="2273" h="1127">
                  <a:moveTo>
                    <a:pt x="0" y="0"/>
                  </a:moveTo>
                  <a:lnTo>
                    <a:pt x="2273" y="0"/>
                  </a:lnTo>
                  <a:moveTo>
                    <a:pt x="0" y="375"/>
                  </a:moveTo>
                  <a:lnTo>
                    <a:pt x="2273" y="375"/>
                  </a:lnTo>
                  <a:moveTo>
                    <a:pt x="0" y="751"/>
                  </a:moveTo>
                  <a:lnTo>
                    <a:pt x="2273" y="751"/>
                  </a:lnTo>
                  <a:moveTo>
                    <a:pt x="0" y="1127"/>
                  </a:moveTo>
                  <a:lnTo>
                    <a:pt x="2273" y="112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29160" y="3441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-to-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30240" y="47088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eco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46800" y="1018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04040" y="979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6800" y="662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04040" y="617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6320" y="1195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06320" y="1906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06320" y="2630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06320" y="474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76120" y="4723920"/>
              <a:ext cx="289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41880" y="522000"/>
              <a:ext cx="432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15040" y="522000"/>
              <a:ext cx="432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88200" y="522000"/>
              <a:ext cx="432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59200" y="522000"/>
              <a:ext cx="450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59200" y="1236960"/>
              <a:ext cx="4500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88200" y="1236960"/>
              <a:ext cx="4320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15040" y="1236960"/>
              <a:ext cx="4320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41880" y="1236960"/>
              <a:ext cx="4320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59200" y="1950120"/>
              <a:ext cx="450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88200" y="1950120"/>
              <a:ext cx="432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15040" y="1950120"/>
              <a:ext cx="432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41880" y="1950120"/>
              <a:ext cx="432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59200" y="2662920"/>
              <a:ext cx="450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88200" y="2662920"/>
              <a:ext cx="432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15040" y="2662920"/>
              <a:ext cx="432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41880" y="2662920"/>
              <a:ext cx="432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65600" y="4591080"/>
              <a:ext cx="43200" cy="43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61160" y="4777200"/>
              <a:ext cx="432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34800" y="4591080"/>
              <a:ext cx="43200" cy="43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03640" y="4591080"/>
              <a:ext cx="43200" cy="43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93080" y="4777200"/>
              <a:ext cx="3924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29760" y="6450840"/>
              <a:ext cx="414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26040" y="4777200"/>
              <a:ext cx="432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22240" y="5015880"/>
              <a:ext cx="405360" cy="307080"/>
            </a:xfrm>
            <a:custGeom>
              <a:avLst/>
              <a:gdLst/>
              <a:ahLst/>
              <a:rect l="l" t="t" r="r" b="b"/>
              <a:pathLst>
                <a:path w="121" h="95">
                  <a:moveTo>
                    <a:pt x="2" y="93"/>
                  </a:moveTo>
                  <a:cubicBezTo>
                    <a:pt x="10" y="78"/>
                    <a:pt x="14" y="62"/>
                    <a:pt x="14" y="46"/>
                  </a:cubicBezTo>
                  <a:cubicBezTo>
                    <a:pt x="14" y="31"/>
                    <a:pt x="10" y="16"/>
                    <a:pt x="3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73" y="0"/>
                    <a:pt x="104" y="18"/>
                    <a:pt x="121" y="46"/>
                  </a:cubicBezTo>
                  <a:cubicBezTo>
                    <a:pt x="121" y="49"/>
                    <a:pt x="121" y="49"/>
                    <a:pt x="121" y="49"/>
                  </a:cubicBezTo>
                  <a:cubicBezTo>
                    <a:pt x="104" y="78"/>
                    <a:pt x="73" y="95"/>
                    <a:pt x="40" y="95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2" y="93"/>
                    <a:pt x="2" y="93"/>
                    <a:pt x="2" y="93"/>
                  </a:cubicBez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04280" y="5034600"/>
              <a:ext cx="222480" cy="276840"/>
            </a:xfrm>
            <a:custGeom>
              <a:avLst/>
              <a:gdLst/>
              <a:ahLst/>
              <a:rect l="l" t="t" r="r" b="b"/>
              <a:pathLst>
                <a:path w="113" h="146">
                  <a:moveTo>
                    <a:pt x="0" y="0"/>
                  </a:moveTo>
                  <a:lnTo>
                    <a:pt x="0" y="146"/>
                  </a:lnTo>
                  <a:lnTo>
                    <a:pt x="113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1885-58A9-4BAA-82B2-A2021D096B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331640" y="1700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s Somente de Le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M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ead-Only Memor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ples: decodificador, linhas de saída e portas 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licações de grande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M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ogrammabl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o volume e protóti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eúdo escrito com um queimador de P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PROM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rasabl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agada por luz ultra-vio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EPROM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lectrically Erasabl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M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2AD93-835E-4700-B1F3-D583579887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 ROM de 4 palavras de 4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7586640" cy="36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6579-ABB7-40D6-9990-616CFC48AD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ípio bá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 execução de um programa de computador, muitas das referências são a um pequeno conjunto de posições de memó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2976-9B58-464D-804F-81D11180EF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7-23T09:53:49Z</dcterms:modified>
  <cp:revision>226</cp:revision>
  <dc:subject/>
  <dc:title>Organização e Arquitetura de Computadores I</dc:title>
</cp:coreProperties>
</file>