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9AB4-188E-4C21-AFC6-D56B50625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0E0D-EA05-4208-B9BF-551CD8181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5390-0109-47C3-9D09-16E31D8B0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7F9E-B747-428E-B8FB-D57C1CB2D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97582-A6A1-4DAB-AD03-DEDF5709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1DDAF-86D5-4AFC-A765-DEC953A3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66023-4FB4-46C2-81B7-D8CABB6D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D8408-9140-408F-A9C8-3DA9495B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CE447-9FE2-46F3-BC59-7313793E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381D0-D2B1-4F36-87D1-B665DA4E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463A9-9DC6-421C-B5B8-E89C9407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ED37-4B39-4A57-B648-80E32009C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37460-815D-4993-A4C0-ABF6C8E8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F5A50-94EE-4BBC-B7C5-AA0BCAF2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A1DC0-1E4B-4782-891E-6D229ACD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411A1-228B-4054-81AF-12B3AB33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363B0-8131-4363-8F60-722DD27A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0D20-CAB5-4DD7-BE08-D5156F252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359C-A472-48FA-A0CE-81C8F54A2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9317-7C41-4D01-BD95-03D079902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F79D-65BD-475D-9A57-4536D05C3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DA63-59EB-4503-9E78-50896F883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B5B3-39C5-46C7-995B-DB4872605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409A-8E4B-488C-895D-5B7356740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8E77-4216-41AA-B913-AF43653AC1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97C0-3DC0-4F01-9264-982E463970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umaboa.com.br/informatica/oiciliS/assembler/referencias/arquitetura.php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000" y="3357360"/>
            <a:ext cx="7380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I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mazenamento de dados e resultados que serão usados pela 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m de memória auxiliar básica para a 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icação (atual): registradores de uso geral e registradores de uso específ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geral, os registradores de dados da UCP têm uma largura (quantidade de bits que podem armazenar) igual ao tamanho estabelecido pelo fabricante para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lavra do referido processad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antidade e o emprego dos registradores variam bastante de modelo para modelo de U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0E78-AC27-4BFA-AFF7-8B79564B8E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função de estarem dentro do processador, podem ser lidos e escritos a uma velocidade bastante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gram Count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PC): armazena o endereço da próxima instr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egistrador de Instruçõ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IR): armazena instrução que está sendo execu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istradores de uso geral, registradores de segmentos, registrador FLAGS (PSW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gram Status Wo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311480" y="6237360"/>
            <a:ext cx="7390800" cy="550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is informações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www.numaboa.com.br/informatica/oiciliS/assembler/referencias/arquitetura.ph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0D83-0B8F-40EC-A69C-09440BA786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1640" y="1628640"/>
            <a:ext cx="2120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Registradores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(Intel)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594040" cy="661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ECD0-3FA9-48D3-A48D-60DFB9D14F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476000" y="1844640"/>
            <a:ext cx="720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gistradores (processadores de 64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gistradores do x86 foram extendidos para 64 bits e receberam o prefixo “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istrador de 64 bits correspondente ao EAX -&gt; R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am acrescentados mais 8 registradores de uso geral: R8-R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am acrescentados 8 registradores XMM: XMM8-XMM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pontador de instrução, EIP, foi ampliado também, e agora se chama R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istrador de FLAGS aumentou, embora não foram acrescentadas novas fl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2814-D68B-411A-8760-A9840C6178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fios paralelos que permite a transmissão de dados, endereços, sinais de controle e instru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barramentos internos e externos ao process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7745-45D9-4EF2-91DC-0C40873CDB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PU - Element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minho de d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clo de Busca-Decodificação-Execução de Instru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cução de Instru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9390-4148-4CF3-95EC-589F382646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Básica de Comput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eitos Básicos (Processa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0A4C-977E-4A77-9468-C5E0B587DF5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06080" y="1740960"/>
            <a:ext cx="7658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sição básica de um Computador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Process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s de entrada e saída interli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3789360"/>
            <a:ext cx="39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3645000"/>
            <a:ext cx="88920" cy="1276200"/>
          </a:xfrm>
          <a:custGeom>
            <a:avLst/>
            <a:gdLst>
              <a:gd name="textAreaLeft" fmla="*/ 56880 w 88920"/>
              <a:gd name="textAreaRight" fmla="*/ 89280 w 88920"/>
              <a:gd name="textAreaTop" fmla="*/ 33120 h 1276200"/>
              <a:gd name="textAreaBottom" fmla="*/ 1243080 h 127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FAF9-2887-48E6-8218-F469392DDE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06080" y="1740960"/>
            <a:ext cx="7658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ção básica de um Computador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783480" cy="368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47640" y="2708280"/>
            <a:ext cx="2733840" cy="31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BE8D-0171-42C7-885E-AE1A5A81A9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76360" y="191628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CP - Componentes fundam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dade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dade Aritmética e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istros (Registrad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municação (Barra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E279-3277-46A8-87C7-6967234BA7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692" t="10040" r="7441" b="4799"/>
          <a:stretch/>
        </p:blipFill>
        <p:spPr>
          <a:xfrm>
            <a:off x="1187280" y="1204920"/>
            <a:ext cx="7956720" cy="565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4B50-F63A-40D6-9111-F96F6C31C4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C - Unidade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usca, interpretação e controle de execução das instruções, e o controle dos demais componentes do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a ordens de cálculo para a UAL, que indica os valores a processar, e os coloca nos registradores para esse efei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ir da UC a informação é transferida para as outras partes que constituem o computador, como a memória, os sistemas de E/S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9AF3-44F2-49AC-AC0A-7F24529DBA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C - Unidade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vos básicos da área de contro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de controle (U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ific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dor de instrução (R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dor de instrução (CI ou PC - Program Coun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ógio (Cloc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dores MAR e M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E163-C0C5-4B67-A0C0-03A8A73C20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6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AL - Unidade Aritmética e Lógica (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execução efetiva das instru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lomerado de circuitos lógicos e componentes eletrônicos simples que, integrados, realizam as operações aritméticas e lógicas (soma, subtração, multiplicação, divisão, AND, OR, XOR, complemento, deslocamento, incremento e decremen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dores modernos utilizam mais de uma 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EAA3-52C8-432C-AD55-2874486C0A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2-24T04:27:31Z</dcterms:modified>
  <cp:revision>230</cp:revision>
  <dc:subject/>
  <dc:title>Organização e Arquitetura de Computadores I</dc:title>
</cp:coreProperties>
</file>