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C8D9-F6E6-42FA-A858-F650032E8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BE7F-BA28-4972-A665-4D1949711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8B8E-CD11-4218-9BFE-E1E9B0855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7CBB-1531-4410-91B6-50F625C97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2C315-5963-452C-98E1-2970B451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A60F3-EAE2-41ED-8809-722E2564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EF5AA-6E55-4047-B234-8A48DC53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CBE0F-7B02-4DB2-BF6D-E0DB9B83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C361D-F4A8-4770-B3EE-F891BB15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4AF07-77E6-46B9-86F1-BF84F01C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A82DC-68C1-42AE-A43F-AF1F5CC3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DCBA-6523-44DF-9931-392CBC5CF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BD019-496F-4D1B-9562-BFBC7B4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BC3C5-0931-446C-92E5-4B9B1B47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F9040-27E7-4CFD-A915-C330CFE0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D502C-A23B-4A64-B0A8-E80615E4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F0B04-FFE9-4E51-9FBF-4013EC9B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16D6-EB4F-4E54-ACDA-A18BC985B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C5B4-A34E-4759-81E7-F77FB95A8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AC5E-6AEA-45EC-AE29-F40564EBB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76F5-1547-401B-B1E6-8513F187F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CCDA-BAA8-4F1C-B006-7EF78B26B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2BC0-36E4-4754-9F45-998D7E390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3C24-6D3E-4A18-8CDA-20D8B2A72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8DB0-A982-46BA-81D3-EAC721C3C6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FDA9-16E1-4673-8300-D8F06DFBA7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28360" y="3357360"/>
            <a:ext cx="7380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Penguin"/>
                <a:ea typeface="Times New Roman"/>
              </a:rPr>
              <a:t>Linguagens, Níveis e Máquinas Virtu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or a existência das linguage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1: linguagem natural, do usuário (alto nível e complex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0: linguagem da máquina (baixo nível e simp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o compatibilizar L1 com L0? Existem 2 soluções (tradução e interpret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radut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 u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terp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15040" y="5578560"/>
            <a:ext cx="3257640" cy="947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e ser utilizada uma metodologia híbrid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dutor + interpretad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33A5-E0A5-4848-B65E-ACFC0CD8BE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Trad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Cada instrução de L1 é substituída por um conjunto de instruções equivalen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L0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ador executa programa em L0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o programa em L0 é carregado em memória e é execu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pode ser traduzido uma única vez e executado várias ve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516640"/>
            <a:ext cx="754380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s autores usam o termo tradução em sentido genérico, englobando os conceitos de compilação e interpretação. Aqui, ele está sendo empregado como sinônimo de compil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534B-7BCD-4E3B-A978-B72112DD2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58920" y="1916280"/>
            <a:ext cx="7518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352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Cada instrução de L1 é substituída por um conjunto de instruções equivalentes de L0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ocessador executa uma instrução de L1 (transformada para L0) antes de executar próxima instruçã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Cada instrução de L1, transformada para L0, é carregada na memória e execut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Não é criado um programa em L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41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ograma deve ser novamente interpretado para ser execu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0E4E-72BE-4F89-B055-98F9E4874F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560" y="198864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 possível não pensar em tradução ou interpretação, imaginando-se a existência de um computador hipotético, ou de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quina virtua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uja linguagem de máquina seja L1 (e uma máquina real M0 com linguagem L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programas poderiam ser escritos em L1, para a máquina M1 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serem executados diretamente em M1 se esta máquina fosse de custo de construção baixo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ourier New"/>
              </a:rPr>
              <a:t>serem  traduzidos ou interpretados para L0 e executados em M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6B63-7F6F-4B5F-B686-7B480DAB07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692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prática se implementa a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solução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pessoas escrevem programas para máquinas virtuais como se elas realmente existis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itos níveis de máquinas virtuais podem ser implement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124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linguagem usa a sua linguagem antecessora como base, de modo que um computador que use essa técnica pode ser visto como um conjunto de camadas ou n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FF88-FA35-4C69-B2CE-D9712B6FEC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18640" y="6237360"/>
            <a:ext cx="83250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nguin"/>
                <a:ea typeface="Times New Roman"/>
              </a:rPr>
              <a:t>Máquina de vários níve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5019" t="2253" r="5618" b="9740"/>
          <a:stretch/>
        </p:blipFill>
        <p:spPr>
          <a:xfrm>
            <a:off x="1476360" y="404640"/>
            <a:ext cx="7432560" cy="577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B529-85A7-435F-9C99-053998426E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352320" y="114480"/>
            <a:ext cx="55436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enguin"/>
                <a:ea typeface="Times New Roman"/>
              </a:rPr>
              <a:t>Máquinas Multiní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6093000"/>
            <a:ext cx="8400960" cy="580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.: Existe um outro nível situado abaixo do Nível 0 – nível dos dispositivos. Nesse nível o projetista trabalha com os elementos básicos do projeto (transistores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680" t="3386" r="4037" b="0"/>
          <a:stretch/>
        </p:blipFill>
        <p:spPr>
          <a:xfrm>
            <a:off x="3187800" y="695160"/>
            <a:ext cx="5759280" cy="503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611280" y="1700280"/>
            <a:ext cx="2209680" cy="40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 com 6 n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odo por meio do qual cada nível que é suportado é indicado abaixo do nível (junto com o nome do programa que o supor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1844640"/>
            <a:ext cx="255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06640" y="2319480"/>
            <a:ext cx="5029200" cy="3638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0569-D374-4EE4-AA3B-6447DC3B97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0: Nível da Lógica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l mais baixo da estrut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de interesse são conhecidos como portas lóg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orta lógica possui 1 ou mais entradas digitais (aceitam 0 ou 1) e calculam funções lógicas simples sobre essas entrada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AND, OR, XOR,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tas lógicas são combinadas para formar memórias de um bit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gistradore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processador - principal dispositivo do computador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7D3D-F392-41AF-AFD4-F5C157EB07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1: Nível da Microarquite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memória local (8 a 32 registradores) e a UAL (Unidade Aritmética Lógica) que realiza operações aritméticas muito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adores - conectados a UAL formando o caminho dos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ções são controladas por um microprograma ou diretamente por hard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croprograma - interpretador para as instruções do Nível 2. Busca, decodifica e executa as instruções, uma a uma, usando o caminho de dados para a realização desta tare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5E30-8602-4689-9886-AF8E6B0856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2: Nível da Arquitetura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Instr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IS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 Set  Architectu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da pelo fabricante e dependente da arquitetura da máqu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bricantes disponibilizam “Manual de Referência da Linguagem de Máquina” ou “Princípios de operação do Computador Modelo XYZW” (ou algo simila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uais descrevem como as instruções são executadas interpretativamente pelo microprograma ou como são executadas diretamente pelo hard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s informações são necessárias para os desenvolvedores de sistemas operacio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D307-37D1-4ED5-9575-6C814A8E8A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s Multiníve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2716-8CD2-40FC-9885-0F460F6BCA0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3: Nível do Sistema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ções da linguagem deste nível também podem conter instruções do nível 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rta uma organização diferente de memó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rta capacidade de rodar 2 ou mais programas simultane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rta sistemas de comandos ou de janelas (window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dores deste nível, e também dos níveis mais baixos, são conhecidos como programadores de sist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programadores dos níveis mais altos que este são chamados programadores de aplic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FFE0-F585-4A3D-B49A-73677ED53B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Nível 4: Nível da linguagem do mon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ou de montagem (</a:t>
            </a:r>
            <a:r>
              <a:rPr b="1" i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Assembly language</a:t>
            </a:r>
            <a:r>
              <a:rPr b="1" lang="pt-BR" sz="2400" spc="-1" strike="noStrike">
                <a:solidFill>
                  <a:srgbClr val="000000"/>
                </a:solidFill>
                <a:latin typeface="Pengui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inguagem de mont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forma simbólica de representação das linguagens do nível mais baix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s nessa linguagem são, inicialmente,  traduzidos para as linguagens dos níveis 1, 2 e 3 e depois interpretados pela máquina virtual apropriada ou pela própria máquina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 que realiza a tradução - mon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9928-7709-4554-871B-4A01B8A87E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vel 5: Nível das linguagens orientadas pa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ução dos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hecidas como linguagens de alto nível. Exemplos: Basic, C, Pascal, Java, LISP, 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s são geralmente traduzidos para os níveis 3 e 4 por compiladores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ns são interpretados: Exemplo: programas em 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4CCD-B4C2-45A3-851D-A87514B8BE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692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ções finais importan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dores são projetados como uma série de níveis, cada um deles construído em cima de seus precurs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nível representa uma abstração distinta, com diferentes objetos e oper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bstração permite ignorar, "abstrair", temporariamente detalhes irrelevantes, de níveis mais baixos, reduzindo uma questão complexa a algo muito mais fácil de ser entend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ABF1-A5FF-4C0C-8783-02CF40DD03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ções finais import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tipos de dados, operações e características de cada um dos níveis - arquitetura do ní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es da arquitetura - as características que um programador do nível deve enxergar, por exemplo, a disponibilidade de mem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46F9-B587-43C6-A0EA-8E4B924A89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das máquinas de vários n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iros computadores – fronteira entre o hardware e o software era muito cl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mente – muito difícil separar o hardware d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E298-DCFF-4B79-B894-C01316F151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95640" y="2637000"/>
            <a:ext cx="5314680" cy="15620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olução das máquinas de vários n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ardware e software s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quivalentes logicamente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Qualquer operação realizada por software pode ser realizada diretamente por hardwa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Qualquer instrução executada por hardware pode ser simulada em softwa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5238-A832-43AF-AC8F-2A7969D6AA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onteira entre o hardware e o software pode ser arbitrária e está sempre mud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hoje está implementado em software poderá em breve estar implementado em hardware, e vice-versa - O software de hoje pode ser o hardware de amanhã e vice-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fronteiras entre os demais níveis não estão bem definidas e podem também ser alte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804E-698A-45D9-832F-42746FB694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ponto de vista do programador, não tem muita importância a maneira como uma instrução é realmente implemen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dor de um nível, em geral, não deve se preocupar com implementações de níveis inf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AD35-E57D-42EB-96D0-B7B4A4716D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2080" y="177336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quina que pode resolver problemas executando uma série de instruções que lhe são forne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a Programas – conjunto de instruções que descrevem a maneira de realizar determinada tare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3F38-6FDA-445B-953D-8E87EB61C0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rcuitos de um computador (Hardwa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hecem e executam um conjunto limitado e simples de instruções (linguagem de máquina- binári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soma, comparação, transferência de dados de uma parte da memória para outra pa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DDD3-5CBF-4176-AF96-54309E88AD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32000" y="4653000"/>
            <a:ext cx="7451640" cy="1655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58560" y="1844280"/>
            <a:ext cx="7885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ções da  linguagem de máquina (decidida pelos projetistas de computadores) dev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 sim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 compatíveis com o uso da máqu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 compatíveis com o desempenho requ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r custo e complexidade da eletrônica reduzidos (aplicaçã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inguagem de máquina (binária-baixo nív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 muito distante de uma linguagem na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humana-alto ní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66FE-CE56-4B96-AABB-7C4D015C2C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2565360"/>
            <a:ext cx="7597800" cy="25002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Complexidade do que as pessoas precisam faz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versus</a:t>
            </a:r>
            <a:r>
              <a:rPr b="0" lang="pt-BR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simplicidade do conjunto de instruções do 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E59B-9C4D-46FD-A96F-373130FD81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4581360"/>
            <a:ext cx="7777440" cy="16560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65400" y="2205000"/>
            <a:ext cx="7807320" cy="14400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90160" y="1773360"/>
            <a:ext cx="8061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 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riar uma 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hierarquia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de abstrações de níve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mais altos baseados nos níveis mais baix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  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Criar uma </a:t>
            </a:r>
            <a:r>
              <a:rPr b="0" i="1" lang="pt-B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organização estruturada de computadores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ara facilitar a comunicação homem-máqui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96000" y="3789360"/>
            <a:ext cx="647640" cy="590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99A0-1923-455C-A2D4-FB73ACAE3A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hierárqu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ituído de um conjunto de subsistemas inter-relacionados, cada qual, possuindo também uma estrutura hierárquica, contendo, em seu nível mais baixo, subsistemas elemen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ortamento de cada nível depende apenas de uma caracterização abstrata e simplificada do sistema de nível imediatamente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E7C1-4B82-4A4E-81A8-D9282A0092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920" y="3141720"/>
            <a:ext cx="6408720" cy="1727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58920" y="19162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solucio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As pessoas devem fazer 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mas os computadores só podem fazer 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áquinas Multiníve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4985-7307-4783-B449-44D6269415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2-24T04:16:51Z</dcterms:modified>
  <cp:revision>209</cp:revision>
  <dc:subject/>
  <dc:title>Organização e Arquitetura de Computadores I</dc:title>
</cp:coreProperties>
</file>