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351-1B71-4A7E-8C3A-7F609E262A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090D-93F1-4C61-8B64-3283D94EF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831A-677B-449D-86BB-F151556CA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78A5-0EB9-4B8B-8134-42C942646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4F4E-6C24-48C2-95B0-0F0DE74BB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B31A-D20B-4B9F-9B9D-22F0880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54865-0378-48B1-A2A4-4C956A6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5D343-82D9-4D1E-B86A-F6C99FA1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9C096-DD89-4A73-9CBF-200F0338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876E0-83AD-40AD-B201-B36994BD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9C3ED-36A3-4176-803E-5767A5E8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57F2-5D8D-4939-8129-BBADCEC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BD5C-3996-4207-BB1C-B46065A86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5EDDA-B353-4A23-BDC2-9E58728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C04FA-826B-406C-9BBC-8F7DADF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3F2C-3FBE-4798-A69D-EB15080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1A650-62AD-4C9F-8026-FEBA943B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E59D7-3E02-4910-AD1C-36795278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02A-DD55-4EBD-B360-F8372B252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B748-7ECA-4AC5-8036-B35D21138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4EFE-DBB8-4877-B0F6-B99D7DB87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AE75-2A2C-42D0-BEAA-8ADC11D37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70FB-7C4D-4A31-88AF-533F63483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9BCB-F747-4203-A999-C11B0BDC6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12B5-4057-4F85-8C14-69AF60B0E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0B7-CC78-4A1B-AA37-61007C3E1B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AD8-C367-48EA-A296-018A787663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360"/>
            <a:ext cx="6697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II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 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ystemVeri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11F3-B060-4231-9E1A-6101AE4508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a G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ma variável será sintetizada como flip-flop se o seu valor é atribuído apenas no momento da transição de um s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708280"/>
            <a:ext cx="70754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D_reg4a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[3:0] Data_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ock, 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[3:0] Data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reset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or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ock)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reset) Data_out &lt;= 4'b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Data_out &lt;= Data_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4811760"/>
            <a:ext cx="622764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– Lógica Sequenc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1080" y="1482480"/>
            <a:ext cx="80280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registrador de deslocamento pode ser implementado, conhecendo-se a forma como os flip-flops são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ck)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eset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a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b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c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d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a &lt;= Shift_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b &lt;= reg_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c &lt;= reg_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d &lt;= reg_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5435640" cy="1557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gistrador de Desloca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2228" t="0" r="554" b="0"/>
          <a:stretch/>
        </p:blipFill>
        <p:spPr>
          <a:xfrm>
            <a:off x="2771640" y="5332320"/>
            <a:ext cx="6372360" cy="1409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16000" y="1484280"/>
            <a:ext cx="8028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rador de deslocamento pode ser implementado a partir da operação de concatenação referenciando-se as saídas do registrador.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Shift_reg4 (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3333cc"/>
                </a:solidFill>
                <a:latin typeface="Tahoma"/>
              </a:rPr>
              <a:t>input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in, clock, rese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logic Data_out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logic [3:0] Data_reg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009900"/>
                </a:solidFill>
                <a:latin typeface="Tahoma"/>
              </a:rPr>
              <a:t>always_comb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out = Data_reg[0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0099cc"/>
                </a:solidFill>
                <a:latin typeface="Tahoma"/>
              </a:rPr>
              <a:t>always @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negedg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reset 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or posedg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clock)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cc9900"/>
                </a:solidFill>
                <a:latin typeface="Tahoma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if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(reset == 0) Data_reg &lt;=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else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reg &lt;= {Data_in, Data_reg[3:1]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cc9900"/>
                </a:solidFill>
                <a:latin typeface="Tahoma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endmo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gistrador de Desloca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91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ógica combinacional que está incluída em um comportamento síncrono poderá ser sintetizada com a saída registr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1000"/>
              </a:lnSpc>
              <a:spcBef>
                <a:spcPts val="624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1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1000"/>
              </a:lnSpc>
              <a:spcBef>
                <a:spcPts val="1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x_reg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7:0] a, b, c, 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ic [7:0] 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1:0] sel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c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ca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el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: y &lt;= 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: y &lt;= b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: y &lt;=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ault: y &lt;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end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707" t="0" r="6914" b="0"/>
          <a:stretch/>
        </p:blipFill>
        <p:spPr>
          <a:xfrm>
            <a:off x="4608360" y="3213000"/>
            <a:ext cx="442764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ógica Combinacional Registra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994120" cy="3725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3645000"/>
            <a:ext cx="4648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lnSpc>
                <a:spcPct val="101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counter with Data_in when load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1000"/>
              </a:lnSpc>
              <a:tabLst>
                <a:tab algn="l" pos="0"/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1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 counts when counter_o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77840">
              <a:lnSpc>
                <a:spcPct val="101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s-up when count_up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77840">
              <a:lnSpc>
                <a:spcPct val="101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s-down when count_up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000" y="2997360"/>
            <a:ext cx="3838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specificação Fun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tador Up-Dow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87280" y="1671480"/>
            <a:ext cx="77058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up_down_count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k, reset, load, count_up, counter_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[2:0] Data_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[2:0] 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2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reset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or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rese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lo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Data_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counter_on)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count_u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Count 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Count –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tador Up-Dow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13T10:16:37Z</dcterms:modified>
  <cp:revision>206</cp:revision>
  <dc:subject/>
  <dc:title>Organização e Arquitetura de Computadores I</dc:title>
</cp:coreProperties>
</file>