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DF28-A34F-40FD-B806-74A98E903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C346-501B-41E1-B9C0-D6A617E08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AFA0-3E3E-44FE-B124-64727EB8B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427E-AE1A-4908-91F9-DFFFE369E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EEAC9-A926-4FCB-92E8-DE9B070C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9EADA-6CC8-452B-A450-75B7DC25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036A9-3D24-4CF9-A9CA-C9B43E0F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B0925-3959-4FE7-81BB-2AA779DE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6E342-C696-4743-AB3E-84F32DA9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B1506-03D7-4543-BC69-1DDFB7D1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2F104-2E6E-4E3D-A3D6-248D11D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D762-40EC-4B1F-825C-3E400ACA6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EC3A5-E866-4E43-BE52-CEE2C51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CF19B-23BB-4E41-AB9A-0DA0187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337F9-0025-450F-8F9C-C9D213B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1B6B2-0E84-4A24-ADFE-F4F74BE3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3F629-E8D9-4CC3-A227-77079C8F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88CC-31E9-4C39-B026-4806BAB9E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FB69-A240-4D49-90A1-EA1BB388A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07E5-ED79-47BF-B74F-14E1CAE54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122D-A135-4EB2-8153-0F943B1CF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CF6F-FF13-445F-8CBA-75EAA1C64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7770-A4D0-4196-BE8D-03379B9C0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2783-FEF8-468A-9C1A-282E9C041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7B5E-E9B1-4E6B-B06A-02942D4DAF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28FA-2278-4F0A-970C-1A209DCEBC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2276640"/>
            <a:ext cx="201636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Lógico de uma memória 4 x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linha de memória representa uma palavra de 3 b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48000" y="14400"/>
            <a:ext cx="5724360" cy="6798960"/>
            <a:chOff x="3348000" y="14400"/>
            <a:chExt cx="5724360" cy="6798960"/>
          </a:xfrm>
        </p:grpSpPr>
        <p:pic>
          <p:nvPicPr>
            <p:cNvPr id="128" name="" descr=""/>
            <p:cNvPicPr/>
            <p:nvPr/>
          </p:nvPicPr>
          <p:blipFill>
            <a:blip r:embed="rId1">
              <a:lum contrast="-6000"/>
            </a:blip>
            <a:stretch/>
          </p:blipFill>
          <p:spPr>
            <a:xfrm>
              <a:off x="3348000" y="14400"/>
              <a:ext cx="5724360" cy="6798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8242920" y="4804920"/>
              <a:ext cx="78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ffer não-inver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409600" y="5157720"/>
              <a:ext cx="102240" cy="40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6E42-6259-491C-9BD7-5A3A6DAC4C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ísticas da memória 4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linhas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os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ereço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(CS –  habilitação do chip, RD – leitura/escrita e OE – habilitação da saí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nhas d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83BE-F2AD-4983-AF49-6E0ADCFC40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5610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ísticas da memória 4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lei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S = 1, RD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escr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S=1, R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has de endereç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indicam qual das 4 palavras de 3 bits deve ser lida ou escr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lei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s linhas de dados da entrada não são usadas, mas a palavra selecionada é colocada nas linhas de saída de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escr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s bits presentes nas linhas de entrada de dados são carregados na palavra de memória selecionada; as linhas de saída de dados não são us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F3C4-B48D-4DB6-9784-E18780987A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32000" y="2349360"/>
            <a:ext cx="76327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esquema mostrado na figura pode ser facilmente estendido para tamanhos maiores de memór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Estender a memória 4 x 3 para 4 x 8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– acrescentar 5 colunas de 4 flip-flops cada e 5 linhas de saí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Estender a memória 4 x 3 para 8 x 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– acrescentar 4 linhas de 3 flip-flops cada e 1 linha de endereç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Um chip de memória de 4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bits pode ser obtido da form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 512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K x 8 ( 19 linhas de endereço e 8 linhas de dados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5805360"/>
            <a:ext cx="7518240" cy="750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 esse tipo de estrutura, o número de palavras da memória deve ser uma potência inteira de 2, a fim de que se possa ter a máxima eficiência, mas o número de bits da palavra pode ser qualquer 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7080" y="1773360"/>
            <a:ext cx="280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s de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3694-7B82-47E4-9D50-A91A26A737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contador é um sistema seqüencial que varia os seus estados, sob o comando de u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oc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de acordo com uma seqüência predetermin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s contadores são utilizados principalmente para contagens diversas, geração de palavras, divisão de freqüência, medição de freqüência e tempo, geração de forma de onda, conversão analógico/digital, seqüenciamento de operações de máquinas, etc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do o contador é incrementado além do seu valor máximo, seu valor volta para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contador da UCP – contador de programa (P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8888-BC01-4219-B31F-9C4B8C442B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çõe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contadores podem ser classificados segundo alguns crité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contro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ssíncrono, Síncr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cont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Crescente (up) e Decrescente (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códi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Hexadecimal, Decimal (Década), Outr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BA18-3778-416C-BDF4-CF0B7D75C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dores Assíncro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a entrad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c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 faz apenas no primeiro flip-flop, sendo as outras derivadas das saídas dos blocos anteriores. Ou seja, a saída de um flip-flop dispara uma mudança no estado do flip-flop seguinte. São relativamente l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dores Síncro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o estado de todos os flip-flps é alterado simultaneamente. Por ser mais rápido, esse tipo de contador é utilizado, por exemplo, na C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9836-6D12-4391-B810-E8D016C0AA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907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90880" y="2789280"/>
          <a:ext cx="532908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0880" y="2789280"/>
                    <a:ext cx="53290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de Contador As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dor Hexadecimal C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8560" y="623736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9762-9439-41EB-B379-B69BD1F11A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As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Hexadecimal C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ontador1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7647120" cy="24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76360" y="595008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g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0000 a 1111 ( 0 a 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4836-A073-4FAE-B8C2-5A9043DF06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Assíncrono Hexadecimal Crescent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d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4332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contador3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269040" cy="3506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867280"/>
            <a:ext cx="7772400" cy="680040"/>
          </a:xfrm>
          <a:prstGeom prst="rect">
            <a:avLst/>
          </a:prstGeom>
          <a:noFill/>
          <a:ln cap="sq" w="12600">
            <a:solidFill>
              <a:srgbClr val="fff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Este circuito também pode ser usado como um divisor de freqüência, pois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0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2,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1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4,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2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8 e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3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1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AE68-8EB2-4898-A642-D7D3001302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6945-735C-4AC8-9191-F8020E7B75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em 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bits) – usando flip-flop 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3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11280" y="3068640"/>
          <a:ext cx="511200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068640"/>
                    <a:ext cx="5112000" cy="227016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6C00-693F-4C82-B574-4D6369F63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885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em 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bits) – usando flip-flop 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3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4724280"/>
          <a:ext cx="307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724280"/>
                    <a:ext cx="3079800" cy="184788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258920" y="5157720"/>
            <a:ext cx="39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zando, por exemplo, o Mapa de Karnaugh, obtém-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47640" y="3068640"/>
          <a:ext cx="7247160" cy="15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068640"/>
                    <a:ext cx="7247160" cy="152100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708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bela-verdade do comportamento das entradas J e 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4C50-8A14-40A2-B65B-856BBD52F8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em 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3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ontador13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706788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F139-FB31-4011-8F2C-C57729B151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Diagrama de blocos de um relógi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0988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contador14" descr=""/>
          <p:cNvPicPr/>
          <p:nvPr/>
        </p:nvPicPr>
        <p:blipFill>
          <a:blip r:embed="rId1"/>
          <a:stretch/>
        </p:blipFill>
        <p:spPr>
          <a:xfrm>
            <a:off x="1644480" y="2349360"/>
            <a:ext cx="7499520" cy="39164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E2D6-3BA6-4EFE-97F1-2C78DA6D2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seqüencial constituído basicamente por flip-flops e que serve para a manipulação e armazenament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registradores mais simples guardam palavras binárias, outros modificam a palavra guardada somando 1, ou deslocando bits para a direita ou para a esquerda, ou ainda executando outras opera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básicos de registradores comumente utilizados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adores parale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adores de desloca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6FCA-1987-40FE-AA03-8D41D18F6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 Paral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 de um conjunto de memórias de 1 bit, que podem ser lidas ou escritas simultane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do para armazenar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5E35-E8EB-419C-B588-EBAD582C06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Registrador Paralelo de 4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289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egist5" descr=""/>
          <p:cNvPicPr/>
          <p:nvPr/>
        </p:nvPicPr>
        <p:blipFill>
          <a:blip r:embed="rId1"/>
          <a:srcRect l="6529" t="0" r="0" b="0"/>
          <a:stretch/>
        </p:blipFill>
        <p:spPr>
          <a:xfrm>
            <a:off x="1547640" y="2708280"/>
            <a:ext cx="7282080" cy="329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67000" y="594360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Informação de 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343F-4054-4F01-A24B-A3835E8C1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ções ger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=1 </a:t>
            </a:r>
            <a:r>
              <a:rPr b="0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s flip-flops irão assumir os valores que estiverem, respectivamente, em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 Assim, se “zerarmos” o registrador (CLEAR=0) e, logo após introduzirmos a informação paralela (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pelas entradas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as saídas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, 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assumirão respectivamente, os valores da informaçã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sa forma de inserção da informação no registrador é chamada de entrada paralela de informação, sendo a entrada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ável pela habilitação da mes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5FFA-F0C3-4E8F-9200-071EC16C4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 de desloc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ita e/ou transfere informação ser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usados como interface para dispositivos de E/S ser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usados dentro da ULA, para implementar as funções de deslocamento lógico e rotação. Nesse caso, eles devem também ser equipados com circuitos para leitura/escrita paralela e também s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33AC-C75F-4BF5-B13E-11F4BFB66F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83250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 Conversor série/paralelo de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92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egist3" descr=""/>
          <p:cNvPicPr/>
          <p:nvPr/>
        </p:nvPicPr>
        <p:blipFill>
          <a:blip r:embed="rId1"/>
          <a:stretch/>
        </p:blipFill>
        <p:spPr>
          <a:xfrm>
            <a:off x="1528920" y="2219400"/>
            <a:ext cx="6819840" cy="2203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906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regist4" descr=""/>
          <p:cNvPicPr/>
          <p:nvPr/>
        </p:nvPicPr>
        <p:blipFill>
          <a:blip r:embed="rId2"/>
          <a:stretch/>
        </p:blipFill>
        <p:spPr>
          <a:xfrm>
            <a:off x="1700280" y="5056200"/>
            <a:ext cx="653580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04920" y="4603680"/>
            <a:ext cx="79628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armazenamento da informação I = 1010 (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1F31-3837-4494-9DEF-372034172D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999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 básico utilizado para o armazenamento de inform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um sistema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memória de um bit é o elemento fundamental para desenvolver qualquer outra memória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211464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37162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5373720"/>
            <a:ext cx="7632720" cy="139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:Existe um tipo de memória que pode ser implementada usando circuitos combinacionais: a memória apenas de leitura (ROM –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Read-Only Memor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Uma dada entrada para a ROM (linhas de endereço) sempre produz a mesma saída (linhas de dados). Um ROM pode ser implementada usando decodificador e um conjunto de portas 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EC2B-B2CD-474D-898A-01B1F39232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6-11T09:40:53Z</dcterms:modified>
  <cp:revision>199</cp:revision>
  <dc:subject/>
  <dc:title>Organização e Arquitetura de Computadores I</dc:title>
</cp:coreProperties>
</file>