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F334-507B-423E-A56F-91A6DF381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9E5D-6615-4640-94B8-599151729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C8C1-636C-421A-8712-55E970F25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DF81-B46F-4642-B736-6830BBCE8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0424-5304-4FD4-AB05-61657354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A0F81-1F0A-4BF8-ACCD-15C3518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3865-7CCC-4633-9D45-30CCC381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33432-E1DC-486C-B7CD-958F1F9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EC3F-0AED-4086-98DF-968B2CBE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DC6E-CF05-4D63-A17A-25D0F88A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A6A05-9DC7-4857-B018-AEC6AAB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6C51-5AEC-47C8-845B-01593BBDA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39486-81F1-42F2-A752-86CADBF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60B4F-CA0A-405A-920F-0C795E1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82D2-DD86-48A2-AB08-593B84D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0FE7A-BC23-4FE3-A9F9-A740A778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730CF-C247-4249-9DB9-154DBCAA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AC31-C227-4F0B-BD80-D332A89DA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1D9F-9102-4F90-95F0-B4989FF41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4B56-D37B-4EC4-8D98-B75398023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A307-BF78-496A-B95A-520D70546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D39D-2218-4ADD-8A37-A87813A8C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52DA-6C8F-4B4E-B606-816DD6FB8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BB12-165A-47A8-AA79-1F072DA60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5CB-1CF4-4927-8840-A6B0DE8BDC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DE8-793A-462F-87EC-6CC5DE82D1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09680" y="3971880"/>
            <a:ext cx="64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80040" y="3971880"/>
            <a:ext cx="612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2560" y="432288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43228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888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5880" y="4322880"/>
            <a:ext cx="5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11480" y="43228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7960" y="432288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4960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6600" y="432288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432288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6160" y="432288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9600" y="432288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7800" y="4322880"/>
            <a:ext cx="28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432288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330800"/>
            <a:ext cx="64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330800"/>
            <a:ext cx="61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533840"/>
            <a:ext cx="64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0040" y="4533840"/>
            <a:ext cx="61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7084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5880" y="4708440"/>
            <a:ext cx="52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470844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76600" y="470844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0040" y="470844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470844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525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4932360"/>
            <a:ext cx="352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716360"/>
            <a:ext cx="648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4932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6160" y="4932360"/>
            <a:ext cx="342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58880" y="4932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3920" y="4932360"/>
            <a:ext cx="547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11480" y="4932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17960" y="4932360"/>
            <a:ext cx="431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4960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54280" y="4932360"/>
            <a:ext cx="725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80040" y="4716360"/>
            <a:ext cx="612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80040" y="4932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160" y="4932360"/>
            <a:ext cx="703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8960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94280" y="4932360"/>
            <a:ext cx="234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407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40760" y="4932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2565360"/>
          <a:ext cx="914400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91440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153200" cy="59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– Tabela-Verdade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4915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CA90-F0C0-4A9A-9144-EA11D7890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200720" cy="628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 SR (formado por portas NAND e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lipflopRS" descr=""/>
          <p:cNvPicPr/>
          <p:nvPr/>
        </p:nvPicPr>
        <p:blipFill>
          <a:blip r:embed="rId1"/>
          <a:stretch/>
        </p:blipFill>
        <p:spPr>
          <a:xfrm rot="60000">
            <a:off x="1619280" y="2997000"/>
            <a:ext cx="6699240" cy="2455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4A46-A348-4FAE-B606-231A9D16AC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tilizado quando é conveniente fazer com que o latch só troque de estado em instantes deter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87280" y="3573360"/>
            <a:ext cx="5689800" cy="2284560"/>
            <a:chOff x="1187280" y="3573360"/>
            <a:chExt cx="5689800" cy="22845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rcRect l="3656" t="0" r="1666" b="0"/>
            <a:stretch/>
          </p:blipFill>
          <p:spPr>
            <a:xfrm>
              <a:off x="1547640" y="3573360"/>
              <a:ext cx="53294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544760" y="4327560"/>
              <a:ext cx="341280" cy="75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3575160"/>
              <a:ext cx="536760" cy="22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8920" y="44895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164360" y="3645000"/>
            <a:ext cx="1757520" cy="216792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ock=0, o latch não muda de est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ock=1, o latch passa a ser sensível às variações de S e de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66EE-A6A5-421D-A101-C750DC4933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D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 a memória de 1 bit. O valor armazenado estará sempre disponível em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rregar na memória o valor corrente de D, basta colocar um pulso positivo na linha de 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e a questão da ambuigüidade do Latch SR (quando S=R=1) – não permite que esta possibilidade oco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B969-A09C-4D0E-860A-956E5126D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 D co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4896000" cy="227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71640" y="4869000"/>
            <a:ext cx="4140360" cy="1671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58920" y="522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is tipos de Laches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1989000"/>
            <a:ext cx="2381040" cy="208692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ando o clock=1 (nível alto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=0 (S=0, R=1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=0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=1 (S=1, R=0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=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31040" y="4869000"/>
            <a:ext cx="27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nível ba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649116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nível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276720" y="6093000"/>
            <a:ext cx="1224000" cy="504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533920" y="5229360"/>
            <a:ext cx="1774800" cy="6188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5CBE-7BA8-48EC-AE11-670FB8935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32000" y="2421000"/>
            <a:ext cx="763416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muitos circuitos, é preciso amostrar o valor de uma linha de dados em um determinado instante, para depois armazenar o valor amostrado. Para isso, existe um circuito derivado do latch, conhecido como flip-f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 mudança do estado não acontece quando a linha de clock assume valor 1, mas durante a transição de 0 para 1 do sinal de clock (transição positiva) ou durante a transição de 1 para 0 (transição negativa) desse mesmo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50800" y="17240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3F5B-C57D-4084-B3BA-0262FC4E0E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528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528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1628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 acordo com o funcionamento de suas entradas existem diversos tipos de flip-flops, os mais comuns são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JK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52720" y="2349360"/>
            <a:ext cx="5904000" cy="4508640"/>
            <a:chOff x="2052720" y="2349360"/>
            <a:chExt cx="5904000" cy="4508640"/>
          </a:xfrm>
        </p:grpSpPr>
        <p:grpSp>
          <p:nvGrpSpPr>
            <p:cNvPr id="218" name=""/>
            <p:cNvGrpSpPr/>
            <p:nvPr/>
          </p:nvGrpSpPr>
          <p:grpSpPr>
            <a:xfrm>
              <a:off x="2052720" y="2349360"/>
              <a:ext cx="5904000" cy="4508640"/>
              <a:chOff x="2052720" y="2349360"/>
              <a:chExt cx="5904000" cy="4508640"/>
            </a:xfrm>
          </p:grpSpPr>
          <p:sp>
            <p:nvSpPr>
              <p:cNvPr id="219" name=""/>
              <p:cNvSpPr/>
              <p:nvPr/>
            </p:nvSpPr>
            <p:spPr>
              <a:xfrm>
                <a:off x="2052720" y="2349360"/>
                <a:ext cx="5904000" cy="45086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70440" y="6435000"/>
                <a:ext cx="427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lip-Flop JK Mestre-Escrav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1" name="flipflopmestreescravo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391840" y="2419560"/>
                <a:ext cx="5157360" cy="2763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22" name=""/>
              <p:cNvGraphicFramePr/>
              <p:nvPr/>
            </p:nvGraphicFramePr>
            <p:xfrm>
              <a:off x="3749040" y="5237640"/>
              <a:ext cx="3393000" cy="12632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749040" y="5237640"/>
                        <a:ext cx="3393000" cy="126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4" name=""/>
            <p:cNvSpPr/>
            <p:nvPr/>
          </p:nvSpPr>
          <p:spPr>
            <a:xfrm>
              <a:off x="2171520" y="5519520"/>
              <a:ext cx="14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ível à transição negat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6520" y="5871600"/>
              <a:ext cx="559440" cy="1054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29440" y="5219640"/>
              <a:ext cx="0" cy="2818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5202360"/>
              <a:ext cx="28501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6480" y="5202360"/>
              <a:ext cx="678600" cy="5634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A4C5-527E-4431-A52F-7311B0C2E2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8195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33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3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336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92360" y="2133720"/>
            <a:ext cx="6408720" cy="3456000"/>
            <a:chOff x="1692360" y="2133720"/>
            <a:chExt cx="6408720" cy="3456000"/>
          </a:xfrm>
        </p:grpSpPr>
        <p:sp>
          <p:nvSpPr>
            <p:cNvPr id="239" name=""/>
            <p:cNvSpPr/>
            <p:nvPr/>
          </p:nvSpPr>
          <p:spPr>
            <a:xfrm>
              <a:off x="1692360" y="2133720"/>
              <a:ext cx="6408720" cy="3456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7080" y="347364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ip-Flop Tipo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0640" y="3335400"/>
              <a:ext cx="20304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89040" y="3297240"/>
              <a:ext cx="3308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4548240" y="2203920"/>
            <a:ext cx="3343320" cy="13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48240" y="2203920"/>
                      <a:ext cx="3343320" cy="13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4199760" y="3826440"/>
            <a:ext cx="3831120" cy="146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9760" y="3826440"/>
                      <a:ext cx="383112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37080" y="516636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ip-Flop Tipo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1761840" y="2203920"/>
            <a:ext cx="2159280" cy="104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61840" y="2203920"/>
                      <a:ext cx="2159280" cy="10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1901160" y="4038120"/>
            <a:ext cx="1880640" cy="1068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1160" y="4038120"/>
                      <a:ext cx="1880640" cy="106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1332000" y="162864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6240" y="5734080"/>
            <a:ext cx="76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5734080"/>
            <a:ext cx="7589880" cy="916920"/>
          </a:xfrm>
          <a:prstGeom prst="rect">
            <a:avLst/>
          </a:prstGeom>
          <a:noFill/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ns latches e flip-flops têm duas entradas adicionais, a primeir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força a estrutura para o estado Q=1) e a segund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força a estrutura para o estado Q=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E446-29E7-4C89-BC5F-3240CB8CBB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56108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 D – Outra forma de ob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92360" y="3068640"/>
            <a:ext cx="66596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E512-8D0D-4233-AB59-D70375B4AC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D – Outra forma de ob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47640" y="2708280"/>
            <a:ext cx="6902640" cy="3340080"/>
            <a:chOff x="1547640" y="2708280"/>
            <a:chExt cx="6902640" cy="33400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547640" y="2708280"/>
              <a:ext cx="6902640" cy="334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2" name=""/>
            <p:cNvSpPr/>
            <p:nvPr/>
          </p:nvSpPr>
          <p:spPr>
            <a:xfrm>
              <a:off x="6138720" y="3290400"/>
              <a:ext cx="1778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98960" y="3890160"/>
              <a:ext cx="889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8960" y="4523760"/>
              <a:ext cx="1010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63000" y="4934880"/>
              <a:ext cx="1010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8720" y="3307680"/>
              <a:ext cx="10098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8480" y="5397480"/>
              <a:ext cx="690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56280" y="3753000"/>
              <a:ext cx="7423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 AND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87920" y="3146040"/>
              <a:ext cx="310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87920" y="4208040"/>
              <a:ext cx="310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87920" y="4654800"/>
              <a:ext cx="310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87920" y="5099040"/>
              <a:ext cx="310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589F-DC24-42D7-8617-A24817AD7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4658-CC48-4446-B312-FEF9D65E00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ircuitos Seqüenci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 saída é função dos valores de entrada correntes e dos valores de entrada no instante anterior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184720" cy="35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41F1-E07A-4FA0-A83F-DAF05D04F8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 o desenvolvimento computacional e de comunicações digitais está suportado pela concepç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computador depende da existência de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cil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toda uma lógica que depende, fundamentalmente, da existência de conhecimento sobre 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 anteriores do sistema em função do temp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ou seja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nceito de tempo está associado a pulsos de um relógi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que vai alternar estados entre 0 e 1, com uma freqüência pré-determinada, e será utilizado na propagação temporal da informação. 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E2D1-684F-4669-B053-24AA1AADB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2000" y="16282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um computador, muitos eventos podem ocorrer durante um único período do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eventos precisam acontecer em determinada ordem, o período do clock precisa ser subdividido em subperíodos (ou subcicl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3583080"/>
            <a:ext cx="4164120" cy="327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4005360"/>
            <a:ext cx="3097440" cy="51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o sinal de c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agrama de tempo para o clo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e um sinal de clock assimétr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A7BE-0252-4C2B-91C7-63563BB22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981080"/>
            <a:ext cx="7504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istem tipos distintos de memória, porém, a lógica de todas elas está associada a circuitos oscilantes, chamados d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latch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que podem alternar sua saída (estado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i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em função dos parâmetros de entrada e do tempo decorri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Diferença entre flip-flop e latch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O flip-flop é sensível à transição do sinal de clock, enquanto que o latch é sensível ao nível desse mesmo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5950080"/>
            <a:ext cx="7201080" cy="586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se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e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ransições positiva e negativa do clock, respectiv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circuitos seqüencias síncron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8D73-7D55-44E3-8241-D9D1821DF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635280" y="3716280"/>
            <a:ext cx="1407960" cy="343080"/>
            <a:chOff x="3635280" y="3716280"/>
            <a:chExt cx="1407960" cy="343080"/>
          </a:xfrm>
        </p:grpSpPr>
        <p:sp>
          <p:nvSpPr>
            <p:cNvPr id="114" name=""/>
            <p:cNvSpPr/>
            <p:nvPr/>
          </p:nvSpPr>
          <p:spPr>
            <a:xfrm>
              <a:off x="3635280" y="3716280"/>
              <a:ext cx="13568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669480" y="3716280"/>
                  <a:ext cx="13737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e  {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716280"/>
                <a:ext cx="136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e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771640" y="2924280"/>
                <a:ext cx="292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796000" y="4653000"/>
            <a:ext cx="3019320" cy="1797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sinal de entrada causa a ida de um FF para um dado estado, o FF permanecerá neste estado mesmo depois deste sinal de entrada ter terminado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ta é a característica de memó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03280" y="4724280"/>
            <a:ext cx="4206960" cy="1776600"/>
            <a:chOff x="1403280" y="4724280"/>
            <a:chExt cx="4206960" cy="1776600"/>
          </a:xfrm>
        </p:grpSpPr>
        <p:graphicFrame>
          <p:nvGraphicFramePr>
            <p:cNvPr id="120" name=""/>
            <p:cNvGraphicFramePr/>
            <p:nvPr/>
          </p:nvGraphicFramePr>
          <p:xfrm>
            <a:off x="1403280" y="4724280"/>
            <a:ext cx="4206960" cy="17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4724280"/>
                      <a:ext cx="4206960" cy="17766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949120" y="5371920"/>
              <a:ext cx="498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7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acterísticas gerais dos Flip-flops e L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Muitos apresentam duas saídas complementares cham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ída   Q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saída nor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ída          - saída invert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F (ou do Latch) no estado  alto (1) ou baixo (0)  condição de Q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stados possíveis: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ntradas do FF (ou do Latch) - chaveamento  entre os dois estad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8BFA-559C-45E6-8164-86EF49541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a memória de 1 bit, é necessário um circuito que de alguma maneira possa lembrar valores anteriores que lhe foram fornecidos como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BE65-9474-4322-B9D5-4AE9C13A6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8324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tch SR (formado por portas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720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68320" y="2522520"/>
          <a:ext cx="38991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522520"/>
                    <a:ext cx="3899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04000" y="2492280"/>
            <a:ext cx="2087640" cy="3385800"/>
          </a:xfrm>
          <a:prstGeom prst="rect">
            <a:avLst/>
          </a:prstGeom>
          <a:noFill/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 circuito “lembra” qual das duas entradas, S ou R, esteve pela última vez em 1. Usando essa propriedade, é possível construir memórias de comput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92360" y="5013360"/>
          <a:ext cx="4708440" cy="16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5013360"/>
                    <a:ext cx="47084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835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E374-D82A-472E-9F56-0490011EA0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04T09:40:24Z</dcterms:modified>
  <cp:revision>195</cp:revision>
  <dc:subject/>
  <dc:title>Organização e Arquitetura de Computadores I</dc:title>
</cp:coreProperties>
</file>