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C4946-D93F-4557-8AED-AF66FFAA50D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50C55-B777-43B2-B5FF-5AEB117AB0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365F8-B2CE-4827-A52C-B81FF1F288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BB7F9-F6F1-4050-A042-43A3A52A94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96000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51672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40328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96000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51672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A0EC8-D528-45EF-B3AF-B293A4B37A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AC9A02-6A00-48AA-8D3B-0EA40834A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CF26AC-1136-4727-A2DB-B197E5A32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4992CA-786D-4FB2-91C4-96E0A0A22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87E1C6-C5D5-425A-BCF3-BE6756461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06E3D0-8E19-4FEB-949E-333FD7F4D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219320" y="18864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B77634-63AA-4E04-8A18-FBB09FCBD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B39EAF-EF9D-4E2E-97D5-4E8A0513D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4F639-BC7F-4372-94CA-561084F455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05F807-4EA3-426D-9A65-20177863E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A708EA-F72E-4CC1-9B5C-E5A659DDA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672D70-9450-48B9-A342-B9F315E61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E3F8BD-09E9-4AA5-837E-5D1C21A16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96000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51672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40328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96000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51672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F783F1-99F5-4D9C-A665-ECC2E5E2B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59AB5-66D6-4CDA-A135-ACBED2E55E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C1CC3-2720-4E13-959A-7C861405F0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35618-179D-44FB-8078-5BD3950EBE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219320" y="18864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5B271-CCDD-4FF3-A341-B571EBFAFD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B5E58-B3FB-4DF7-BC2E-E4CF148B6E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D87DC-F680-476C-8937-F3FDBEEF33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E886B-A4BD-48D4-91AB-AC9D165360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16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143000" y="1557360"/>
            <a:ext cx="8001000" cy="0"/>
          </a:xfrm>
          <a:prstGeom prst="line">
            <a:avLst/>
          </a:prstGeom>
          <a:ln cap="sq"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24267-CF15-4C1F-A8A2-B6562927BB3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50920" y="6165360"/>
            <a:ext cx="647640" cy="576360"/>
            <a:chOff x="250920" y="6165360"/>
            <a:chExt cx="647640" cy="576360"/>
          </a:xfrm>
        </p:grpSpPr>
        <p:sp>
          <p:nvSpPr>
            <p:cNvPr id="6" name=""/>
            <p:cNvSpPr/>
            <p:nvPr/>
          </p:nvSpPr>
          <p:spPr>
            <a:xfrm>
              <a:off x="250920" y="6627240"/>
              <a:ext cx="647640" cy="1144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000000"/>
                  </a:solidFill>
                  <a:latin typeface="Humanst521 BT"/>
                </a:rPr>
                <a:t>DSC/CEEI/UFC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13000" y="634788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flipV="1">
              <a:off x="281520" y="6165000"/>
              <a:ext cx="35172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15160" y="635652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flipV="1">
              <a:off x="282600" y="6173640"/>
              <a:ext cx="35388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92080" y="3141720"/>
            <a:ext cx="8001000" cy="0"/>
          </a:xfrm>
          <a:prstGeom prst="line">
            <a:avLst/>
          </a:prstGeom>
          <a:ln cap="sq"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9236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14400" y="141300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2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3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977DC-2145-432F-B733-A5170C96D05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39640" y="6165360"/>
            <a:ext cx="647640" cy="576360"/>
            <a:chOff x="539640" y="6165360"/>
            <a:chExt cx="647640" cy="576360"/>
          </a:xfrm>
        </p:grpSpPr>
        <p:sp>
          <p:nvSpPr>
            <p:cNvPr id="54" name=""/>
            <p:cNvSpPr/>
            <p:nvPr/>
          </p:nvSpPr>
          <p:spPr>
            <a:xfrm>
              <a:off x="539640" y="6627240"/>
              <a:ext cx="647640" cy="1144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000000"/>
                  </a:solidFill>
                  <a:latin typeface="Humanst521 BT"/>
                </a:rPr>
                <a:t>DSC/CEEI/UFC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01720" y="634788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 flipV="1">
              <a:off x="570240" y="6165000"/>
              <a:ext cx="35172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03880" y="635652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571320" y="6173640"/>
              <a:ext cx="35388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763640" y="115920"/>
            <a:ext cx="71294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partamento de Sistemas e Comput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2050560" y="3357720"/>
            <a:ext cx="6697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Linguagem d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Descrição de Hardwar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(Parte II)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Prof</a:t>
            </a:r>
            <a:r>
              <a:rPr b="1" lang="pt-BR" sz="1600" spc="-1" strike="noStrike" u="sng" baseline="30000">
                <a:solidFill>
                  <a:srgbClr val="000000"/>
                </a:solidFill>
                <a:uFillTx/>
                <a:latin typeface="Verdana"/>
              </a:rPr>
              <a:t>a</a:t>
            </a: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 Joseana Macêdo Fechin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joseana@dsc.ufcg.edu.b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Carga Horária: 60 hora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1908000" y="141300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Organização e Arquitetura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de Computadores 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187280" y="1482840"/>
            <a:ext cx="784872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28600" bIns="46800" anchor="t">
            <a:normAutofit/>
          </a:bodyPr>
          <a:p>
            <a:pPr marL="334800" indent="-334800">
              <a:lnSpc>
                <a:spcPct val="101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e de evento de transi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21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últiplos eventos de controle com o mesmo comporta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21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ventos derivados (apelidos de event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21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ços de realiment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21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tribuições que contenham controle por evento ou controle por atra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21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oco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fork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..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join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processos paralel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21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struçõe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w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21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struções externas d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is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21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ços com controle de tem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21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ços que dependam de d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21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Task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que contém controle de tem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21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DPs (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User Defined Primitive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qüenci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1120680" y="134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Construções a serem evitadas para Síntese combinatóri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187280" y="1628280"/>
            <a:ext cx="43214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28600" bIns="46800" anchor="t">
            <a:normAutofit/>
          </a:bodyPr>
          <a:p>
            <a:pPr marL="457200" indent="-457200">
              <a:lnSpc>
                <a:spcPct val="101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strução 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1000"/>
              </a:lnSpc>
              <a:buNone/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8320" indent="0">
              <a:lnSpc>
                <a:spcPct val="83000"/>
              </a:lnSpc>
              <a:buNone/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Lucida Console"/>
              </a:rPr>
              <a:t>module </a:t>
            </a: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mux_4bits 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8320" indent="0">
              <a:lnSpc>
                <a:spcPct val="83000"/>
              </a:lnSpc>
              <a:buNone/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3333cc"/>
                </a:solidFill>
                <a:latin typeface="Lucida Console"/>
              </a:rPr>
              <a:t>input</a:t>
            </a:r>
            <a:r>
              <a:rPr b="1" lang="en-GB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[3:0] a, b, c, 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8320" indent="0">
              <a:lnSpc>
                <a:spcPct val="83000"/>
              </a:lnSpc>
              <a:buNone/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3333cc"/>
                </a:solidFill>
                <a:latin typeface="Lucida Console"/>
              </a:rPr>
              <a:t>input</a:t>
            </a:r>
            <a:r>
              <a:rPr b="1" lang="en-GB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[1:0] se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8320" indent="0">
              <a:lnSpc>
                <a:spcPct val="83000"/>
              </a:lnSpc>
              <a:buNone/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3333cc"/>
                </a:solidFill>
                <a:latin typeface="Lucida Console"/>
              </a:rPr>
              <a:t>output</a:t>
            </a:r>
            <a:r>
              <a:rPr b="1" lang="en-GB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logic</a:t>
            </a:r>
            <a:r>
              <a:rPr b="1" lang="en-GB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[3:0] 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8320" indent="0">
              <a:lnSpc>
                <a:spcPct val="83000"/>
              </a:lnSpc>
              <a:buNone/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8320" indent="0">
              <a:lnSpc>
                <a:spcPct val="83000"/>
              </a:lnSpc>
              <a:buNone/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0099cc"/>
                </a:solidFill>
                <a:latin typeface="Lucida Console"/>
              </a:rPr>
              <a:t>always_co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8320" indent="0">
              <a:lnSpc>
                <a:spcPct val="83000"/>
              </a:lnSpc>
              <a:buNone/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GB" sz="1800" spc="-1" strike="noStrike">
                <a:solidFill>
                  <a:srgbClr val="009900"/>
                </a:solidFill>
                <a:latin typeface="Lucida Console"/>
              </a:rPr>
              <a:t>case</a:t>
            </a:r>
            <a:r>
              <a:rPr b="1" lang="en-GB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(s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8320" indent="0">
              <a:lnSpc>
                <a:spcPct val="83000"/>
              </a:lnSpc>
              <a:buNone/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0: y &lt;= 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8320" indent="0">
              <a:lnSpc>
                <a:spcPct val="83000"/>
              </a:lnSpc>
              <a:buNone/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1: y &lt;= b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8320" indent="0">
              <a:lnSpc>
                <a:spcPct val="83000"/>
              </a:lnSpc>
              <a:buNone/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2: y &lt;=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8320" indent="0">
              <a:lnSpc>
                <a:spcPct val="83000"/>
              </a:lnSpc>
              <a:buNone/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default: y &lt;= 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8320" indent="0">
              <a:lnSpc>
                <a:spcPct val="83000"/>
              </a:lnSpc>
              <a:buNone/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GB" sz="1800" spc="-1" strike="noStrike">
                <a:solidFill>
                  <a:srgbClr val="009900"/>
                </a:solidFill>
                <a:latin typeface="Lucida Console"/>
              </a:rPr>
              <a:t>end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8320" indent="0">
              <a:lnSpc>
                <a:spcPct val="83000"/>
              </a:lnSpc>
              <a:buNone/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Lucida Console"/>
              </a:rPr>
              <a:t>end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5662080" y="2708280"/>
            <a:ext cx="3255120" cy="2693160"/>
            <a:chOff x="5662080" y="2708280"/>
            <a:chExt cx="3255120" cy="2693160"/>
          </a:xfrm>
        </p:grpSpPr>
        <p:sp>
          <p:nvSpPr>
            <p:cNvPr id="145" name=""/>
            <p:cNvSpPr/>
            <p:nvPr/>
          </p:nvSpPr>
          <p:spPr>
            <a:xfrm>
              <a:off x="6959880" y="2708280"/>
              <a:ext cx="617400" cy="1773360"/>
            </a:xfrm>
            <a:custGeom>
              <a:avLst/>
              <a:gdLst/>
              <a:ahLst/>
              <a:rect l="l" t="t" r="r" b="b"/>
              <a:pathLst>
                <a:path w="434" h="1246">
                  <a:moveTo>
                    <a:pt x="0" y="0"/>
                  </a:moveTo>
                  <a:lnTo>
                    <a:pt x="434" y="310"/>
                  </a:lnTo>
                  <a:lnTo>
                    <a:pt x="434" y="886"/>
                  </a:lnTo>
                  <a:lnTo>
                    <a:pt x="0" y="1246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7301160" y="4201920"/>
              <a:ext cx="1440" cy="835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880680" y="5030640"/>
              <a:ext cx="9518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sel[1:0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413760" y="3049560"/>
              <a:ext cx="5461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413760" y="3413160"/>
              <a:ext cx="5461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413760" y="3778200"/>
              <a:ext cx="5461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413760" y="4141800"/>
              <a:ext cx="5461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574040" y="3544920"/>
              <a:ext cx="5461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669640" y="2887560"/>
              <a:ext cx="781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a[3:0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6800" y="3390840"/>
              <a:ext cx="770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y[3:0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662080" y="3241800"/>
              <a:ext cx="793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b[3:0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683680" y="3612960"/>
              <a:ext cx="7628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c[3:0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662080" y="3975120"/>
              <a:ext cx="793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d[3:0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Síntese de Multiplex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116000" y="1700280"/>
            <a:ext cx="5454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28600" bIns="46800" anchor="t">
            <a:normAutofit/>
          </a:bodyPr>
          <a:p>
            <a:pPr marL="457200" indent="-457200">
              <a:lnSpc>
                <a:spcPct val="101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strução 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if .. el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3000"/>
              </a:lnSpc>
              <a:buNone/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8320" indent="0">
              <a:lnSpc>
                <a:spcPct val="83000"/>
              </a:lnSpc>
              <a:buNone/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Lucida Console"/>
              </a:rPr>
              <a:t>module </a:t>
            </a: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mux_4bits 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8320" indent="0">
              <a:lnSpc>
                <a:spcPct val="83000"/>
              </a:lnSpc>
              <a:buNone/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3333cc"/>
                </a:solidFill>
                <a:latin typeface="Lucida Console"/>
              </a:rPr>
              <a:t>input</a:t>
            </a:r>
            <a:r>
              <a:rPr b="1" lang="en-GB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[3:0] a, b, c, 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8320" indent="0">
              <a:lnSpc>
                <a:spcPct val="83000"/>
              </a:lnSpc>
              <a:buNone/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3333cc"/>
                </a:solidFill>
                <a:latin typeface="Lucida Console"/>
              </a:rPr>
              <a:t>input</a:t>
            </a:r>
            <a:r>
              <a:rPr b="1" lang="en-GB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[1:0] se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8320" indent="0">
              <a:lnSpc>
                <a:spcPct val="83000"/>
              </a:lnSpc>
              <a:buNone/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3333cc"/>
                </a:solidFill>
                <a:latin typeface="Lucida Console"/>
              </a:rPr>
              <a:t>output</a:t>
            </a:r>
            <a:r>
              <a:rPr b="1" lang="en-GB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logic</a:t>
            </a:r>
            <a:r>
              <a:rPr b="1" lang="en-GB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[3:0] 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8320" indent="0">
              <a:lnSpc>
                <a:spcPct val="83000"/>
              </a:lnSpc>
              <a:buNone/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8320" indent="0">
              <a:lnSpc>
                <a:spcPct val="83000"/>
              </a:lnSpc>
              <a:buNone/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0099cc"/>
                </a:solidFill>
                <a:latin typeface="Lucida Console"/>
              </a:rPr>
              <a:t>always_co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8320" indent="0">
              <a:lnSpc>
                <a:spcPct val="83000"/>
              </a:lnSpc>
              <a:spcBef>
                <a:spcPts val="400"/>
              </a:spcBef>
              <a:buNone/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800" spc="-1" strike="noStrike">
                <a:solidFill>
                  <a:srgbClr val="009900"/>
                </a:solidFill>
                <a:latin typeface="Lucida Console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8320" indent="0">
              <a:lnSpc>
                <a:spcPct val="83000"/>
              </a:lnSpc>
              <a:buNone/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GB" sz="1800" spc="-1" strike="noStrike">
                <a:solidFill>
                  <a:srgbClr val="009900"/>
                </a:solidFill>
                <a:latin typeface="Lucida Console"/>
              </a:rPr>
              <a:t>if</a:t>
            </a:r>
            <a:r>
              <a:rPr b="1" lang="en-GB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(sel == 0) y &lt;= a; </a:t>
            </a:r>
            <a:r>
              <a:rPr b="1" lang="en-GB" sz="1800" spc="-1" strike="noStrike">
                <a:solidFill>
                  <a:srgbClr val="009900"/>
                </a:solidFill>
                <a:latin typeface="Lucida Console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8320" indent="0">
              <a:lnSpc>
                <a:spcPct val="83000"/>
              </a:lnSpc>
              <a:buNone/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GB" sz="1800" spc="-1" strike="noStrike">
                <a:solidFill>
                  <a:srgbClr val="009900"/>
                </a:solidFill>
                <a:latin typeface="Lucida Console"/>
              </a:rPr>
              <a:t>if</a:t>
            </a:r>
            <a:r>
              <a:rPr b="1" lang="en-GB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(sel == 1) y &lt;= b; </a:t>
            </a:r>
            <a:r>
              <a:rPr b="1" lang="en-GB" sz="1800" spc="-1" strike="noStrike">
                <a:solidFill>
                  <a:srgbClr val="009900"/>
                </a:solidFill>
                <a:latin typeface="Lucida Console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8320" indent="0">
              <a:lnSpc>
                <a:spcPct val="83000"/>
              </a:lnSpc>
              <a:buNone/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GB" sz="1800" spc="-1" strike="noStrike">
                <a:solidFill>
                  <a:srgbClr val="009900"/>
                </a:solidFill>
                <a:latin typeface="Lucida Console"/>
              </a:rPr>
              <a:t>if</a:t>
            </a:r>
            <a:r>
              <a:rPr b="1" lang="en-GB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(sel == 2) y &lt;= c; </a:t>
            </a:r>
            <a:r>
              <a:rPr b="1" lang="en-GB" sz="1800" spc="-1" strike="noStrike">
                <a:solidFill>
                  <a:srgbClr val="009900"/>
                </a:solidFill>
                <a:latin typeface="Lucida Console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8320" indent="0">
              <a:lnSpc>
                <a:spcPct val="83000"/>
              </a:lnSpc>
              <a:buNone/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GB" sz="1800" spc="-1" strike="noStrike">
                <a:solidFill>
                  <a:srgbClr val="009900"/>
                </a:solidFill>
                <a:latin typeface="Lucida Console"/>
              </a:rPr>
              <a:t>if</a:t>
            </a:r>
            <a:r>
              <a:rPr b="1" lang="en-GB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(sel == 3) y &lt;= 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8320" indent="0">
              <a:lnSpc>
                <a:spcPct val="83000"/>
              </a:lnSpc>
              <a:buNone/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9900"/>
                </a:solidFill>
                <a:latin typeface="Lucida Console"/>
              </a:rPr>
              <a:t>    </a:t>
            </a:r>
            <a:r>
              <a:rPr b="1" lang="en-GB" sz="1800" spc="-1" strike="noStrike">
                <a:solidFill>
                  <a:srgbClr val="009900"/>
                </a:solidFill>
                <a:latin typeface="Lucida Console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8320" indent="0">
              <a:lnSpc>
                <a:spcPct val="83000"/>
              </a:lnSpc>
              <a:buNone/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68320" indent="0">
              <a:lnSpc>
                <a:spcPct val="83000"/>
              </a:lnSpc>
              <a:buNone/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Lucida Console"/>
              </a:rPr>
              <a:t>end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8320" indent="0">
              <a:lnSpc>
                <a:spcPct val="83000"/>
              </a:lnSpc>
              <a:buNone/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5806080" y="2133720"/>
            <a:ext cx="3142440" cy="2693520"/>
            <a:chOff x="5806080" y="2133720"/>
            <a:chExt cx="3142440" cy="2693520"/>
          </a:xfrm>
        </p:grpSpPr>
        <p:sp>
          <p:nvSpPr>
            <p:cNvPr id="161" name=""/>
            <p:cNvSpPr/>
            <p:nvPr/>
          </p:nvSpPr>
          <p:spPr>
            <a:xfrm>
              <a:off x="7044480" y="2133720"/>
              <a:ext cx="589320" cy="1773360"/>
            </a:xfrm>
            <a:custGeom>
              <a:avLst/>
              <a:gdLst/>
              <a:ahLst/>
              <a:rect l="l" t="t" r="r" b="b"/>
              <a:pathLst>
                <a:path w="434" h="1246">
                  <a:moveTo>
                    <a:pt x="0" y="0"/>
                  </a:moveTo>
                  <a:lnTo>
                    <a:pt x="434" y="310"/>
                  </a:lnTo>
                  <a:lnTo>
                    <a:pt x="434" y="886"/>
                  </a:lnTo>
                  <a:lnTo>
                    <a:pt x="0" y="1246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7370280" y="3627360"/>
              <a:ext cx="1440" cy="834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969240" y="4456440"/>
              <a:ext cx="9518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sel[1:0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523200" y="2475360"/>
              <a:ext cx="5212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523200" y="2838600"/>
              <a:ext cx="52128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523200" y="3204000"/>
              <a:ext cx="5212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523200" y="3567240"/>
              <a:ext cx="52128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630920" y="2970360"/>
              <a:ext cx="52128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813280" y="2313360"/>
              <a:ext cx="781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a[3:0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78120" y="2816640"/>
              <a:ext cx="770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y[3:0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806080" y="2667240"/>
              <a:ext cx="793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b[3:0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825880" y="3038760"/>
              <a:ext cx="7628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c[3:0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806080" y="3400560"/>
              <a:ext cx="793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d[3:0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1403280" y="5734080"/>
            <a:ext cx="7164360" cy="8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Obs.: instruções </a:t>
            </a:r>
            <a:r>
              <a:rPr b="1" i="1" lang="en-GB" sz="2400" spc="-1" strike="noStrike">
                <a:solidFill>
                  <a:srgbClr val="3333cc"/>
                </a:solidFill>
                <a:latin typeface="Tahoma"/>
              </a:rPr>
              <a:t>case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 e </a:t>
            </a:r>
            <a:r>
              <a:rPr b="1" i="1" lang="en-GB" sz="2400" spc="-1" strike="noStrike">
                <a:solidFill>
                  <a:srgbClr val="3333cc"/>
                </a:solidFill>
                <a:latin typeface="Tahoma"/>
              </a:rPr>
              <a:t>if/else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são estilos mais recomendados para multiplexadores “grandes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Verdana"/>
              </a:rPr>
              <a:t>Síntese de Multiplexador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1116000" y="1482480"/>
            <a:ext cx="802800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28600" bIns="46800" anchor="t">
            <a:normAutofit/>
          </a:bodyPr>
          <a:p>
            <a:pPr marL="334800" indent="-334800">
              <a:lnSpc>
                <a:spcPct val="101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uando os casos de uma seqüência de condições (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de um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s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não são mutualmente exclusivos, a ferramenta de síntese cria uma estrutura de priorida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1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empl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lnSpc>
                <a:spcPct val="83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module </a:t>
            </a:r>
            <a:r>
              <a:rPr b="0" lang="en-GB" sz="1600" spc="-1" strike="noStrike">
                <a:solidFill>
                  <a:srgbClr val="000000"/>
                </a:solidFill>
                <a:latin typeface="Lucida Console"/>
              </a:rPr>
              <a:t>mux_4pri (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lnSpc>
                <a:spcPct val="83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GB" sz="1600" spc="-1" strike="noStrike">
                <a:solidFill>
                  <a:srgbClr val="3333cc"/>
                </a:solidFill>
                <a:latin typeface="Lucida Console"/>
              </a:rPr>
              <a:t>input</a:t>
            </a: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Lucida Console"/>
              </a:rPr>
              <a:t>a, b, c, d, sel_a, sel_b, sel_c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lnSpc>
                <a:spcPct val="83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GB" sz="1600" spc="-1" strike="noStrike">
                <a:solidFill>
                  <a:srgbClr val="3333cc"/>
                </a:solidFill>
                <a:latin typeface="Lucida Console"/>
              </a:rPr>
              <a:t>output</a:t>
            </a: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Lucida Console"/>
              </a:rPr>
              <a:t>logic y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lnSpc>
                <a:spcPct val="83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lnSpc>
                <a:spcPct val="83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GB" sz="1600" spc="-1" strike="noStrike">
                <a:solidFill>
                  <a:srgbClr val="0099cc"/>
                </a:solidFill>
                <a:latin typeface="Lucida Console"/>
              </a:rPr>
              <a:t>always_com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lnSpc>
                <a:spcPct val="83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GB" sz="1600" spc="-1" strike="noStrike">
                <a:solidFill>
                  <a:srgbClr val="009900"/>
                </a:solidFill>
                <a:latin typeface="Lucida Console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lnSpc>
                <a:spcPct val="83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GB" sz="1600" spc="-1" strike="noStrike">
                <a:solidFill>
                  <a:srgbClr val="ff3300"/>
                </a:solidFill>
                <a:latin typeface="Lucida Console"/>
              </a:rPr>
              <a:t>if</a:t>
            </a: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Lucida Console"/>
              </a:rPr>
              <a:t>(sel_a == 1) y &lt;= a; </a:t>
            </a:r>
            <a:r>
              <a:rPr b="1" lang="en-GB" sz="1600" spc="-1" strike="noStrike">
                <a:solidFill>
                  <a:srgbClr val="ff3300"/>
                </a:solidFill>
                <a:latin typeface="Lucida Console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lnSpc>
                <a:spcPct val="83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GB" sz="1600" spc="-1" strike="noStrike">
                <a:solidFill>
                  <a:srgbClr val="ff3300"/>
                </a:solidFill>
                <a:latin typeface="Lucida Console"/>
              </a:rPr>
              <a:t>if</a:t>
            </a: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Lucida Console"/>
              </a:rPr>
              <a:t>(sel_b == 0) y &lt;= b; </a:t>
            </a:r>
            <a:r>
              <a:rPr b="1" lang="en-GB" sz="1600" spc="-1" strike="noStrike">
                <a:solidFill>
                  <a:srgbClr val="ff3300"/>
                </a:solidFill>
                <a:latin typeface="Lucida Console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lnSpc>
                <a:spcPct val="83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GB" sz="1600" spc="-1" strike="noStrike">
                <a:solidFill>
                  <a:srgbClr val="ff3300"/>
                </a:solidFill>
                <a:latin typeface="Lucida Console"/>
              </a:rPr>
              <a:t>if</a:t>
            </a: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Lucida Console"/>
              </a:rPr>
              <a:t>(sel_c == 1) y &lt;= c; </a:t>
            </a:r>
            <a:r>
              <a:rPr b="1" lang="en-GB" sz="1600" spc="-1" strike="noStrike">
                <a:solidFill>
                  <a:srgbClr val="ff3300"/>
                </a:solidFill>
                <a:latin typeface="Lucida Console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lnSpc>
                <a:spcPct val="83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Lucida Console"/>
              </a:rPr>
              <a:t>y &lt;= 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lnSpc>
                <a:spcPct val="83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GB" sz="1600" spc="-1" strike="noStrike">
                <a:solidFill>
                  <a:srgbClr val="009900"/>
                </a:solidFill>
                <a:latin typeface="Lucida Console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lnSpc>
                <a:spcPct val="83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endmod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83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5724360" y="3865680"/>
            <a:ext cx="3368880" cy="21841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ioridade Lógic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1692000" y="2781360"/>
            <a:ext cx="5833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28600" bIns="46800" anchor="t">
            <a:normAutofit fontScale="64000"/>
          </a:bodyPr>
          <a:p>
            <a:pPr marL="214200" indent="-214200">
              <a:lnSpc>
                <a:spcPct val="101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óximos passo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16520"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ógica Seqüen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Verdana"/>
              </a:rPr>
              <a:t>Hardware Description Language</a:t>
            </a: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 (HDL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óp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403280" y="1916280"/>
            <a:ext cx="7593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Hardware Description Languag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(HD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ceitos Básicos – continuaçã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584520" indent="0">
              <a:spcBef>
                <a:spcPts val="60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Lógica Combinacio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64F11-ADE8-4EAF-9424-8FAA3677673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116000" y="1557000"/>
            <a:ext cx="8028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28600" bIns="46800" anchor="t">
            <a:normAutofit/>
          </a:bodyPr>
          <a:p>
            <a:pPr marL="334800" indent="-334800">
              <a:lnSpc>
                <a:spcPct val="101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nção lógica combinatória pode ser representada p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1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9900"/>
                </a:solidFill>
                <a:latin typeface="Arial"/>
              </a:rPr>
              <a:t>                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logic_output(t) = f(logic_inputs(t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87280" y="3914640"/>
            <a:ext cx="7956720" cy="29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46800" anchor="t">
            <a:noAutofit/>
          </a:bodyPr>
          <a:p>
            <a:pPr marL="334800" indent="-334800">
              <a:lnSpc>
                <a:spcPct val="101000"/>
              </a:lnSpc>
              <a:spcBef>
                <a:spcPts val="601"/>
              </a:spcBef>
              <a:buClr>
                <a:srgbClr val="bab600"/>
              </a:buClr>
              <a:buFont typeface="Wingdings" charset="2"/>
              <a:buChar char="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120" indent="-277920">
              <a:lnSpc>
                <a:spcPct val="101000"/>
              </a:lnSpc>
              <a:spcBef>
                <a:spcPts val="550"/>
              </a:spcBef>
              <a:buClr>
                <a:srgbClr val="800000"/>
              </a:buClr>
              <a:buFont typeface="Wingdings" charset="2"/>
              <a:buChar char="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Evite modelagem dependente de tecnologia, ou seja, implemente a função, não o </a:t>
            </a:r>
            <a:r>
              <a:rPr b="0" i="1" lang="en-GB" sz="2200" spc="-1" strike="noStrike">
                <a:solidFill>
                  <a:srgbClr val="000000"/>
                </a:solidFill>
                <a:latin typeface="Tahoma"/>
              </a:rPr>
              <a:t>timing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120" indent="-277920">
              <a:lnSpc>
                <a:spcPct val="101000"/>
              </a:lnSpc>
              <a:spcBef>
                <a:spcPts val="550"/>
              </a:spcBef>
              <a:buClr>
                <a:srgbClr val="800000"/>
              </a:buClr>
              <a:buFont typeface="Wingdings" charset="2"/>
              <a:buChar char="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Lógica combinatória não pode ter realimentaçã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120" indent="-277920">
              <a:lnSpc>
                <a:spcPct val="101000"/>
              </a:lnSpc>
              <a:spcBef>
                <a:spcPts val="550"/>
              </a:spcBef>
              <a:buClr>
                <a:srgbClr val="800000"/>
              </a:buClr>
              <a:buFont typeface="Wingdings" charset="2"/>
              <a:buChar char="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Especifique a saída de uma função combinatória para todas as possíveis combinações de entrad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835280" y="2852640"/>
            <a:ext cx="6599520" cy="1368000"/>
            <a:chOff x="1835280" y="2852640"/>
            <a:chExt cx="6599520" cy="1368000"/>
          </a:xfrm>
        </p:grpSpPr>
        <p:sp>
          <p:nvSpPr>
            <p:cNvPr id="111" name=""/>
            <p:cNvSpPr/>
            <p:nvPr/>
          </p:nvSpPr>
          <p:spPr>
            <a:xfrm>
              <a:off x="4140720" y="2852640"/>
              <a:ext cx="1966320" cy="136800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cc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3333cc"/>
                  </a:solidFill>
                  <a:latin typeface="Tahoma"/>
                </a:rPr>
                <a:t>Combinational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3333cc"/>
                  </a:solidFill>
                  <a:latin typeface="Tahoma"/>
                </a:rPr>
                <a:t>Logi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120720" y="3365280"/>
              <a:ext cx="531720" cy="342000"/>
            </a:xfrm>
            <a:prstGeom prst="rightArrow">
              <a:avLst>
                <a:gd name="adj1" fmla="val 50000"/>
                <a:gd name="adj2" fmla="val 38868"/>
              </a:avLst>
            </a:prstGeom>
            <a:solidFill>
              <a:srgbClr val="33cc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615840" y="3365280"/>
              <a:ext cx="531720" cy="342000"/>
            </a:xfrm>
            <a:prstGeom prst="rightArrow">
              <a:avLst>
                <a:gd name="adj1" fmla="val 50000"/>
                <a:gd name="adj2" fmla="val 38868"/>
              </a:avLst>
            </a:prstGeom>
            <a:solidFill>
              <a:srgbClr val="00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835280" y="3308040"/>
              <a:ext cx="159804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ahoma"/>
                </a:rPr>
                <a:t>logic_inputs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6560" y="3308040"/>
              <a:ext cx="1578240" cy="30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ahoma"/>
                </a:rPr>
                <a:t>logic_outputs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SystemVerilog: 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Síntese de Lógica combinatóri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187280" y="1773360"/>
            <a:ext cx="79567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28600" bIns="46800" anchor="t">
            <a:normAutofit/>
          </a:bodyPr>
          <a:p>
            <a:pPr marL="334800" indent="-334800">
              <a:lnSpc>
                <a:spcPct val="101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s seguintes estilos são possíve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1000"/>
              </a:lnSpc>
              <a:spcBef>
                <a:spcPts val="2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21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Netlis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de instâncias de portas e de primitivas Verilog (completamente estrutura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21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DP (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User Defined Primitiv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combinatória (somente algumas ferrament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21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nç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21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tribuições perman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21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struções comportament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21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ask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sem controle de atraso ou de eve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21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rconexões dos elementos ac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Estilos para Lógica Combinatória Sintetizá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5732640" y="2637000"/>
            <a:ext cx="3411360" cy="2144520"/>
            <a:chOff x="5732640" y="2637000"/>
            <a:chExt cx="3411360" cy="2144520"/>
          </a:xfrm>
        </p:grpSpPr>
        <p:pic>
          <p:nvPicPr>
            <p:cNvPr id="120" name="" descr=""/>
            <p:cNvPicPr/>
            <p:nvPr/>
          </p:nvPicPr>
          <p:blipFill>
            <a:blip r:embed="rId1"/>
            <a:stretch/>
          </p:blipFill>
          <p:spPr>
            <a:xfrm>
              <a:off x="5732640" y="2637000"/>
              <a:ext cx="3411360" cy="21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6408720" y="4365720"/>
              <a:ext cx="15890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</a:rPr>
                <a:t>pré-sínte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116000" y="1491840"/>
            <a:ext cx="8028000" cy="20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28600" bIns="46800" anchor="t">
            <a:normAutofit/>
          </a:bodyPr>
          <a:p>
            <a:pPr marL="334800" indent="-334800">
              <a:lnSpc>
                <a:spcPct val="101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erramentas de síntese otimizam uma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etlis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feita a partir de primitivas Veri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1000"/>
              </a:lnSpc>
              <a:spcBef>
                <a:spcPts val="249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1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58920" y="3357720"/>
            <a:ext cx="548640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module </a:t>
            </a:r>
            <a:r>
              <a:rPr b="0" lang="en-GB" sz="2000" spc="-1" strike="noStrike">
                <a:solidFill>
                  <a:srgbClr val="000000"/>
                </a:solidFill>
                <a:latin typeface="Lucida Console"/>
              </a:rPr>
              <a:t>or_nand_1 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  </a:t>
            </a: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input</a:t>
            </a: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Lucida Console"/>
              </a:rPr>
              <a:t>enable, x1, x2, x3, x4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  </a:t>
            </a: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output</a:t>
            </a: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Lucida Console"/>
              </a:rPr>
              <a:t>logic y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9900"/>
                </a:solidFill>
                <a:latin typeface="Lucida Console"/>
              </a:rPr>
              <a:t>  </a:t>
            </a:r>
            <a:r>
              <a:rPr b="1" lang="en-GB" sz="2000" spc="-1" strike="noStrike">
                <a:solidFill>
                  <a:srgbClr val="009900"/>
                </a:solidFill>
                <a:latin typeface="Lucida Console"/>
              </a:rPr>
              <a:t>logic</a:t>
            </a: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Lucida Console"/>
              </a:rPr>
              <a:t>w1, w2, w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Lucida Console"/>
              </a:rPr>
              <a:t>  </a:t>
            </a:r>
            <a:r>
              <a:rPr b="1" lang="en-GB" sz="2000" spc="-1" strike="noStrike">
                <a:solidFill>
                  <a:srgbClr val="ff3300"/>
                </a:solidFill>
                <a:latin typeface="Lucida Console"/>
              </a:rPr>
              <a:t>or</a:t>
            </a: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Lucida Console"/>
              </a:rPr>
              <a:t>(w1, x1, x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Lucida Console"/>
              </a:rPr>
              <a:t>  </a:t>
            </a:r>
            <a:r>
              <a:rPr b="1" lang="en-GB" sz="2000" spc="-1" strike="noStrike">
                <a:solidFill>
                  <a:srgbClr val="ff3300"/>
                </a:solidFill>
                <a:latin typeface="Lucida Console"/>
              </a:rPr>
              <a:t>or</a:t>
            </a: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Lucida Console"/>
              </a:rPr>
              <a:t>(w2, x3, x4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Lucida Console"/>
              </a:rPr>
              <a:t>  </a:t>
            </a:r>
            <a:r>
              <a:rPr b="1" lang="en-GB" sz="2000" spc="-1" strike="noStrike">
                <a:solidFill>
                  <a:srgbClr val="ff3300"/>
                </a:solidFill>
                <a:latin typeface="Lucida Console"/>
              </a:rPr>
              <a:t>or</a:t>
            </a: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Lucida Console"/>
              </a:rPr>
              <a:t>(w3, x3, x4); </a:t>
            </a:r>
            <a:r>
              <a:rPr b="0" lang="en-GB" sz="2000" spc="-1" strike="noStrike">
                <a:solidFill>
                  <a:srgbClr val="cc9900"/>
                </a:solidFill>
                <a:latin typeface="Lucida Console"/>
              </a:rPr>
              <a:t>// redund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Lucida Console"/>
              </a:rPr>
              <a:t>  </a:t>
            </a:r>
            <a:r>
              <a:rPr b="1" lang="en-GB" sz="2000" spc="-1" strike="noStrike">
                <a:solidFill>
                  <a:srgbClr val="ff3300"/>
                </a:solidFill>
                <a:latin typeface="Lucida Console"/>
              </a:rPr>
              <a:t>nand</a:t>
            </a: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Lucida Console"/>
              </a:rPr>
              <a:t>(y, w1, w2, w3, enabl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endmod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6012000" y="4944960"/>
            <a:ext cx="2874960" cy="1695600"/>
            <a:chOff x="6012000" y="4944960"/>
            <a:chExt cx="2874960" cy="1695600"/>
          </a:xfrm>
        </p:grpSpPr>
        <p:pic>
          <p:nvPicPr>
            <p:cNvPr id="125" name="" descr=""/>
            <p:cNvPicPr/>
            <p:nvPr/>
          </p:nvPicPr>
          <p:blipFill>
            <a:blip r:embed="rId2"/>
            <a:stretch/>
          </p:blipFill>
          <p:spPr>
            <a:xfrm>
              <a:off x="6012000" y="4944960"/>
              <a:ext cx="2874960" cy="169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6516720" y="6237360"/>
              <a:ext cx="172728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</a:rPr>
                <a:t>pós-sínte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Síntese de Lógica Combinatória – </a:t>
            </a:r>
            <a:r>
              <a:rPr b="1" i="1" lang="en-GB" sz="3200" spc="-1" strike="noStrike">
                <a:solidFill>
                  <a:srgbClr val="000000"/>
                </a:solidFill>
                <a:latin typeface="Verdana"/>
              </a:rPr>
              <a:t>Netlist</a:t>
            </a: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 de Porta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187280" y="1483920"/>
            <a:ext cx="777744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28600" bIns="46800" anchor="t">
            <a:normAutofit/>
          </a:bodyPr>
          <a:p>
            <a:pPr marL="334800" indent="-334800">
              <a:lnSpc>
                <a:spcPct val="101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ssos gerais da sínte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31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rtas lógicas são traduzidas em equações boolean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21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 equações booleanas são otimiza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21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quações booleanas são mapeadas para células de bibliote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3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nções complexas, que são modeladas por portas primitivas, não podem ser mapeadas para células de biblioteca mais complexas (p.ex. somador, multiplicado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3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retivas de síntese permitem preservar a estrutura, caso células equivalentes existam na bibliote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Síntese de Lógica Combinatória – </a:t>
            </a:r>
            <a:r>
              <a:rPr b="1" i="1" lang="en-GB" sz="3200" spc="-1" strike="noStrike">
                <a:solidFill>
                  <a:srgbClr val="000000"/>
                </a:solidFill>
                <a:latin typeface="Verdana"/>
              </a:rPr>
              <a:t>Netlist</a:t>
            </a: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 de Porta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116000" y="1700280"/>
            <a:ext cx="80280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28600" bIns="46800" anchor="t">
            <a:normAutofit/>
          </a:bodyPr>
          <a:p>
            <a:pPr marL="334800" indent="0">
              <a:lnSpc>
                <a:spcPct val="101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lnSpc>
                <a:spcPct val="83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Lucida Console"/>
              </a:rPr>
              <a:t>module </a:t>
            </a: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or_nand_2 (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lnSpc>
                <a:spcPct val="83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3333cc"/>
                </a:solidFill>
                <a:latin typeface="Lucida Console"/>
              </a:rPr>
              <a:t>input</a:t>
            </a:r>
            <a:r>
              <a:rPr b="1" lang="en-GB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enable, x1, x2, x3, x4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lnSpc>
                <a:spcPct val="83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3333cc"/>
                </a:solidFill>
                <a:latin typeface="Lucida Console"/>
              </a:rPr>
              <a:t>output</a:t>
            </a:r>
            <a:r>
              <a:rPr b="1" lang="en-GB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logic 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lnSpc>
                <a:spcPct val="83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3300"/>
                </a:solidFill>
                <a:latin typeface="Lucida Console"/>
              </a:rPr>
              <a:t>always_comb</a:t>
            </a:r>
            <a:r>
              <a:rPr b="1" lang="en-GB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y &lt;= !(enable &amp; (x1 | x2) &amp; (x3 | x4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lnSpc>
                <a:spcPct val="83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Lucida Console"/>
              </a:rPr>
              <a:t>end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611360" y="4162320"/>
            <a:ext cx="7281720" cy="2102040"/>
            <a:chOff x="1611360" y="4162320"/>
            <a:chExt cx="7281720" cy="2102040"/>
          </a:xfrm>
        </p:grpSpPr>
        <p:pic>
          <p:nvPicPr>
            <p:cNvPr id="132" name="" descr=""/>
            <p:cNvPicPr/>
            <p:nvPr/>
          </p:nvPicPr>
          <p:blipFill>
            <a:blip r:embed="rId1"/>
            <a:stretch/>
          </p:blipFill>
          <p:spPr>
            <a:xfrm>
              <a:off x="1611360" y="4222800"/>
              <a:ext cx="3608280" cy="204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2"/>
            <a:stretch/>
          </p:blipFill>
          <p:spPr>
            <a:xfrm>
              <a:off x="5435640" y="4162320"/>
              <a:ext cx="3457440" cy="17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2268360" y="5734080"/>
              <a:ext cx="1727280" cy="404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</a:rPr>
                <a:t>pré-sínte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72360" y="5373720"/>
              <a:ext cx="176832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8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</a:rPr>
                <a:t>pós-sínte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Síntese de Lógica Combinatória – Atribuição permanent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116000" y="1557000"/>
            <a:ext cx="80280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28600" bIns="46800" anchor="t">
            <a:normAutofit/>
          </a:bodyPr>
          <a:p>
            <a:pPr marL="334800" indent="0">
              <a:lnSpc>
                <a:spcPct val="101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lnSpc>
                <a:spcPct val="83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Lucida Console"/>
              </a:rPr>
              <a:t>module </a:t>
            </a: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or_nand_3 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lnSpc>
                <a:spcPct val="83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GB" sz="1800" spc="-1" strike="noStrike">
                <a:solidFill>
                  <a:srgbClr val="3333cc"/>
                </a:solidFill>
                <a:latin typeface="Lucida Console"/>
              </a:rPr>
              <a:t>input</a:t>
            </a:r>
            <a:r>
              <a:rPr b="1" lang="en-GB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enable, x1, x2, x3, x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lnSpc>
                <a:spcPct val="83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GB" sz="1800" spc="-1" strike="noStrike">
                <a:solidFill>
                  <a:srgbClr val="3333cc"/>
                </a:solidFill>
                <a:latin typeface="Lucida Console"/>
              </a:rPr>
              <a:t>output</a:t>
            </a:r>
            <a:r>
              <a:rPr b="1" lang="en-GB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logic</a:t>
            </a:r>
            <a:r>
              <a:rPr b="1" lang="en-GB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lnSpc>
                <a:spcPct val="83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lnSpc>
                <a:spcPct val="83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GB" sz="1800" spc="-1" strike="noStrike">
                <a:solidFill>
                  <a:srgbClr val="0099cc"/>
                </a:solidFill>
                <a:latin typeface="Lucida Console"/>
              </a:rPr>
              <a:t>always_co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lnSpc>
                <a:spcPct val="83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GB" sz="1800" spc="-1" strike="noStrike">
                <a:solidFill>
                  <a:srgbClr val="009900"/>
                </a:solidFill>
                <a:latin typeface="Lucida Console"/>
              </a:rPr>
              <a:t>if</a:t>
            </a:r>
            <a:r>
              <a:rPr b="1" lang="en-GB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(enab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lnSpc>
                <a:spcPct val="83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y &lt;= !((x1 | x2) &amp; (x3 | x4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lnSpc>
                <a:spcPct val="83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GB" sz="1800" spc="-1" strike="noStrike">
                <a:solidFill>
                  <a:srgbClr val="009900"/>
                </a:solidFill>
                <a:latin typeface="Lucida Console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lnSpc>
                <a:spcPct val="83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y &lt;= 1; // operand is a consta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lnSpc>
                <a:spcPct val="83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Lucida Console"/>
              </a:rPr>
              <a:t>end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lnSpc>
                <a:spcPct val="83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Obs</a:t>
            </a:r>
            <a:r>
              <a:rPr b="0" i="1" lang="en-GB" sz="1800" spc="-1" strike="noStrike">
                <a:solidFill>
                  <a:srgbClr val="000099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odas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as entradas para o comportamento precisam ser incluídas na lista de eventos, se não um </a:t>
            </a:r>
            <a:r>
              <a:rPr b="1" i="1" lang="en-GB" sz="1800" spc="-1" strike="noStrike">
                <a:solidFill>
                  <a:srgbClr val="000099"/>
                </a:solidFill>
                <a:latin typeface="Arial"/>
              </a:rPr>
              <a:t>latch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será inferido</a:t>
            </a:r>
            <a:r>
              <a:rPr b="0" i="1" lang="en-GB" sz="18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Síntese de Lógica Combinatória – Estilo comportamenta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223640" y="1699920"/>
            <a:ext cx="78850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28600" bIns="46800" anchor="t">
            <a:normAutofit/>
          </a:bodyPr>
          <a:p>
            <a:pPr marL="334800" indent="0">
              <a:lnSpc>
                <a:spcPct val="101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lnSpc>
                <a:spcPct val="83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Lucida Console"/>
              </a:rPr>
              <a:t>module </a:t>
            </a:r>
            <a:r>
              <a:rPr b="0" lang="en-GB" sz="1700" spc="-1" strike="noStrike">
                <a:solidFill>
                  <a:srgbClr val="000000"/>
                </a:solidFill>
                <a:latin typeface="Lucida Console"/>
              </a:rPr>
              <a:t>or_nand_4 (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lnSpc>
                <a:spcPct val="83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GB" sz="1700" spc="-1" strike="noStrike">
                <a:solidFill>
                  <a:srgbClr val="3333cc"/>
                </a:solidFill>
                <a:latin typeface="Lucida Console"/>
              </a:rPr>
              <a:t>input</a:t>
            </a:r>
            <a:r>
              <a:rPr b="1" lang="en-GB" sz="17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GB" sz="1700" spc="-1" strike="noStrike">
                <a:solidFill>
                  <a:srgbClr val="000000"/>
                </a:solidFill>
                <a:latin typeface="Lucida Console"/>
              </a:rPr>
              <a:t>enable, x1, x2, x3, x4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lnSpc>
                <a:spcPct val="83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GB" sz="1700" spc="-1" strike="noStrike">
                <a:solidFill>
                  <a:srgbClr val="3333cc"/>
                </a:solidFill>
                <a:latin typeface="Lucida Console"/>
              </a:rPr>
              <a:t>output</a:t>
            </a:r>
            <a:r>
              <a:rPr b="1" lang="en-GB" sz="1700" spc="-1" strike="noStrike">
                <a:solidFill>
                  <a:srgbClr val="000000"/>
                </a:solidFill>
                <a:latin typeface="Lucida Console"/>
              </a:rPr>
              <a:t> logic </a:t>
            </a:r>
            <a:r>
              <a:rPr b="0" lang="en-GB" sz="1700" spc="-1" strike="noStrike">
                <a:solidFill>
                  <a:srgbClr val="000000"/>
                </a:solidFill>
                <a:latin typeface="Lucida Console"/>
              </a:rPr>
              <a:t>y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lnSpc>
                <a:spcPct val="83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GB" sz="1700" spc="-1" strike="noStrike">
                <a:solidFill>
                  <a:srgbClr val="ff3300"/>
                </a:solidFill>
                <a:latin typeface="Lucida Console"/>
              </a:rPr>
              <a:t>always_comb</a:t>
            </a:r>
            <a:r>
              <a:rPr b="1" lang="en-GB" sz="17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GB" sz="1700" spc="-1" strike="noStrike">
                <a:solidFill>
                  <a:srgbClr val="000000"/>
                </a:solidFill>
                <a:latin typeface="Lucida Console"/>
              </a:rPr>
              <a:t>y &lt;= </a:t>
            </a:r>
            <a:r>
              <a:rPr b="0" lang="en-GB" sz="1700" spc="-1" strike="noStrike">
                <a:solidFill>
                  <a:srgbClr val="0099cc"/>
                </a:solidFill>
                <a:latin typeface="Lucida Console"/>
              </a:rPr>
              <a:t>or_nand</a:t>
            </a:r>
            <a:r>
              <a:rPr b="0" lang="en-GB" sz="1700" spc="-1" strike="noStrike">
                <a:solidFill>
                  <a:srgbClr val="000000"/>
                </a:solidFill>
                <a:latin typeface="Lucida Console"/>
              </a:rPr>
              <a:t>(enable, x1, x2, x3, x4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lnSpc>
                <a:spcPct val="83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lnSpc>
                <a:spcPct val="83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GB" sz="1700" spc="-1" strike="noStrike">
                <a:solidFill>
                  <a:srgbClr val="009900"/>
                </a:solidFill>
                <a:latin typeface="Lucida Console"/>
              </a:rPr>
              <a:t>function</a:t>
            </a:r>
            <a:r>
              <a:rPr b="1" lang="en-GB" sz="17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GB" sz="1700" spc="-1" strike="noStrike">
                <a:solidFill>
                  <a:srgbClr val="000000"/>
                </a:solidFill>
                <a:latin typeface="Lucida Console"/>
              </a:rPr>
              <a:t>or_nand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lnSpc>
                <a:spcPct val="83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GB" sz="1700" spc="-1" strike="noStrike">
                <a:solidFill>
                  <a:srgbClr val="3333cc"/>
                </a:solidFill>
                <a:latin typeface="Lucida Console"/>
              </a:rPr>
              <a:t>input</a:t>
            </a:r>
            <a:r>
              <a:rPr b="1" lang="en-GB" sz="17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GB" sz="1700" spc="-1" strike="noStrike">
                <a:solidFill>
                  <a:srgbClr val="000000"/>
                </a:solidFill>
                <a:latin typeface="Lucida Console"/>
              </a:rPr>
              <a:t>enable, x1, x2, x3, x4;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lnSpc>
                <a:spcPct val="83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GB" sz="1700" spc="-1" strike="noStrike">
                <a:solidFill>
                  <a:srgbClr val="cc9900"/>
                </a:solidFill>
                <a:latin typeface="Lucida Console"/>
              </a:rPr>
              <a:t>begi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lnSpc>
                <a:spcPct val="83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0" lang="en-GB" sz="1700" spc="-1" strike="noStrike">
                <a:solidFill>
                  <a:srgbClr val="000000"/>
                </a:solidFill>
                <a:latin typeface="Lucida Console"/>
              </a:rPr>
              <a:t>or_nand &lt;= ~(enable &amp; (x1 | x2) &amp; (x3 | x4)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lnSpc>
                <a:spcPct val="83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GB" sz="1700" spc="-1" strike="noStrike">
                <a:solidFill>
                  <a:srgbClr val="cc9900"/>
                </a:solidFill>
                <a:latin typeface="Lucida Console"/>
              </a:rPr>
              <a:t>en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lnSpc>
                <a:spcPct val="83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GB" sz="1700" spc="-1" strike="noStrike">
                <a:solidFill>
                  <a:srgbClr val="009900"/>
                </a:solidFill>
                <a:latin typeface="Lucida Console"/>
              </a:rPr>
              <a:t>endfunc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lnSpc>
                <a:spcPct val="83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Lucida Console"/>
              </a:rPr>
              <a:t>endmodu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Síntese de Lógica Combinatória – Funçõ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22:34:42Z</dcterms:created>
  <dc:creator>Joseana Macêdo Fechine/DSC/UFCG</dc:creator>
  <dc:description/>
  <dc:language>en-US</dc:language>
  <cp:lastModifiedBy>USE</cp:lastModifiedBy>
  <dcterms:modified xsi:type="dcterms:W3CDTF">2008-10-08T01:45:25Z</dcterms:modified>
  <cp:revision>208</cp:revision>
  <dc:subject/>
  <dc:title>Organização e Arquitetura de Computadores I</dc:title>
</cp:coreProperties>
</file>