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CB50-C4A5-474E-B7A7-A93085B4BC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0B41-8C72-4669-91E6-43375DB17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5192-03C0-47C4-A7A8-638DEEAA0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A381-90F5-48F5-B9D1-5AF5DFE14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1086-08EB-4C04-8375-5AAFC6B8E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855FB-B189-4D1E-A5A4-7CE928CF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6952E-7CBC-404E-A66B-2198D579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6D69E-14C6-4376-A8F4-740FC1EA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241F4-5519-453B-8EBA-EE38271E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F05F8-2731-4139-893C-9ED2CFB0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5972D-A48B-4D8E-BC98-87667BEF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F354D-412E-4D65-8431-981FBA15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940B-DA32-4B8E-93E6-F4A15427D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671EB-9119-4014-A839-4E2FF7F7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EA8FA-2D6A-478A-A071-EA0C1140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4F10F-4B5D-4EEA-96CF-B533E6FD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2E1B0-07D5-4483-A010-2178BC20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93960-0BA4-4827-B3D9-1FA05A19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55E4-87C8-4238-8A25-3833E9503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B176-D493-4C2E-A2DE-934A8FFF2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E429-9100-46B6-A6C9-B257F6EB0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6B4D-1C86-4EF5-985D-8F896C69D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704A-525D-42B3-81F6-6BCD1A6CA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1A2F-137C-444D-9EA2-1D80DA388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BC8E-2DD8-4A2A-A95E-4DE9EEBFD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D007-EB07-46AC-9D3B-199D761156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6E63-5681-4E5C-96CC-6F3A05AE70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0560" y="3357720"/>
            <a:ext cx="669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Linguagem 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Descrição de Hardw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(Parte I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ção: Concor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to (portas lógicas primitiva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and</a:t>
            </a:r>
            <a:r>
              <a:rPr b="0" i="1" lang="en-GB" sz="2000" spc="-1" strike="noStrike">
                <a:solidFill>
                  <a:srgbClr val="ff33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G2(Carry, A,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3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meiro parâmetro (Carry) –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3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ros parâmetros (A, B) -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Modelo estrutur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0A6D-C89B-4ED9-950D-E21B3899B3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956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luxo de dad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Representa sinais de saída em função de sinais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1" lang="en-GB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out &lt;= (sel &amp; a) | (~sel &amp; b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324520" y="3716280"/>
            <a:ext cx="5151960" cy="3054240"/>
            <a:chOff x="2324520" y="3716280"/>
            <a:chExt cx="5151960" cy="305424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3247920" y="4611600"/>
              <a:ext cx="8762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4467240" y="4516560"/>
              <a:ext cx="86364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4467240" y="5583240"/>
              <a:ext cx="8636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5981760" y="5050080"/>
              <a:ext cx="86328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095720" y="4840200"/>
              <a:ext cx="380880" cy="1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7920" y="4853160"/>
              <a:ext cx="1227240" cy="888840"/>
            </a:xfrm>
            <a:custGeom>
              <a:avLst/>
              <a:gdLst/>
              <a:ahLst/>
              <a:rect l="l" t="t" r="r" b="b"/>
              <a:pathLst>
                <a:path w="768" h="672">
                  <a:moveTo>
                    <a:pt x="0" y="0"/>
                  </a:moveTo>
                  <a:lnTo>
                    <a:pt x="0" y="672"/>
                  </a:lnTo>
                  <a:lnTo>
                    <a:pt x="768" y="67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76400" y="4840200"/>
              <a:ext cx="380880" cy="1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05320" y="4754520"/>
              <a:ext cx="685800" cy="4572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0"/>
                  </a:moveTo>
                  <a:lnTo>
                    <a:pt x="240" y="0"/>
                  </a:lnTo>
                  <a:lnTo>
                    <a:pt x="240" y="288"/>
                  </a:lnTo>
                  <a:lnTo>
                    <a:pt x="432" y="28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5305320" y="5375160"/>
              <a:ext cx="685800" cy="4464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0"/>
                  </a:moveTo>
                  <a:lnTo>
                    <a:pt x="240" y="0"/>
                  </a:lnTo>
                  <a:lnTo>
                    <a:pt x="240" y="288"/>
                  </a:lnTo>
                  <a:lnTo>
                    <a:pt x="432" y="28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6800" y="4002120"/>
              <a:ext cx="199800" cy="677880"/>
            </a:xfrm>
            <a:custGeom>
              <a:avLst/>
              <a:gdLst/>
              <a:ahLst/>
              <a:rect l="l" t="t" r="r" b="b"/>
              <a:pathLst>
                <a:path w="126" h="427">
                  <a:moveTo>
                    <a:pt x="0" y="0"/>
                  </a:moveTo>
                  <a:lnTo>
                    <a:pt x="0" y="426"/>
                  </a:lnTo>
                  <a:lnTo>
                    <a:pt x="126" y="427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4520" y="4592880"/>
              <a:ext cx="5785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08480" y="3716280"/>
              <a:ext cx="3682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12800" y="6307200"/>
              <a:ext cx="35136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12640" y="5059440"/>
              <a:ext cx="6638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56040" y="4859280"/>
              <a:ext cx="55728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sel_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32920" y="4478400"/>
              <a:ext cx="5526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sel_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09960" y="5773680"/>
              <a:ext cx="54792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sel_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19320" y="4249800"/>
              <a:ext cx="3733920" cy="20574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276800" y="5902560"/>
              <a:ext cx="199800" cy="677520"/>
            </a:xfrm>
            <a:custGeom>
              <a:avLst/>
              <a:gdLst/>
              <a:ahLst/>
              <a:rect l="l" t="t" r="r" b="b"/>
              <a:pathLst>
                <a:path w="126" h="427">
                  <a:moveTo>
                    <a:pt x="0" y="0"/>
                  </a:moveTo>
                  <a:lnTo>
                    <a:pt x="0" y="426"/>
                  </a:lnTo>
                  <a:lnTo>
                    <a:pt x="126" y="427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Estilos de Descri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9384-0985-422C-9DBF-A52373A0578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956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a atribuição permanente para s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mat:  </a:t>
            </a: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1" i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Lucida Console"/>
              </a:rPr>
              <a:t>[ delay ]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net &lt;= express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emplo:  </a:t>
            </a: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1" i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sum &lt;= a ^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7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Lucida Console"/>
              </a:rPr>
              <a:t>del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traso de propagação da expressão para o s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7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das as atribuições permanentes executam simultane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7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ordem das atribuições dentro do arquivo SystemVerilog não tem efeito sobre a exec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Modelo de Fluxo de D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833F-3665-49E3-9C02-B3A8D5E08A5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70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r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1" i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#2 sum &lt;= a ^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#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 indica 2 unidades de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m especificação de atraso: 0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ociação entre unidade de tempo e tempo simu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990099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`timescale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dade/resol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`timesca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1 ns / 10 ps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3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unidade de tempo  = 1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3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olução é 10 ps (0.01 ns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Modelo de Fluxo de D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8300-0F72-4D97-B62A-5C845D57F82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Lucida Console"/>
              </a:rPr>
              <a:t>`timescale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1ns/10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module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HalfAdder (</a:t>
            </a: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A, B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               </a:t>
            </a: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logic Sum, Carr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#3 Sum &lt;= A ^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#6 Carry &lt;= A &amp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Modelo de Fluxo de D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BF46-5835-4A25-9537-7A5B9810CD1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70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rtament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representa o comportamento na forma de um algorit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Lucida Console"/>
              </a:rPr>
              <a:t>   </a:t>
            </a:r>
            <a:r>
              <a:rPr b="0" lang="en-GB" sz="22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(sel == 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out &lt;= b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200" spc="-1" strike="noStrike">
                <a:solidFill>
                  <a:srgbClr val="ff3300"/>
                </a:solidFill>
                <a:latin typeface="Lucida Console"/>
              </a:rPr>
              <a:t>else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out &lt;= 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639320" y="4438800"/>
            <a:ext cx="3952440" cy="1879200"/>
            <a:chOff x="4639320" y="4438800"/>
            <a:chExt cx="3952440" cy="1879200"/>
          </a:xfrm>
        </p:grpSpPr>
        <p:sp>
          <p:nvSpPr>
            <p:cNvPr id="182" name=""/>
            <p:cNvSpPr/>
            <p:nvPr/>
          </p:nvSpPr>
          <p:spPr>
            <a:xfrm>
              <a:off x="5641920" y="4491000"/>
              <a:ext cx="1636920" cy="969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6640" y="4673520"/>
              <a:ext cx="6699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76640" y="5157720"/>
              <a:ext cx="6699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431040" y="5448240"/>
              <a:ext cx="1440" cy="4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78840" y="4915080"/>
              <a:ext cx="66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54440" y="4438800"/>
              <a:ext cx="35136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39320" y="4921200"/>
              <a:ext cx="3682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35480" y="5854680"/>
              <a:ext cx="5785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7920" y="4672080"/>
              <a:ext cx="6638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55680" y="4667400"/>
              <a:ext cx="1445760" cy="7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Tahoma"/>
                </a:rPr>
                <a:t>Black 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Tahoma"/>
                </a:rPr>
                <a:t>2x1 M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Estilos de Descri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BE78-B384-476F-997B-DAB4304CCA6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332000" y="1700280"/>
            <a:ext cx="6175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mux_2x1(</a:t>
            </a: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a, b, se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logic 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000" spc="-1" strike="noStrike">
                <a:solidFill>
                  <a:srgbClr val="008000"/>
                </a:solidFill>
                <a:latin typeface="Lucida Console"/>
              </a:rPr>
              <a:t>always_co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(sel == 1) out &lt;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else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out &lt;=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Modelo comportament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474E-332A-4C24-AB65-8F749A5DC9D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87280" y="1773000"/>
            <a:ext cx="777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T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gister Transfer Lev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descreve o que acontece a cada transição ativa do sinal de reló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Lucida Console"/>
              </a:rPr>
              <a:t>always_ff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@(posedge clock) </a:t>
            </a:r>
            <a:r>
              <a:rPr b="0" lang="en-GB" sz="2200" spc="-1" strike="noStrike">
                <a:solidFill>
                  <a:srgbClr val="0099cc"/>
                </a:solidFill>
                <a:latin typeface="Lucida Console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isca &lt;= ~pisc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99cc"/>
                </a:solidFill>
                <a:latin typeface="Lucida Console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Estilos de Descri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5B3F-85CB-4E75-BC3E-EF298ABC667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402920" y="1844280"/>
            <a:ext cx="5635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dural_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else if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i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dural_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dural_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(re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Q &l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Q &lt;=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Instruções Condi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9B1A-7B75-48BC-B6C1-3671CE880D4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87280" y="1557000"/>
            <a:ext cx="795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rução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case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2’b00: Y &lt;= A +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2’b01: Y &lt;= A –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2’b10: Y &lt;= A /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end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Instruções Condi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552C-024D-4202-A850-9BB468BDD79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ardware Description Langua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H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ACB9-CCA6-4675-B5D1-64609101895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77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 vetor de regist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logic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990099"/>
                </a:solidFill>
                <a:latin typeface="Lucida Console"/>
              </a:rPr>
              <a:t>[ msb : lsb ]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memory1 </a:t>
            </a:r>
            <a:r>
              <a:rPr b="0" lang="en-GB" sz="2000" spc="-1" strike="noStrike">
                <a:solidFill>
                  <a:srgbClr val="990099"/>
                </a:solidFill>
                <a:latin typeface="Lucida Console"/>
              </a:rPr>
              <a:t>[ upper : lower ]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logic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[ 3 : 0 ] mem [ 63 : 0 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// Um array de 64 registradores de 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logic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mem [ 4 : 0 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// Um array de 5 registradores de 1 b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DL - Memór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BF9D-9660-421C-820C-BCBC866907D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258560" y="1915920"/>
            <a:ext cx="7705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Lucida Console"/>
              </a:rPr>
              <a:t>`defi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(similar ao #define em C) usado para definir parâmet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24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`define BUS_WIDTH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logic [ `BUS_WIDTH - 1 : 0 ] System_Bu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Lucida Console"/>
              </a:rPr>
              <a:t>`include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– usado para incluir outro arqu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`include “./fulladder.sv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DL - Diretivas de Compila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7589-EAE8-4CF1-9B9E-26D2C526F88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16000" y="1483920"/>
            <a:ext cx="80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exão por posição</a:t>
            </a:r>
            <a:br>
              <a:rPr sz="2400"/>
            </a:b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odule child_mod(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input sig_a, sig_b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output logic sig_c,sig_d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// descrição do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odule parent_m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logic [3:0] g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child_mod U1(g[3],g[1]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g[0],g[2]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// ordem é significati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53920" y="1819440"/>
            <a:ext cx="1928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Linotype"/>
              </a:rPr>
              <a:t>parent_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96880" y="4037040"/>
            <a:ext cx="4114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553000" y="3191040"/>
            <a:ext cx="3591000" cy="2133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705640" y="2276640"/>
            <a:ext cx="3352680" cy="3276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DL - Tipos de Porta de Conex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E1F9-C73E-4330-A3B9-0CCC25824A6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116000" y="1557360"/>
            <a:ext cx="7956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exão explícita</a:t>
            </a:r>
            <a:br>
              <a:rPr sz="2400"/>
            </a:b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odule child_mod(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input sig_a, sig_b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output logic sig_c,sig_d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// descrição do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odule parent_m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logic [3:0] g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child_mod U1(.sig_c(g[0]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.sig_b(g[1]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.sib_d(g[2]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.sig_a(g[3])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// ordem arbitr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09640" y="1711440"/>
            <a:ext cx="1928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Linotype"/>
              </a:rPr>
              <a:t>parent_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4221000"/>
            <a:ext cx="4114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508720" y="3083040"/>
            <a:ext cx="3591000" cy="2133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661000" y="2168640"/>
            <a:ext cx="3352680" cy="3276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DL - Tipos de Porta de Conex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204E-E0D3-46CE-9C8A-7FE4A69AE97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95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exão por casamento</a:t>
            </a:r>
            <a:br>
              <a:rPr sz="2400"/>
            </a:b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odule child_mod(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input a, b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output logic c,d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// descrição do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odule parent_m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logic a,b,c,d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child_mod U1( .* 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4292640"/>
            <a:ext cx="4114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580000" y="2637000"/>
            <a:ext cx="3200400" cy="2514600"/>
            <a:chOff x="5580000" y="2637000"/>
            <a:chExt cx="3200400" cy="2514600"/>
          </a:xfrm>
        </p:grpSpPr>
        <p:sp>
          <p:nvSpPr>
            <p:cNvPr id="220" name=""/>
            <p:cNvSpPr/>
            <p:nvPr/>
          </p:nvSpPr>
          <p:spPr>
            <a:xfrm>
              <a:off x="5796000" y="4005360"/>
              <a:ext cx="2743200" cy="914400"/>
            </a:xfrm>
            <a:prstGeom prst="roundRect">
              <a:avLst>
                <a:gd name="adj" fmla="val 171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pPr algn="ctr">
                <a:lnSpc>
                  <a:spcPct val="5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      b      c     d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hild_m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265800" y="3547800"/>
              <a:ext cx="180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78520" y="3547800"/>
              <a:ext cx="180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453440" y="3547800"/>
              <a:ext cx="144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8029440" y="3547800"/>
              <a:ext cx="180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08840" y="3251160"/>
              <a:ext cx="2387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5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      b      c    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80000" y="2637000"/>
              <a:ext cx="3200400" cy="2514600"/>
            </a:xfrm>
            <a:prstGeom prst="roundRect">
              <a:avLst>
                <a:gd name="adj" fmla="val 6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pPr algn="ctr">
                <a:lnSpc>
                  <a:spcPct val="5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arent_m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DL - Tipos de Porta de Conex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3851280" y="5950080"/>
            <a:ext cx="2881440" cy="707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uidado!!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funciona no Quar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211280" y="5445000"/>
            <a:ext cx="647640" cy="432000"/>
          </a:xfrm>
          <a:prstGeom prst="line">
            <a:avLst/>
          </a:prstGeom>
          <a:ln cap="sq" w="38160">
            <a:solidFill>
              <a:srgbClr val="0033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B090-3C00-4E98-B9AF-FE355125F07D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634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 que precisamos de uma Linguagem de Descrição de Hardw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ar, Representar e simular hardware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or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le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mântica para valores de sinais no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uções e semântica espe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ções (bordas) de valores de si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rasos de propagação de si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ificação de condições tempo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Hardware Description Language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(HDL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FC0C-105D-45E0-B182-E235C4DF396F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70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nidade básica – o mód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ódulo (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modu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eve a funcionalidade do circu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 terminais (pinos, portas) de entrada e 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 Um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ionalidade: Realizar operações progra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rtas de entrada/saída: conector para teclado, mouse, conector VGA, conector U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Hardware Description Language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(HDL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7443-6B86-4391-9BAE-7F3213F15D7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58920" y="1628640"/>
            <a:ext cx="7634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/ comentário de uma linha s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* outra forma de comentário de uma linha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* inicio de comentário com múltiplas lin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do text é igno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mina com a linha abai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ú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mal, hexadecimal, b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'd33, 8'hA6, 4'b1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sized decim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ze bas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lude underlines, +,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Hardware Description Language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(HDL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A58D-724E-4E4E-B605-56BC13AFFF8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6920" y="155700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 fontScale="91000"/>
          </a:bodyPr>
          <a:p>
            <a:pPr marL="300240" indent="-30024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deias de carac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"Delimite usando aspas numa mesma linha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 limitados a 1024 caract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0240"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...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...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 ...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der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024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eiro caractere de um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ão pode ser um díg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024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1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300" spc="-1" strike="noStrike">
                <a:solidFill>
                  <a:srgbClr val="003399"/>
                </a:solidFill>
                <a:latin typeface="Arial"/>
              </a:rPr>
              <a:t>Verilog diferencia letras maiúsculas de minúscul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Hardware Description Language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(HDL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D625-C0D5-49DA-9C95-C11C8A4CBBF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381816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inição g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odule_name ( port_lis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variable declar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description of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700280"/>
            <a:ext cx="43434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bab600"/>
              </a:buClr>
              <a:buFont typeface="Wingdings" charset="2"/>
              <a:buChar char="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1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HalfAdder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A, B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3333cc"/>
                </a:solidFill>
                <a:latin typeface="Lucida Console"/>
              </a:rPr>
              <a:t>output logic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Sum, Carr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always_comb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Sum &lt;= A ^ 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//^ denotes 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Carry &lt;= A &amp; 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// &amp; denote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930920" y="1918800"/>
            <a:ext cx="1440" cy="3886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Hardware Description Language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(HDL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8ACF-5C92-47ED-AF0D-4B5A0427E9A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58560" y="1600200"/>
            <a:ext cx="7885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em du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550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initi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Executa uma única vez no início da simulação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ÃO sintetizá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550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always_comb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Executa repetidamente, sintetizá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63240" y="4094280"/>
            <a:ext cx="28170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83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Lucida Console"/>
              </a:rPr>
              <a:t>initial </a:t>
            </a:r>
            <a:r>
              <a:rPr b="0" lang="en-GB" sz="2200" spc="-1" strike="noStrike">
                <a:solidFill>
                  <a:srgbClr val="008000"/>
                </a:solidFill>
                <a:latin typeface="Lucida Console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Sum &lt;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Carry &lt;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Lucida Console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15760" y="4094280"/>
            <a:ext cx="34876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83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200" spc="-1" strike="noStrike">
                <a:solidFill>
                  <a:srgbClr val="008000"/>
                </a:solidFill>
                <a:latin typeface="Lucida Console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Sum &lt;= A ^ B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Carry &lt;= A &amp; B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Lucida Console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99160" y="4086360"/>
            <a:ext cx="1440" cy="243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Construções Procedur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C68B-9F80-4070-866F-DF2E0CD618F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956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rutur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representa circuitos lógicos usando primitivas da linguagem 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1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8000"/>
                </a:solidFill>
                <a:latin typeface="Lucida Console"/>
              </a:rPr>
              <a:t>not</a:t>
            </a:r>
            <a:r>
              <a:rPr b="1" lang="en-GB" sz="2200" spc="-1" strike="noStrike">
                <a:solidFill>
                  <a:srgbClr val="008000"/>
                </a:solidFill>
                <a:latin typeface="Lucida Consol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n1(sel_n, sel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8000"/>
                </a:solidFill>
                <a:latin typeface="Lucida Console"/>
              </a:rPr>
              <a:t>and</a:t>
            </a:r>
            <a:r>
              <a:rPr b="1" lang="en-GB" sz="2200" spc="-1" strike="noStrike">
                <a:solidFill>
                  <a:srgbClr val="008000"/>
                </a:solidFill>
                <a:latin typeface="Lucida Consol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a1(sel_b, b, sel_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8000"/>
                </a:solidFill>
                <a:latin typeface="Lucida Console"/>
              </a:rPr>
              <a:t>and</a:t>
            </a:r>
            <a:r>
              <a:rPr b="1" lang="en-GB" sz="2200" spc="-1" strike="noStrike">
                <a:solidFill>
                  <a:srgbClr val="008000"/>
                </a:solidFill>
                <a:latin typeface="Lucida Consol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a2(sel_a, a, sel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8000"/>
                </a:solidFill>
                <a:latin typeface="Lucida Console"/>
              </a:rPr>
              <a:t>or</a:t>
            </a:r>
            <a:r>
              <a:rPr b="1" lang="en-GB" sz="2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o1(out, sel_b, sel_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540520" y="4653000"/>
            <a:ext cx="5151600" cy="1882800"/>
            <a:chOff x="2540520" y="4653000"/>
            <a:chExt cx="5151600" cy="188280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3463560" y="5091120"/>
              <a:ext cx="8762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4682880" y="4986360"/>
              <a:ext cx="86328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4682880" y="6053400"/>
              <a:ext cx="86328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6197400" y="5529600"/>
              <a:ext cx="86328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311360" y="5319720"/>
              <a:ext cx="380520" cy="1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3560" y="5332680"/>
              <a:ext cx="1226880" cy="1050840"/>
            </a:xfrm>
            <a:custGeom>
              <a:avLst/>
              <a:gdLst/>
              <a:ahLst/>
              <a:rect l="l" t="t" r="r" b="b"/>
              <a:pathLst>
                <a:path w="768" h="672">
                  <a:moveTo>
                    <a:pt x="0" y="0"/>
                  </a:moveTo>
                  <a:lnTo>
                    <a:pt x="0" y="672"/>
                  </a:lnTo>
                  <a:lnTo>
                    <a:pt x="768" y="67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92040" y="5319720"/>
              <a:ext cx="380880" cy="1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20960" y="5234040"/>
              <a:ext cx="685440" cy="4572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0"/>
                  </a:moveTo>
                  <a:lnTo>
                    <a:pt x="240" y="0"/>
                  </a:lnTo>
                  <a:lnTo>
                    <a:pt x="240" y="288"/>
                  </a:lnTo>
                  <a:lnTo>
                    <a:pt x="432" y="28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520960" y="5854680"/>
              <a:ext cx="685440" cy="4464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0"/>
                  </a:moveTo>
                  <a:lnTo>
                    <a:pt x="240" y="0"/>
                  </a:lnTo>
                  <a:lnTo>
                    <a:pt x="240" y="288"/>
                  </a:lnTo>
                  <a:lnTo>
                    <a:pt x="432" y="28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11360" y="6224760"/>
              <a:ext cx="380520" cy="1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11360" y="5158080"/>
              <a:ext cx="380520" cy="1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0520" y="5072400"/>
              <a:ext cx="5785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09560" y="4653000"/>
              <a:ext cx="3682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4240" y="5758200"/>
              <a:ext cx="35136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28280" y="5538960"/>
              <a:ext cx="6638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1320" y="5338800"/>
              <a:ext cx="55728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sel_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50360" y="4957920"/>
              <a:ext cx="5526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sel_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25600" y="6253200"/>
              <a:ext cx="54792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sel_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61920" y="5177160"/>
              <a:ext cx="36828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9999"/>
                  </a:solidFill>
                  <a:latin typeface="Tahoma"/>
                </a:rPr>
                <a:t>n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2320" y="5081760"/>
              <a:ext cx="35892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9999"/>
                  </a:solidFill>
                  <a:latin typeface="Tahoma"/>
                </a:rPr>
                <a:t>a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80880" y="6177240"/>
              <a:ext cx="35892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9999"/>
                  </a:solidFill>
                  <a:latin typeface="Tahoma"/>
                </a:rPr>
                <a:t>a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44720" y="5643720"/>
              <a:ext cx="36216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9999"/>
                  </a:solidFill>
                  <a:latin typeface="Tahoma"/>
                </a:rPr>
                <a:t>o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Estilos de Descri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DB8C-228A-42F9-B04E-AF7DA8B61D2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10-06T00:30:14Z</dcterms:modified>
  <cp:revision>201</cp:revision>
  <dc:subject/>
  <dc:title>Organização e Arquitetura de Computadores I</dc:title>
</cp:coreProperties>
</file>