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5B77-6CF9-4C21-AA5A-AC354D276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B22B-48AC-4C52-8F5C-96F41FF67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D9EA-E2B3-44BB-B409-46B451BD3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08CA-B1C2-4CE4-8FDC-CDED0304D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39FD-571E-45BE-A19D-19542698B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9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5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6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1760-6308-4215-953D-31E58902E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26D7-8F8B-49C0-AB8D-75622031A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0157-2EC0-4499-B1E7-03459A41E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6400-AFA2-4999-B52B-6E8E3EC1F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65B6-DCF6-4EDD-9A51-E3C9E8943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95D5-59C2-421B-9899-52EF24FB9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3126-3817-4D88-934B-2CA31DB69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-363600" algn="just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-354240" algn="just">
              <a:spcBef>
                <a:spcPts val="751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4" marL="2646360" indent="-228600" algn="just">
              <a:spcBef>
                <a:spcPts val="751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5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6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89156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0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1D68-D90E-474B-9CE7-BEE603709F50}" type="slidenum">
              <a:rPr b="1" i="1" lang="pt-BR" sz="20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14080" y="682560"/>
            <a:ext cx="748800" cy="333360"/>
            <a:chOff x="514080" y="682560"/>
            <a:chExt cx="748800" cy="333360"/>
          </a:xfrm>
        </p:grpSpPr>
        <p:grpSp>
          <p:nvGrpSpPr>
            <p:cNvPr id="4" name=""/>
            <p:cNvGrpSpPr/>
            <p:nvPr/>
          </p:nvGrpSpPr>
          <p:grpSpPr>
            <a:xfrm>
              <a:off x="514080" y="682560"/>
              <a:ext cx="748800" cy="333360"/>
              <a:chOff x="514080" y="682560"/>
              <a:chExt cx="748800" cy="333360"/>
            </a:xfrm>
          </p:grpSpPr>
          <p:sp>
            <p:nvSpPr>
              <p:cNvPr id="5" name=""/>
              <p:cNvSpPr/>
              <p:nvPr/>
            </p:nvSpPr>
            <p:spPr>
              <a:xfrm>
                <a:off x="514080" y="682560"/>
                <a:ext cx="748800" cy="33336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15160" y="702720"/>
                <a:ext cx="744480" cy="3132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58560" y="77616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41280" y="7786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7909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07800" y="8038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90520" y="8161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73240" y="8290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55600" y="84204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38320" y="85500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19600" y="86796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06640" y="8816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91880" y="8920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77480" y="9025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063080" y="914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48680" y="9244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33920" y="9349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18080" y="9464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03680" y="95688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87840" y="96840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73080" y="9795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63000" y="99108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57240" y="9990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4860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39960" y="10029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132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3600" y="99576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7680" y="98928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1400" y="98280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25480" y="97632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99200" y="96984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73280" y="96336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47360" y="95616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21080" y="9504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5160" y="94392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70320" y="93744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45840" y="9309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21000" y="9252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6520" y="91872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70240" y="91332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7200" y="9068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2720" y="9003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6960" y="898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14080" y="8953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4080" y="689760"/>
                <a:ext cx="748800" cy="313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09240" y="76500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22480" y="766800"/>
                <a:ext cx="89640" cy="7920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16720" y="840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09520" y="83232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0880" y="833040"/>
                <a:ext cx="11520" cy="280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91880" y="83232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76040" y="82908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047240" y="80532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5960" y="78120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1640" y="774720"/>
                <a:ext cx="7200" cy="35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55880" y="768960"/>
                <a:ext cx="10080" cy="3456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45800" y="76320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33920" y="7585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19520" y="754560"/>
                <a:ext cx="17280" cy="331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06560" y="75204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5040" y="749520"/>
                <a:ext cx="14400" cy="313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89280" y="747360"/>
                <a:ext cx="7200" cy="313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6400" y="743760"/>
                <a:ext cx="4320" cy="320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84960" y="74052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99280" y="708480"/>
                <a:ext cx="81000" cy="30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4960" y="7074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3520" y="70596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3520" y="704160"/>
                <a:ext cx="360" cy="1512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3360" y="722160"/>
                <a:ext cx="95400" cy="241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6240" y="723600"/>
                <a:ext cx="92520" cy="2160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6240" y="73260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3360" y="732600"/>
                <a:ext cx="131760" cy="3636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51360" y="765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116720" y="84204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54360" y="9835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45720" y="9867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37080" y="9885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28440" y="98784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5840" y="759960"/>
                <a:ext cx="192600" cy="12528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9840" y="885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6960" y="882360"/>
                <a:ext cx="7200" cy="162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8960" y="695520"/>
                <a:ext cx="89640" cy="66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960" y="75780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1760" y="75996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3120" y="7610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47360" y="75996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1600" y="881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4480" y="8776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4400" y="88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400" y="8874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5120" y="976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7040" y="888120"/>
                <a:ext cx="402480" cy="1116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12400" y="839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8362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15360" y="7700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60120" y="768960"/>
                <a:ext cx="295560" cy="2275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7760" y="690480"/>
                <a:ext cx="333000" cy="8316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7920" y="721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6480" y="7228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3600" y="72360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8928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84960" y="726120"/>
                <a:ext cx="4320" cy="1368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7884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09240" y="76428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10680" y="76752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4880" y="6904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80560" y="69300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7336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4720" y="6962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860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4720" y="75456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6960" y="682560"/>
                <a:ext cx="740160" cy="30600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3520" y="699480"/>
                <a:ext cx="106920" cy="26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87840" y="721080"/>
                <a:ext cx="227160" cy="11232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29600" y="7210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22400" y="7210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15200" y="7210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10880" y="7228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89280" y="72468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87840" y="738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87840" y="7405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87840" y="742320"/>
                <a:ext cx="720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90720" y="7437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96480" y="7455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09440" y="74880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22400" y="75132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36800" y="755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50120" y="7599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8760" y="76680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65960" y="773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8840" y="7804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65960" y="78768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58760" y="79416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51560" y="8006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51560" y="8053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920" y="82584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96200" y="82908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5200" y="829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0960" y="82908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720" y="8265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21040" y="76428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07800" y="76248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09240" y="7610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06360" y="7585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2040" y="7567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35360" y="722160"/>
                <a:ext cx="167760" cy="363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2160" y="723600"/>
                <a:ext cx="217080" cy="105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0120" y="761760"/>
                <a:ext cx="10080" cy="26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19520" y="774000"/>
                <a:ext cx="33120" cy="201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87840" y="7754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71640" y="76500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3080" y="747360"/>
                <a:ext cx="86760" cy="320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41480" y="750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2320" y="747360"/>
                <a:ext cx="31680" cy="54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83160" y="747360"/>
                <a:ext cx="28800" cy="72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73080" y="75276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73080" y="763200"/>
                <a:ext cx="1872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89280" y="77220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2400" y="770760"/>
                <a:ext cx="30240" cy="8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48680" y="76176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78840" y="749520"/>
                <a:ext cx="75240" cy="2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78840" y="749520"/>
                <a:ext cx="75240" cy="273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89280" y="752760"/>
                <a:ext cx="55080" cy="20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02240" y="75780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03680" y="758520"/>
                <a:ext cx="259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05120" y="75924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08000" y="75996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13760" y="73008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6640" y="731880"/>
                <a:ext cx="27360" cy="9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18080" y="731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19520" y="731880"/>
                <a:ext cx="23040" cy="8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20960" y="73260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25280" y="73332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55600" y="75996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58840" y="761040"/>
                <a:ext cx="27360" cy="104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60280" y="76176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60280" y="76176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61720" y="76176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4600" y="76176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7480" y="76176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8920" y="76176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80360" y="8110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83240" y="81288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84680" y="81360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6120" y="813600"/>
                <a:ext cx="2448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89000" y="81432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93320" y="81504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86120" y="816840"/>
                <a:ext cx="2448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6120" y="8168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1120" y="75996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24000" y="7610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25440" y="76104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6880" y="76176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28320" y="7617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32640" y="76248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26880" y="764280"/>
                <a:ext cx="20160" cy="21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26880" y="76428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22480" y="83160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123920" y="832320"/>
              <a:ext cx="2592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25360" y="83232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26800" y="8330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9680" y="833040"/>
              <a:ext cx="17280" cy="7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2560" y="833760"/>
              <a:ext cx="14400" cy="54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6800" y="83556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26800" y="836280"/>
              <a:ext cx="21600" cy="14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2840" y="684360"/>
              <a:ext cx="27360" cy="9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5720" y="685080"/>
              <a:ext cx="2304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7160" y="6850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8600" y="685800"/>
              <a:ext cx="18720" cy="64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0040" y="6858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2920" y="68652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2680" y="748080"/>
              <a:ext cx="28800" cy="10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4120" y="748800"/>
              <a:ext cx="24480" cy="8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560" y="749880"/>
              <a:ext cx="21600" cy="7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7000" y="749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8440" y="749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" y="7506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560" y="75204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7000" y="7531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600" y="873360"/>
              <a:ext cx="30240" cy="1188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874440"/>
              <a:ext cx="25920" cy="10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480" y="87516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9920" y="875160"/>
              <a:ext cx="21600" cy="8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1360" y="875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680" y="8766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9920" y="878400"/>
              <a:ext cx="2160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" y="87840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25200" y="971640"/>
              <a:ext cx="31680" cy="13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8080" y="972360"/>
              <a:ext cx="2736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9520" y="973080"/>
              <a:ext cx="24480" cy="10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0960" y="973080"/>
              <a:ext cx="2160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2400" y="973800"/>
              <a:ext cx="20160" cy="8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7080" y="9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29520" y="977040"/>
              <a:ext cx="24480" cy="21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9520" y="977040"/>
              <a:ext cx="23040" cy="21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1080" y="780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080" y="77724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080" y="774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080" y="771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7682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080" y="765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080" y="7628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080" y="7596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4960" y="805680"/>
              <a:ext cx="33120" cy="72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4960" y="799920"/>
              <a:ext cx="33120" cy="10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480" y="762840"/>
              <a:ext cx="186840" cy="4608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480" y="759600"/>
              <a:ext cx="185040" cy="4680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000" y="794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9880" y="796680"/>
              <a:ext cx="1296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760" y="797400"/>
              <a:ext cx="7200" cy="2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760" y="806400"/>
              <a:ext cx="181080" cy="7020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4720" y="812160"/>
              <a:ext cx="154800" cy="5976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2320" y="829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0880" y="832320"/>
              <a:ext cx="2880" cy="1692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9440" y="83556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6560" y="83808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3680" y="84024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9360" y="84276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50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0720" y="84780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960" y="849240"/>
              <a:ext cx="540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920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3440" y="853200"/>
              <a:ext cx="5760" cy="1440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624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0120" y="85500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292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85644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8520" y="85752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1320" y="85644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560" y="856440"/>
              <a:ext cx="5760" cy="1368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836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116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5040" y="85320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928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3520" y="849960"/>
              <a:ext cx="540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760" y="84780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34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0560" y="843480"/>
              <a:ext cx="4320" cy="151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7680" y="84132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800" y="83880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3360" y="835560"/>
              <a:ext cx="144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1920" y="833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0480" y="830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801360"/>
              <a:ext cx="143280" cy="55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2840" y="805680"/>
              <a:ext cx="33120" cy="2340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8280" y="829080"/>
              <a:ext cx="34560" cy="24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2840" y="8038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9800" y="8290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2840" y="803880"/>
              <a:ext cx="11520" cy="24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9880" y="82908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4200" y="803880"/>
              <a:ext cx="10080" cy="248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9960" y="829080"/>
              <a:ext cx="1008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4120" y="803880"/>
              <a:ext cx="18720" cy="2484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2840" y="829080"/>
              <a:ext cx="1872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2600" y="804600"/>
              <a:ext cx="30240" cy="24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2840" y="829080"/>
              <a:ext cx="28800" cy="241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2160" y="80640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2840" y="82908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640" y="80964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2840" y="829080"/>
              <a:ext cx="50400" cy="201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000" y="81360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840" y="82908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6240" y="820080"/>
              <a:ext cx="66600" cy="8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2840" y="829080"/>
              <a:ext cx="65160" cy="97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6240" y="827280"/>
              <a:ext cx="66600" cy="79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2840" y="822600"/>
              <a:ext cx="65160" cy="79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9120" y="829080"/>
              <a:ext cx="63720" cy="136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2840" y="816120"/>
              <a:ext cx="637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6320" y="829080"/>
              <a:ext cx="56160" cy="18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2840" y="810360"/>
              <a:ext cx="54720" cy="18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400" y="829080"/>
              <a:ext cx="46080" cy="2160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2840" y="807120"/>
              <a:ext cx="44640" cy="2160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0640" y="807120"/>
              <a:ext cx="102600" cy="3960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400" y="809640"/>
              <a:ext cx="91080" cy="3456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1160" y="814320"/>
              <a:ext cx="62280" cy="2484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5480" y="816120"/>
              <a:ext cx="5328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9800" y="820080"/>
              <a:ext cx="44640" cy="176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10800" y="723960"/>
              <a:ext cx="57600" cy="136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94960" y="815400"/>
            <a:ext cx="816840" cy="646200"/>
            <a:chOff x="894960" y="815400"/>
            <a:chExt cx="816840" cy="646200"/>
          </a:xfrm>
        </p:grpSpPr>
        <p:sp>
          <p:nvSpPr>
            <p:cNvPr id="328" name=""/>
            <p:cNvSpPr/>
            <p:nvPr/>
          </p:nvSpPr>
          <p:spPr>
            <a:xfrm>
              <a:off x="900000" y="829800"/>
              <a:ext cx="394920" cy="31644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94960" y="829800"/>
              <a:ext cx="394920" cy="3178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1440" y="834120"/>
              <a:ext cx="383760" cy="31212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29880" y="862560"/>
              <a:ext cx="225720" cy="17244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61560" y="864000"/>
              <a:ext cx="192600" cy="152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58320" y="859680"/>
              <a:ext cx="194040" cy="15516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9360" y="949680"/>
              <a:ext cx="255960" cy="18108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02600" y="95256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15200" y="970920"/>
              <a:ext cx="21492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27800" y="99108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0400" y="1009440"/>
              <a:ext cx="208440" cy="11808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8840" y="92376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83520" y="921240"/>
              <a:ext cx="28080" cy="925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91440" y="916920"/>
              <a:ext cx="28440" cy="9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7280" y="90828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9360" y="912600"/>
              <a:ext cx="28080" cy="102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23120" y="8996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32480" y="89532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37160" y="8924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59760" y="859680"/>
              <a:ext cx="143640" cy="78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94960" y="829800"/>
              <a:ext cx="461160" cy="41472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0000" y="834120"/>
              <a:ext cx="453240" cy="40608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5480" y="856800"/>
              <a:ext cx="432720" cy="37764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884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7416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8840" y="824040"/>
              <a:ext cx="367920" cy="27072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0520" y="841320"/>
              <a:ext cx="227520" cy="14112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8320" y="842760"/>
              <a:ext cx="187920" cy="12816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5080" y="837000"/>
              <a:ext cx="187920" cy="1324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51560" y="946800"/>
              <a:ext cx="260640" cy="13968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6240" y="94968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2720" y="9709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70640" y="9925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76760" y="1012320"/>
              <a:ext cx="228960" cy="7236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2720" y="875520"/>
              <a:ext cx="15480" cy="824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7400" y="872640"/>
              <a:ext cx="17280" cy="939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3520" y="871200"/>
              <a:ext cx="18720" cy="99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91160" y="865440"/>
              <a:ext cx="18720" cy="104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1440" y="868320"/>
              <a:ext cx="20520" cy="10116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9880" y="86112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17800" y="858240"/>
              <a:ext cx="20520" cy="102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25720" y="85680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880" y="838440"/>
              <a:ext cx="159480" cy="4392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69480" y="828360"/>
              <a:ext cx="421560" cy="37620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4160" y="832680"/>
              <a:ext cx="415440" cy="3675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4960" y="855360"/>
              <a:ext cx="399600" cy="34056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72080" y="834120"/>
              <a:ext cx="339480" cy="21780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68840" y="834120"/>
              <a:ext cx="336240" cy="21960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73520" y="837000"/>
              <a:ext cx="328320" cy="21528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3760" y="841320"/>
              <a:ext cx="217800" cy="104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8040" y="844200"/>
              <a:ext cx="170280" cy="9828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4800" y="838440"/>
              <a:ext cx="172080" cy="102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14560" y="960840"/>
              <a:ext cx="250920" cy="8964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19600" y="9637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21040" y="9853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2480" y="100800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4280" y="1029600"/>
              <a:ext cx="235080" cy="212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8040" y="847080"/>
              <a:ext cx="29880" cy="78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9480" y="847080"/>
              <a:ext cx="34560" cy="896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845640"/>
              <a:ext cx="42480" cy="954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65320" y="84564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7400" y="84564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440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9376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1680" y="84420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4800" y="838440"/>
              <a:ext cx="167400" cy="828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0920" y="849600"/>
              <a:ext cx="360000" cy="3193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4160" y="852480"/>
              <a:ext cx="355320" cy="31068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0640" y="876960"/>
              <a:ext cx="344160" cy="28224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5440" y="822600"/>
              <a:ext cx="361800" cy="254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2200" y="818280"/>
              <a:ext cx="360000" cy="25776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36880" y="822600"/>
              <a:ext cx="350640" cy="25344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92320" y="831240"/>
              <a:ext cx="224280" cy="12528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4800" y="83556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33360" y="83268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70000" y="949680"/>
              <a:ext cx="258840" cy="11952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87280" y="95256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82600" y="97380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79360" y="995400"/>
              <a:ext cx="235080" cy="5976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76480" y="1016640"/>
              <a:ext cx="233640" cy="525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4800" y="838440"/>
              <a:ext cx="48960" cy="723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33360" y="839880"/>
              <a:ext cx="55080" cy="8244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3360" y="841320"/>
              <a:ext cx="63000" cy="867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5960" y="845640"/>
              <a:ext cx="69480" cy="8532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6240" y="84276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65040" y="84852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74400" y="8496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80520" y="8514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0640" y="832680"/>
              <a:ext cx="164160" cy="313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03760" y="832680"/>
              <a:ext cx="399600" cy="3564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07000" y="837000"/>
              <a:ext cx="391680" cy="34776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09880" y="859680"/>
              <a:ext cx="380520" cy="32076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95200" y="822600"/>
              <a:ext cx="383760" cy="30348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92320" y="815400"/>
              <a:ext cx="383760" cy="307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5200" y="819720"/>
              <a:ext cx="374400" cy="30204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77640" y="835560"/>
              <a:ext cx="228960" cy="15804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16880" y="845640"/>
              <a:ext cx="191160" cy="14652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6880" y="842760"/>
              <a:ext cx="191160" cy="1479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26880" y="943920"/>
              <a:ext cx="258840" cy="16524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58560" y="9468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49200" y="9666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98676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560" y="1006560"/>
              <a:ext cx="219600" cy="997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20120" y="853920"/>
              <a:ext cx="66240" cy="626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856800"/>
              <a:ext cx="75600" cy="698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859680"/>
              <a:ext cx="83520" cy="7236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26600" y="8668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8680" y="8625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43880" y="8740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51800" y="8769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57920" y="87984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6480" y="844200"/>
              <a:ext cx="151560" cy="640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36880" y="824040"/>
              <a:ext cx="448560" cy="40176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1560" y="828360"/>
              <a:ext cx="439200" cy="39348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4800" y="851400"/>
              <a:ext cx="421560" cy="36612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58560" y="841320"/>
              <a:ext cx="382320" cy="3391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5320" y="835560"/>
              <a:ext cx="385560" cy="34200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8560" y="839880"/>
              <a:ext cx="375840" cy="33480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61160" y="861120"/>
              <a:ext cx="222480" cy="1836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96080" y="879840"/>
              <a:ext cx="189360" cy="1638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6080" y="876960"/>
              <a:ext cx="191160" cy="1638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85560" y="955440"/>
              <a:ext cx="244800" cy="19944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9480" y="9568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5440" y="973800"/>
              <a:ext cx="195840" cy="14940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9600" y="9910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0240" y="1008000"/>
              <a:ext cx="191160" cy="142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0760" y="891000"/>
              <a:ext cx="80280" cy="482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96080" y="893880"/>
              <a:ext cx="90000" cy="5400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94280" y="898200"/>
              <a:ext cx="97920" cy="568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02200" y="909720"/>
              <a:ext cx="10584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6080" y="90396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16600" y="921240"/>
              <a:ext cx="10548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24520" y="926640"/>
              <a:ext cx="105840" cy="554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30640" y="92952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56200" y="876960"/>
              <a:ext cx="131040" cy="954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6480" y="839880"/>
              <a:ext cx="472320" cy="42624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1160" y="845640"/>
              <a:ext cx="462960" cy="41760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7280" y="865440"/>
              <a:ext cx="437400" cy="3906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64160" y="1135080"/>
              <a:ext cx="379080" cy="15516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2080" y="1139400"/>
              <a:ext cx="363240" cy="14688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4400" y="1112040"/>
              <a:ext cx="138960" cy="125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6416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8840" y="1135080"/>
              <a:ext cx="189360" cy="396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4532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4400" y="1104840"/>
              <a:ext cx="138960" cy="1267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4400" y="1106640"/>
              <a:ext cx="137160" cy="123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7280" y="1107720"/>
              <a:ext cx="132480" cy="1209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9080" y="1110600"/>
              <a:ext cx="129240" cy="1152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95200" y="1114920"/>
              <a:ext cx="116640" cy="106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8440" y="1119240"/>
              <a:ext cx="110520" cy="51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31560" y="1149120"/>
              <a:ext cx="42480" cy="38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33360" y="1150560"/>
              <a:ext cx="39240" cy="35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6240" y="1152000"/>
              <a:ext cx="34560" cy="327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41280" y="1157760"/>
              <a:ext cx="2520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2440" y="1100880"/>
              <a:ext cx="86760" cy="28944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7520" y="1100880"/>
              <a:ext cx="314280" cy="32652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39440" y="1410120"/>
              <a:ext cx="72360" cy="51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2440" y="1136520"/>
              <a:ext cx="315720" cy="32508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42440" y="139032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9440" y="1444320"/>
              <a:ext cx="1872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50000" y="1154880"/>
              <a:ext cx="299880" cy="3006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61160" y="1408680"/>
              <a:ext cx="277920" cy="5256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2440" y="1136520"/>
              <a:ext cx="78840" cy="612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79320" y="1189080"/>
              <a:ext cx="78840" cy="342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1280" y="1190520"/>
              <a:ext cx="157680" cy="327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55280" y="1154880"/>
              <a:ext cx="56520" cy="28944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040" y="1011600"/>
            <a:ext cx="1359000" cy="401040"/>
            <a:chOff x="5040" y="1011600"/>
            <a:chExt cx="1359000" cy="401040"/>
          </a:xfrm>
        </p:grpSpPr>
        <p:sp>
          <p:nvSpPr>
            <p:cNvPr id="495" name=""/>
            <p:cNvSpPr/>
            <p:nvPr/>
          </p:nvSpPr>
          <p:spPr>
            <a:xfrm>
              <a:off x="496800" y="114588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1080" y="129996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9840" y="122220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30120" y="114408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9840" y="114408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20024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91080" y="115488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85400" y="119664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93320" y="120024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1080" y="114948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840" y="121644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6800" y="120384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840" y="122940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2360" y="122220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880" y="121824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560" y="122220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120" y="124200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9840" y="123660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840" y="121644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880" y="124560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77760" y="129996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77760" y="114768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30120" y="114408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0120" y="114588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0120" y="114588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32640" y="114408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2640" y="114408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40560" y="115488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38040" y="115668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35520" y="115848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2640" y="116028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75040" y="119124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85480" y="119304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240" y="101700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51480" y="123300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280" y="117468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3360" y="101160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4400" y="101700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760" y="101520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3560" y="106956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46160" y="110952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51200" y="111312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43560" y="106596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1880" y="101340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920" y="101160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360" y="117108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7280" y="119124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80" y="118404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800" y="117684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200" y="11710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2760" y="11656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7280" y="119844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1880" y="116028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5200" y="120744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0600" y="123840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0600" y="106416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46360" y="101700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4280" y="101880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9800" y="10296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7280" y="10278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9800" y="102960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7720" y="104040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35640" y="10422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46080" y="10440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56880" y="10458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67320" y="10476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14560" y="107316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5000" y="107496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35440" y="107676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5880" y="108036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1960" y="106236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7000" y="106236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9160" y="106236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1680" y="106416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5920" y="108756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75160" y="109512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760" y="110052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48960" y="110592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11132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11960" y="111672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4640" y="106776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8400" y="108396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5400" y="109332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2560" y="11131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9600" y="11203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3760" y="112752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0440" y="113472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40" y="109332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3080" y="133992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480" y="129636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720" y="108216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3480" y="108936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440" y="108756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3080" y="113112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2800" y="117288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8200" y="117864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0200" y="112572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0600" y="108396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7640" y="108216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0" y="129636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3480" y="1318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3480" y="1309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6000" y="1301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3920" y="1292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4360" y="128556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0600" y="132912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600" y="128016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8520" y="133812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7240" y="135288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7240" y="112392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720" y="108936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7640" y="108936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6040" y="11005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3520" y="10987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6040" y="109872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440" y="110772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1880" y="11095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2320" y="11113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5640" y="111312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080" y="111312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840" y="113688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6280" y="114048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7080" y="114408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520" y="114768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3640" y="114948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9040" y="115128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7040" y="115128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9560" y="115308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6320" y="117108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5560" y="117468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5160" y="118044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1880" y="118584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080" y="118944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7760" y="119304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5400" y="115668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8800" y="117108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0400" y="119124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5400" y="121104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9560" y="12204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3720" y="122940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7880" y="12402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89840" y="960120"/>
            <a:ext cx="689040" cy="664560"/>
            <a:chOff x="789840" y="960120"/>
            <a:chExt cx="689040" cy="664560"/>
          </a:xfrm>
        </p:grpSpPr>
        <p:sp>
          <p:nvSpPr>
            <p:cNvPr id="639" name=""/>
            <p:cNvSpPr/>
            <p:nvPr/>
          </p:nvSpPr>
          <p:spPr>
            <a:xfrm>
              <a:off x="1037880" y="1446120"/>
              <a:ext cx="441000" cy="17856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1840" y="1446120"/>
              <a:ext cx="427680" cy="17856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7240" y="1446120"/>
              <a:ext cx="410400" cy="17856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52280" y="1446120"/>
              <a:ext cx="394560" cy="17856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7680" y="1446120"/>
              <a:ext cx="375840" cy="17856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4520" y="1446120"/>
              <a:ext cx="354240" cy="17856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71000" y="1446120"/>
              <a:ext cx="331560" cy="17856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78920" y="1446120"/>
              <a:ext cx="306360" cy="1785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87200" y="1446120"/>
              <a:ext cx="279720" cy="17856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97640" y="1446120"/>
              <a:ext cx="246600" cy="17856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08440" y="1446120"/>
              <a:ext cx="210240" cy="17856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23200" y="1446120"/>
              <a:ext cx="163800" cy="17856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0480" y="1446120"/>
              <a:ext cx="107640" cy="178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63160" y="1446120"/>
              <a:ext cx="31680" cy="1724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37880" y="1294560"/>
              <a:ext cx="441000" cy="30096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48320" y="1303920"/>
              <a:ext cx="419760" cy="2844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55160" y="1308240"/>
              <a:ext cx="406440" cy="275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60560" y="1311480"/>
              <a:ext cx="395640" cy="26784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4520" y="1314360"/>
              <a:ext cx="387720" cy="26172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85840" y="1102320"/>
              <a:ext cx="145080" cy="8460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64520" y="1441440"/>
              <a:ext cx="387720" cy="13320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144144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4520" y="14310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7040" y="14310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4520" y="14202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7040" y="14202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4520" y="141120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7040" y="1411200"/>
              <a:ext cx="382320" cy="12564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4520" y="140076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67040" y="1400760"/>
              <a:ext cx="382320" cy="12384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4520" y="139140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7040" y="139140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64520" y="138096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67040" y="138096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64520" y="13719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67040" y="13719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4520" y="13611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7040" y="1361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4520" y="1352160"/>
              <a:ext cx="387720" cy="12564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67040" y="1352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64520" y="13431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7040" y="13431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64520" y="13323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7040" y="13323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64520" y="1323360"/>
              <a:ext cx="387720" cy="12240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67040" y="1323360"/>
              <a:ext cx="382320" cy="11772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64520" y="13143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7040" y="1314360"/>
              <a:ext cx="382320" cy="1162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4520" y="13053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7040" y="13053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4520" y="12945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7040" y="1294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4520" y="12855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7040" y="1285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4520" y="1276560"/>
              <a:ext cx="387720" cy="11808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67040" y="1276560"/>
              <a:ext cx="382320" cy="1134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64520" y="126756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7040" y="126756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64520" y="125820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7040" y="125820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4520" y="124920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7040" y="1249200"/>
              <a:ext cx="382320" cy="11052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4520" y="123876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7040" y="1238760"/>
              <a:ext cx="382320" cy="11016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4520" y="123120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7040" y="1231200"/>
              <a:ext cx="382320" cy="10872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64520" y="122184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67040" y="1221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64520" y="1212840"/>
              <a:ext cx="387720" cy="11196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7040" y="1212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4520" y="1203840"/>
              <a:ext cx="387720" cy="11052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67040" y="1203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64520" y="1194840"/>
              <a:ext cx="387720" cy="11016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7040" y="1194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64520" y="118584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67040" y="118584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64520" y="1176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7040" y="1176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64520" y="1167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67040" y="1167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64520" y="1158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7040" y="1158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64520" y="1149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7040" y="1149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64520" y="104652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64520" y="104184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192320" y="1108440"/>
              <a:ext cx="131760" cy="680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67040" y="1043280"/>
              <a:ext cx="382320" cy="19800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13560" y="1176480"/>
              <a:ext cx="30600" cy="633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72240" y="1044720"/>
              <a:ext cx="30600" cy="619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4920" y="1172160"/>
              <a:ext cx="69120" cy="54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52360" y="1056960"/>
              <a:ext cx="69120" cy="558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96360" y="117036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39040" y="105984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01760" y="1168920"/>
              <a:ext cx="89280" cy="511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25720" y="1064520"/>
              <a:ext cx="89280" cy="514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07160" y="1164600"/>
              <a:ext cx="98640" cy="4968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10960" y="1070640"/>
              <a:ext cx="98640" cy="48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2200" y="1161360"/>
              <a:ext cx="10764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6560" y="1079640"/>
              <a:ext cx="10800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16520" y="1157040"/>
              <a:ext cx="117000" cy="3780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83240" y="1088640"/>
              <a:ext cx="115920" cy="392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1560" y="1150920"/>
              <a:ext cx="121320" cy="316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73880" y="1102320"/>
              <a:ext cx="120960" cy="3024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25520" y="1144800"/>
              <a:ext cx="122400" cy="2268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68480" y="1117440"/>
              <a:ext cx="122400" cy="2088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26960" y="1132560"/>
              <a:ext cx="122400" cy="1800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67040" y="1134000"/>
              <a:ext cx="122400" cy="1656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6960" y="1125000"/>
              <a:ext cx="120960" cy="133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68480" y="1144800"/>
              <a:ext cx="120960" cy="151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96360" y="1059840"/>
              <a:ext cx="77040" cy="5292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3000" y="1170360"/>
              <a:ext cx="77040" cy="5436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92400" y="105552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2360" y="117216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88440" y="1052280"/>
              <a:ext cx="62640" cy="5868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65680" y="1173600"/>
              <a:ext cx="62640" cy="590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84480" y="1049400"/>
              <a:ext cx="55800" cy="604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76480" y="1175040"/>
              <a:ext cx="55800" cy="590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80520" y="104796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86920" y="117504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7640" y="1046520"/>
              <a:ext cx="42480" cy="61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96280" y="1176480"/>
              <a:ext cx="42480" cy="604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5120" y="104652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05640" y="117648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6400" y="1047960"/>
              <a:ext cx="363600" cy="1890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93760" y="1108440"/>
              <a:ext cx="130320" cy="680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21840" y="1123560"/>
              <a:ext cx="73080" cy="378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1248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79080" y="105084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1500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77640" y="105084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17880" y="1187280"/>
              <a:ext cx="22320" cy="468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76200" y="1049400"/>
              <a:ext cx="22320" cy="48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20400" y="118728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75120" y="104940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04280" y="1181160"/>
              <a:ext cx="4932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160" y="1061640"/>
              <a:ext cx="49320" cy="40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0572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5776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07160" y="117972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53800" y="106308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09680" y="117972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48400" y="106596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12200" y="117828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43000" y="106740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15080" y="117648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37600" y="106920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17600" y="1175040"/>
              <a:ext cx="66600" cy="378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32560" y="1072080"/>
              <a:ext cx="66600" cy="360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19040" y="1175040"/>
              <a:ext cx="70560" cy="360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27160" y="1073520"/>
              <a:ext cx="69120" cy="360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23000" y="1173600"/>
              <a:ext cx="71640" cy="345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21760" y="1076760"/>
              <a:ext cx="73080" cy="345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25520" y="1170360"/>
              <a:ext cx="74520" cy="345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16360" y="1079640"/>
              <a:ext cx="75960" cy="331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26960" y="1168920"/>
              <a:ext cx="78480" cy="31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10960" y="1084320"/>
              <a:ext cx="77040" cy="31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29840" y="116748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05920" y="108720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32360" y="116460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00520" y="109044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34880" y="11628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6560" y="10962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37760" y="1159920"/>
              <a:ext cx="87840" cy="24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91160" y="1100880"/>
              <a:ext cx="87840" cy="2268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40280" y="115848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87200" y="110556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41720" y="115524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84320" y="111132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43160" y="1152360"/>
              <a:ext cx="93240" cy="147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81800" y="1116000"/>
              <a:ext cx="9180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44240" y="1149480"/>
              <a:ext cx="93240" cy="1188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78920" y="1122120"/>
              <a:ext cx="91800" cy="133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45680" y="114624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7784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47120" y="114192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76400" y="113580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47120" y="113580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76400" y="114192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4568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77840" y="11448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45680" y="11250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78920" y="1147680"/>
              <a:ext cx="91800" cy="1188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09680" y="106596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49840" y="117972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7160" y="1064520"/>
              <a:ext cx="57240" cy="40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52360" y="1179720"/>
              <a:ext cx="55800" cy="4068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0572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5776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2840" y="1061640"/>
              <a:ext cx="51840" cy="40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61720" y="1181160"/>
              <a:ext cx="51840" cy="4212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00320" y="1059840"/>
              <a:ext cx="4896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67120" y="1182600"/>
              <a:ext cx="47880" cy="421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880" y="1058400"/>
              <a:ext cx="46440" cy="439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71080" y="1182600"/>
              <a:ext cx="46440" cy="435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96360" y="1056960"/>
              <a:ext cx="45000" cy="43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5040" y="1182600"/>
              <a:ext cx="45000" cy="45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94920" y="1056960"/>
              <a:ext cx="42480" cy="435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79000" y="1184040"/>
              <a:ext cx="4248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92400" y="1055520"/>
              <a:ext cx="4104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82960" y="1184040"/>
              <a:ext cx="399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90960" y="105408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86920" y="118404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9880" y="105408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90880" y="118584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88440" y="1054080"/>
              <a:ext cx="33120" cy="453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95200" y="1185840"/>
              <a:ext cx="34560" cy="45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85560" y="1052280"/>
              <a:ext cx="31680" cy="4680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97720" y="1185840"/>
              <a:ext cx="33120" cy="46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84480" y="1052280"/>
              <a:ext cx="30600" cy="45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1680" y="1185840"/>
              <a:ext cx="30600" cy="46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8304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5640" y="1187280"/>
              <a:ext cx="27720" cy="453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8052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08520" y="118728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2360" y="1158480"/>
              <a:ext cx="340920" cy="438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9840" y="1159920"/>
              <a:ext cx="339840" cy="44028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01800" y="1303920"/>
              <a:ext cx="115920" cy="1512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1280" y="1162800"/>
              <a:ext cx="335880" cy="4345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09800" y="1417320"/>
              <a:ext cx="93240" cy="79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5040" y="1262880"/>
              <a:ext cx="94320" cy="784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12320" y="141264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9640" y="127656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13760" y="1411200"/>
              <a:ext cx="97200" cy="57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08560" y="1290240"/>
              <a:ext cx="97200" cy="590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17720" y="130392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9200" y="140688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16280" y="1287000"/>
              <a:ext cx="102600" cy="648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0640" y="1408320"/>
              <a:ext cx="102600" cy="63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13760" y="1273320"/>
              <a:ext cx="101160" cy="72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04600" y="1412640"/>
              <a:ext cx="101160" cy="74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11240" y="1258200"/>
              <a:ext cx="98640" cy="831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9640" y="1418760"/>
              <a:ext cx="98640" cy="817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08360" y="1244880"/>
              <a:ext cx="94320" cy="90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16480" y="1423440"/>
              <a:ext cx="94320" cy="92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05840" y="123120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400" y="142956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01880" y="1217520"/>
              <a:ext cx="83880" cy="1072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2320" y="1433880"/>
              <a:ext cx="84960" cy="1072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97560" y="120528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3120" y="143856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93600" y="1194840"/>
              <a:ext cx="71640" cy="12240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3920" y="1443240"/>
              <a:ext cx="71640" cy="12096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9640" y="118584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5800" y="144612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84600" y="117828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77680" y="145080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79200" y="1170360"/>
              <a:ext cx="47880" cy="1360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92440" y="1453680"/>
              <a:ext cx="47880" cy="13464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73800" y="116604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05760" y="145512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68400" y="116280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20520" y="145656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64440" y="1162800"/>
              <a:ext cx="18360" cy="1375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36360" y="1458000"/>
              <a:ext cx="18360" cy="1393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8520" y="121608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97560" y="143532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9160" y="1223640"/>
              <a:ext cx="79920" cy="10440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00440" y="1432440"/>
              <a:ext cx="79920" cy="1026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29800" y="12355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02960" y="14263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1880" y="1249200"/>
              <a:ext cx="90360" cy="874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07280" y="1422000"/>
              <a:ext cx="88920" cy="892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0640" y="1173600"/>
              <a:ext cx="318240" cy="41184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1800" y="1305360"/>
              <a:ext cx="114480" cy="1483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27000" y="1338480"/>
              <a:ext cx="63720" cy="8172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4560" y="1431000"/>
              <a:ext cx="69120" cy="57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25840" y="1270440"/>
              <a:ext cx="69120" cy="5868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25640" y="142776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2960" y="127512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27080" y="142488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20440" y="128124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27080" y="1423440"/>
              <a:ext cx="73080" cy="4968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000" y="1285560"/>
              <a:ext cx="73080" cy="51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28520" y="1420200"/>
              <a:ext cx="74520" cy="48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6480" y="1291680"/>
              <a:ext cx="74520" cy="468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29600" y="1418760"/>
              <a:ext cx="73080" cy="439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040" y="1296000"/>
              <a:ext cx="74520" cy="439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33920" y="1309680"/>
              <a:ext cx="78480" cy="360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7120" y="1414440"/>
              <a:ext cx="78480" cy="3456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33920" y="1303920"/>
              <a:ext cx="78480" cy="421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" y="1414440"/>
              <a:ext cx="78480" cy="406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32480" y="1297800"/>
              <a:ext cx="77040" cy="4536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8560" y="1415880"/>
              <a:ext cx="78480" cy="4536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2480" y="1293120"/>
              <a:ext cx="75960" cy="468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11080" y="1418760"/>
              <a:ext cx="75960" cy="48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31040" y="1287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2520" y="1422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29600" y="1281240"/>
              <a:ext cx="74520" cy="5292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3960" y="1424880"/>
              <a:ext cx="75960" cy="529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28520" y="1276560"/>
              <a:ext cx="7452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6480" y="1427760"/>
              <a:ext cx="74520" cy="5580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27080" y="1270440"/>
              <a:ext cx="73080" cy="586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9000" y="1431000"/>
              <a:ext cx="73080" cy="57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25640" y="1265760"/>
              <a:ext cx="716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20440" y="1432440"/>
              <a:ext cx="73080" cy="6192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24560" y="1260000"/>
              <a:ext cx="70560" cy="63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22960" y="1435320"/>
              <a:ext cx="71640" cy="63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23120" y="1255320"/>
              <a:ext cx="6912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840" y="1438560"/>
              <a:ext cx="70560" cy="666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21680" y="1249200"/>
              <a:ext cx="67680" cy="694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9800" y="1441440"/>
              <a:ext cx="67680" cy="680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20240" y="1244880"/>
              <a:ext cx="66600" cy="7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32320" y="1443240"/>
              <a:ext cx="66600" cy="72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19160" y="123876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35200" y="144612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16280" y="1234080"/>
              <a:ext cx="63720" cy="770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9160" y="1447560"/>
              <a:ext cx="62280" cy="770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15200" y="1229400"/>
              <a:ext cx="61200" cy="7848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1680" y="1450800"/>
              <a:ext cx="62280" cy="7848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13760" y="12250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5640" y="14536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11240" y="1220400"/>
              <a:ext cx="58320" cy="831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49960" y="1455120"/>
              <a:ext cx="57240" cy="831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09800" y="1216080"/>
              <a:ext cx="55800" cy="860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3920" y="1458000"/>
              <a:ext cx="55800" cy="8460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07280" y="12114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57880" y="14598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05840" y="1208520"/>
              <a:ext cx="51840" cy="8928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61840" y="1461240"/>
              <a:ext cx="51840" cy="9072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02960" y="1203840"/>
              <a:ext cx="49320" cy="921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5800" y="1464120"/>
              <a:ext cx="50400" cy="9072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00440" y="1200600"/>
              <a:ext cx="47880" cy="92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71200" y="1465920"/>
              <a:ext cx="47880" cy="936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97560" y="119628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75160" y="146736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96480" y="11934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80560" y="14688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93600" y="119016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85960" y="147024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91080" y="1187280"/>
              <a:ext cx="37080" cy="9972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89920" y="1471680"/>
              <a:ext cx="38520" cy="9972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88560" y="1185840"/>
              <a:ext cx="34560" cy="997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94960" y="1473480"/>
              <a:ext cx="36000" cy="1011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85680" y="118260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1800" y="147492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83160" y="1181160"/>
              <a:ext cx="29160" cy="1029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05760" y="1476360"/>
              <a:ext cx="30600" cy="10260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80280" y="1179720"/>
              <a:ext cx="26640" cy="10260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12600" y="1476360"/>
              <a:ext cx="26640" cy="1044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77760" y="117648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7640" y="147780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75240" y="1176480"/>
              <a:ext cx="21240" cy="104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23040" y="1477800"/>
              <a:ext cx="21240" cy="10584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72360" y="11750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28440" y="14792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69840" y="1173600"/>
              <a:ext cx="14400" cy="10584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33840" y="1479240"/>
              <a:ext cx="15840" cy="1058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66960" y="117360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40320" y="147924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64440" y="1173600"/>
              <a:ext cx="9000" cy="10584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45720" y="1481040"/>
              <a:ext cx="7920" cy="10440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7880" y="1225080"/>
              <a:ext cx="53280" cy="79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08360" y="1453680"/>
              <a:ext cx="53280" cy="817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53920" y="1227960"/>
              <a:ext cx="55800" cy="7848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09800" y="1452240"/>
              <a:ext cx="55800" cy="7992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9960" y="1232640"/>
              <a:ext cx="57240" cy="770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11240" y="1449000"/>
              <a:ext cx="58320" cy="7848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640" y="1236960"/>
              <a:ext cx="59760" cy="741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3760" y="1447560"/>
              <a:ext cx="59760" cy="756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43120" y="1241640"/>
              <a:ext cx="61200" cy="72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15200" y="1444680"/>
              <a:ext cx="61200" cy="741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39160" y="1246320"/>
              <a:ext cx="63720" cy="709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16280" y="1443240"/>
              <a:ext cx="62280" cy="709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6640" y="125064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17720" y="144000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3760" y="1255320"/>
              <a:ext cx="65160" cy="666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20240" y="1438560"/>
              <a:ext cx="65160" cy="648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1240" y="126000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21680" y="143532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8360" y="1265760"/>
              <a:ext cx="67680" cy="604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3120" y="1432440"/>
              <a:ext cx="67680" cy="6192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26880" y="113256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6880" y="972000"/>
              <a:ext cx="62640" cy="18756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32280" y="972000"/>
              <a:ext cx="54360" cy="184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7680" y="972000"/>
              <a:ext cx="47880" cy="184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43080" y="972000"/>
              <a:ext cx="39960" cy="18468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49560" y="972000"/>
              <a:ext cx="29160" cy="18468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57840" y="972000"/>
              <a:ext cx="18360" cy="18468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67200" y="972000"/>
              <a:ext cx="5040" cy="182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9120" y="970560"/>
              <a:ext cx="2520" cy="1828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51000" y="970560"/>
              <a:ext cx="1080" cy="1861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80520" y="970560"/>
              <a:ext cx="1080" cy="181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26880" y="96012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9760" y="960120"/>
              <a:ext cx="57240" cy="2232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3720" y="961560"/>
              <a:ext cx="50400" cy="194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37680" y="963000"/>
              <a:ext cx="41040" cy="165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47040" y="967680"/>
              <a:ext cx="22320" cy="72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160" y="663480"/>
            <a:ext cx="713880" cy="734040"/>
            <a:chOff x="2160" y="663480"/>
            <a:chExt cx="713880" cy="734040"/>
          </a:xfrm>
        </p:grpSpPr>
        <p:sp>
          <p:nvSpPr>
            <p:cNvPr id="1028" name=""/>
            <p:cNvSpPr/>
            <p:nvPr/>
          </p:nvSpPr>
          <p:spPr>
            <a:xfrm>
              <a:off x="2160" y="68076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" y="67572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60" y="66348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60" y="663480"/>
              <a:ext cx="713880" cy="71424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920" y="685440"/>
              <a:ext cx="636480" cy="63864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400" y="700200"/>
              <a:ext cx="603720" cy="6040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9880" y="7786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040" y="7858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6920" y="7909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1160" y="7981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5400" y="80316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9280" y="81036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2440" y="815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6320" y="82260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0560" y="8276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3720" y="8348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600" y="842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0760" y="847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4640" y="8542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7800" y="86184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1680" y="86652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4840" y="874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7640" y="88128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1880" y="8884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4680" y="8935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840" y="9007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0640" y="9082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00" y="9154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7680" y="92304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840" y="92772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3640" y="9352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800" y="9424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9600" y="9500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2760" y="9572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74480" y="964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7280" y="9720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080" y="9792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3240" y="98676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4960" y="99396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7760" y="100116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0920" y="1008720"/>
              <a:ext cx="39600" cy="460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2640" y="1018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4360" y="1025640"/>
              <a:ext cx="41040" cy="4392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7520" y="10332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9240" y="1040400"/>
              <a:ext cx="41040" cy="460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2040" y="10476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3760" y="105516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5840" y="106488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640" y="107208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0360" y="107964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2080" y="108936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4160" y="1096560"/>
              <a:ext cx="41040" cy="4860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880" y="11041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7600" y="111384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9320" y="11210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1040" y="113112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1680" y="11383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93400" y="11480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5120" y="11552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6840" y="116532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67480" y="1172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9560" y="11822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9840" y="118980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0480" y="1199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" y="120924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2840" y="121896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480" y="122616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4120" y="123624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94760" y="124596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5400" y="12556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6040" y="126540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" y="12754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7320" y="128520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8920" y="680760"/>
              <a:ext cx="113760" cy="1321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5320" y="670680"/>
              <a:ext cx="122040" cy="1346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6760" y="66348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840" y="663480"/>
              <a:ext cx="112680" cy="12204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8920" y="663480"/>
              <a:ext cx="109080" cy="114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676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892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1440" y="7200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3600" y="72216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" y="7272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9360" y="7272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2960" y="73188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4400" y="7344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764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016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844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060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960" y="76392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1400" y="76644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4640" y="768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716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760" y="7761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2920" y="77868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5440" y="780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7600" y="783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200" y="7884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3720" y="79092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3840" y="729720"/>
              <a:ext cx="116280" cy="1346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9160" y="71748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0240" y="712440"/>
              <a:ext cx="120960" cy="13212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2760" y="709920"/>
              <a:ext cx="114840" cy="127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3840" y="709920"/>
              <a:ext cx="111600" cy="11952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0240" y="763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2760" y="766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600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852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92120" y="77616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93200" y="778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6800" y="7833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8960" y="7858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2560" y="7884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4720" y="7909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300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52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4880" y="81504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59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9560" y="820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2080" y="8226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53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7840" y="8298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00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252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6120" y="839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8280" y="8420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6240" y="780840"/>
              <a:ext cx="118440" cy="1393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560" y="768600"/>
              <a:ext cx="127800" cy="1443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3720" y="761400"/>
              <a:ext cx="122040" cy="1393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5160" y="76140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6240" y="758880"/>
              <a:ext cx="113760" cy="12456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2640" y="815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51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840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3092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345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6680" y="829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92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136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4960" y="842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7480" y="844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5400" y="854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7920" y="856800"/>
              <a:ext cx="7920" cy="316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728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980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3040" y="874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556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7720" y="881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0240" y="883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84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600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9600" y="8935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212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6120" y="832320"/>
              <a:ext cx="122040" cy="1443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2880" y="820080"/>
              <a:ext cx="130320" cy="1490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3960" y="812880"/>
              <a:ext cx="125640" cy="1418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120" y="810360"/>
              <a:ext cx="119520" cy="13680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7560" y="810360"/>
              <a:ext cx="115920" cy="12960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396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6120" y="871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9720" y="8740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224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4400" y="8812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6920" y="88380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0520" y="888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2680" y="891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628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440" y="898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6720" y="908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9240" y="9108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860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076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436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688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480" y="935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1560" y="9374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5160" y="942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7320" y="945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0920" y="950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3080" y="952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5280" y="886320"/>
              <a:ext cx="124200" cy="1465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1680" y="87408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2760" y="86436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5280" y="864360"/>
              <a:ext cx="123120" cy="1393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7440" y="861840"/>
              <a:ext cx="118440" cy="1342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276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528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08880" y="9302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11040" y="9327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464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680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9320" y="9424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1840" y="9450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5080" y="950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7600" y="952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36960" y="964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120" y="9669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7400" y="9792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9920" y="98172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520" y="9867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5680" y="988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9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1440" y="996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5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756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1160" y="1006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2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1920" y="942480"/>
              <a:ext cx="126720" cy="1515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8320" y="927720"/>
              <a:ext cx="136080" cy="15876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0480" y="91800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1920" y="918000"/>
              <a:ext cx="126720" cy="1443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4080" y="918000"/>
              <a:ext cx="122040" cy="13680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39400" y="9792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1920" y="9817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5160" y="986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7680" y="988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1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3440" y="996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7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9560" y="10036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280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5320" y="1010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3600" y="10231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5760" y="10256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5120" y="10378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7640" y="10378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91240" y="10429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3400" y="1045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7000" y="1050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9160" y="10526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02760" y="10576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5280" y="10598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7440" y="1064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11040" y="10674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120" y="998640"/>
              <a:ext cx="128880" cy="1562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2440" y="984240"/>
              <a:ext cx="139680" cy="1663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4960" y="97416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7120" y="976680"/>
              <a:ext cx="128880" cy="146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640" y="97416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3520" y="1037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7120" y="10378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9640" y="1045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83240" y="10476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5400" y="1052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7920" y="10551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160" y="1059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3680" y="1062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7280" y="10674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9440" y="1069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8800" y="1081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20" y="10843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20680" y="1096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284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6440" y="1104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896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32560" y="11113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4720" y="11138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8320" y="11185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0480" y="1121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44080" y="112608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6600" y="112860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9080" y="1057680"/>
              <a:ext cx="132480" cy="1612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5480" y="1042920"/>
              <a:ext cx="141840" cy="1710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8000" y="1033200"/>
              <a:ext cx="137160" cy="1638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9080" y="103320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1600" y="103068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6560" y="1096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908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12680" y="11041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484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8440" y="1113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0960" y="1116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4200" y="11210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6720" y="1123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0320" y="11286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2480" y="11311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41840" y="11433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44360" y="11455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5372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5588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948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62000" y="1170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5600" y="11750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7760" y="1177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1360" y="1182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3520" y="11847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7120" y="11898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9640" y="11919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20" y="1118520"/>
              <a:ext cx="136080" cy="16884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920" y="1104120"/>
              <a:ext cx="145440" cy="17604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440" y="1094400"/>
              <a:ext cx="140760" cy="168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600" y="109440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20" y="109188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36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852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212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640" y="1170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880" y="117504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400" y="1177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000" y="11847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7240" y="11872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60" y="11919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360" y="11944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640" y="1209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880" y="1211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4240" y="1224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6760" y="12261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0360" y="123120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2520" y="12337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6120" y="12409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8640" y="1243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01880" y="1248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4400" y="1251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8000" y="125568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0160" y="12582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1172160" y="289080"/>
            <a:ext cx="1067040" cy="890280"/>
            <a:chOff x="1172160" y="289080"/>
            <a:chExt cx="1067040" cy="890280"/>
          </a:xfrm>
        </p:grpSpPr>
        <p:sp>
          <p:nvSpPr>
            <p:cNvPr id="1345" name=""/>
            <p:cNvSpPr/>
            <p:nvPr/>
          </p:nvSpPr>
          <p:spPr>
            <a:xfrm>
              <a:off x="1613880" y="289080"/>
              <a:ext cx="625320" cy="53208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22520" y="294840"/>
              <a:ext cx="601920" cy="5122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81560" y="343440"/>
              <a:ext cx="495000" cy="42336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73280" y="330840"/>
              <a:ext cx="496080" cy="4219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75440" y="330840"/>
              <a:ext cx="491400" cy="41832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7960" y="330840"/>
              <a:ext cx="486360" cy="414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84080" y="333000"/>
              <a:ext cx="473760" cy="40356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40920" y="995400"/>
              <a:ext cx="15840" cy="99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927800" y="1042920"/>
              <a:ext cx="12240" cy="11016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88560" y="104040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48960" y="103716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09720" y="1036080"/>
              <a:ext cx="12240" cy="10620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70480" y="1032480"/>
              <a:ext cx="1116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30880" y="103032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90200" y="102636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50960" y="102312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10280" y="1020600"/>
              <a:ext cx="12240" cy="10548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71040" y="10173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29280" y="10137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88240" y="1012680"/>
              <a:ext cx="1368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46480" y="1009080"/>
              <a:ext cx="1476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06160" y="100584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64040" y="1003320"/>
              <a:ext cx="1692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23360" y="100008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81600" y="996480"/>
              <a:ext cx="1728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05560" y="97200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10600" y="100224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16440" y="1019520"/>
              <a:ext cx="15840" cy="993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56760" y="102060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98880" y="102456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39560" y="1027800"/>
              <a:ext cx="14400" cy="1018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81320" y="1030320"/>
              <a:ext cx="1368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422000" y="1033560"/>
              <a:ext cx="1476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63760" y="10371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04440" y="103932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44040" y="1042920"/>
              <a:ext cx="14400" cy="10440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584360" y="104616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626480" y="1047600"/>
              <a:ext cx="972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65720" y="105084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06400" y="105444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5640" y="1056600"/>
              <a:ext cx="972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85240" y="106020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824480" y="106164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64080" y="106488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00800" y="1067400"/>
              <a:ext cx="1368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95840" y="9885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83600" y="100584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71000" y="1024560"/>
              <a:ext cx="13320" cy="1112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56240" y="10461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40040" y="1070640"/>
              <a:ext cx="13680" cy="10872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98360" y="101736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87200" y="10360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72080" y="105444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58760" y="1075320"/>
              <a:ext cx="6120" cy="774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44000" y="11008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20040" y="1046160"/>
              <a:ext cx="8640" cy="69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04760" y="10972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865160" y="1093680"/>
              <a:ext cx="468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25560" y="1091520"/>
              <a:ext cx="468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7760" y="1087920"/>
              <a:ext cx="360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48160" y="108468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08560" y="1082160"/>
              <a:ext cx="3600" cy="763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9320" y="1078920"/>
              <a:ext cx="2160" cy="763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28640" y="107532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589400" y="10742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547640" y="1070640"/>
              <a:ext cx="6120" cy="73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06960" y="1067400"/>
              <a:ext cx="6120" cy="7272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467360" y="10634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25600" y="1061640"/>
              <a:ext cx="6120" cy="716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84920" y="105768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43160" y="105444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02480" y="1053360"/>
              <a:ext cx="6120" cy="691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0360" y="1049760"/>
              <a:ext cx="8640" cy="69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0520" y="745920"/>
              <a:ext cx="915840" cy="35244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72160" y="722880"/>
              <a:ext cx="952920" cy="3661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72160" y="703080"/>
              <a:ext cx="952920" cy="36756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90520" y="706320"/>
              <a:ext cx="915840" cy="35136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298880" y="735480"/>
              <a:ext cx="748440" cy="28476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6360" y="728640"/>
              <a:ext cx="744840" cy="28368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99960" y="729720"/>
              <a:ext cx="738720" cy="2793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06080" y="729720"/>
              <a:ext cx="729000" cy="27612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18680" y="729720"/>
              <a:ext cx="707760" cy="2700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 txBox="1"/>
            <p:nvPr/>
          </p:nvSpPr>
          <p:spPr>
            <a:xfrm>
              <a:off x="1797480" y="495360"/>
              <a:ext cx="222480" cy="86760"/>
            </a:xfrm>
            <a:prstGeom prst="rect">
              <a:avLst/>
            </a:prstGeom>
          </p:spPr>
          <p:txBody>
            <a:bodyPr wrap="none" lIns="90000" rIns="90000" tIns="40320" bIns="40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 rot="271200">
              <a:off x="1559880" y="825480"/>
              <a:ext cx="246240" cy="6948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14400" y="13320"/>
            <a:ext cx="1476000" cy="923040"/>
            <a:chOff x="14400" y="13320"/>
            <a:chExt cx="1476000" cy="923040"/>
          </a:xfrm>
        </p:grpSpPr>
        <p:sp>
          <p:nvSpPr>
            <p:cNvPr id="1430" name=""/>
            <p:cNvSpPr/>
            <p:nvPr/>
          </p:nvSpPr>
          <p:spPr>
            <a:xfrm>
              <a:off x="927720" y="665280"/>
              <a:ext cx="562680" cy="244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27720" y="665280"/>
              <a:ext cx="562680" cy="2304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7520" y="766800"/>
              <a:ext cx="87480" cy="540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37520" y="719280"/>
              <a:ext cx="189720" cy="950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37520" y="76680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37520" y="766800"/>
              <a:ext cx="94680" cy="40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37520" y="766800"/>
              <a:ext cx="87480" cy="40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25360" y="726120"/>
              <a:ext cx="109440" cy="94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045080" y="719280"/>
              <a:ext cx="160560" cy="543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88640" y="73296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81440" y="732960"/>
              <a:ext cx="8028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45080" y="72612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37520" y="794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45080" y="801000"/>
              <a:ext cx="14400" cy="13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037520" y="801000"/>
              <a:ext cx="7200" cy="13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86400" y="801000"/>
              <a:ext cx="58320" cy="81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93600" y="814320"/>
              <a:ext cx="51120" cy="40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88640" y="739800"/>
              <a:ext cx="5112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88640" y="746280"/>
              <a:ext cx="51120" cy="20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320" y="40680"/>
              <a:ext cx="497160" cy="658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059480" y="115200"/>
              <a:ext cx="204120" cy="5835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2320" y="4068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320" y="40680"/>
              <a:ext cx="701280" cy="14904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176480" y="108360"/>
              <a:ext cx="87480" cy="67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17800" y="10152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059480" y="149040"/>
              <a:ext cx="109080" cy="406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56760" y="108360"/>
              <a:ext cx="6840" cy="1332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2320" y="1332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6240" y="149040"/>
              <a:ext cx="43560" cy="1965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1000" y="149040"/>
              <a:ext cx="29160" cy="1900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81440" y="162720"/>
              <a:ext cx="168120" cy="4885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81440" y="169560"/>
              <a:ext cx="153360" cy="468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81440" y="33228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81440" y="27144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17800" y="284760"/>
              <a:ext cx="124200" cy="95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081440" y="278280"/>
              <a:ext cx="43560" cy="540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081440" y="22392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17800" y="237240"/>
              <a:ext cx="124200" cy="94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081440" y="230400"/>
              <a:ext cx="43560" cy="47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081440" y="176400"/>
              <a:ext cx="160560" cy="608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117800" y="19008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88640" y="359640"/>
              <a:ext cx="102240" cy="74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96200" y="359640"/>
              <a:ext cx="94680" cy="74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161720" y="3801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25360" y="38664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25360" y="393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03400" y="386640"/>
              <a:ext cx="124200" cy="2034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25360" y="414000"/>
              <a:ext cx="94680" cy="1490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9040" y="40680"/>
              <a:ext cx="635760" cy="108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960" y="47160"/>
              <a:ext cx="599040" cy="15624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960" y="47160"/>
              <a:ext cx="591840" cy="15624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3080" y="461520"/>
              <a:ext cx="496800" cy="19656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080" y="461520"/>
              <a:ext cx="496800" cy="176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280" y="461520"/>
              <a:ext cx="460080" cy="1015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160" y="74520"/>
              <a:ext cx="591840" cy="4615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160" y="74520"/>
              <a:ext cx="584640" cy="44784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4200" y="122040"/>
              <a:ext cx="430920" cy="332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3360" y="454680"/>
              <a:ext cx="452880" cy="6084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45800" y="81000"/>
              <a:ext cx="387360" cy="4068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5520" y="739800"/>
              <a:ext cx="913320" cy="19656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320" y="814320"/>
              <a:ext cx="226440" cy="1220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520" y="726120"/>
              <a:ext cx="913320" cy="20340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400" y="624240"/>
              <a:ext cx="950040" cy="2307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4400" y="610560"/>
              <a:ext cx="906120" cy="2444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4080" y="746280"/>
              <a:ext cx="109440" cy="543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4080" y="75348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560" y="678600"/>
              <a:ext cx="145800" cy="540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2680" y="6717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268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6220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220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9632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9632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716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7160" y="6786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23600" y="7534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36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160" y="678600"/>
              <a:ext cx="43560" cy="33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3160" y="631080"/>
              <a:ext cx="175320" cy="403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560" y="644760"/>
              <a:ext cx="123840" cy="270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8560" y="678600"/>
              <a:ext cx="138600" cy="54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2400" y="671760"/>
              <a:ext cx="197280" cy="1152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59960" y="685440"/>
              <a:ext cx="160560" cy="1015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8560" y="685440"/>
              <a:ext cx="116640" cy="47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3240" y="637920"/>
              <a:ext cx="175320" cy="406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3080" y="644760"/>
              <a:ext cx="175320" cy="612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320" y="692280"/>
              <a:ext cx="606240" cy="14904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2520" y="719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2520" y="719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336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36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66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664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480" y="726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7480" y="726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320" y="73296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320" y="726120"/>
              <a:ext cx="2160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708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7080" y="719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708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7080" y="692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40720" y="7192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4792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7920" y="69912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47920" y="6991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1120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11200" y="72612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120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120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48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204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2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2040" y="699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568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568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456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5680" y="70596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932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1616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6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616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798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98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980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980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344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064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06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0640" y="712440"/>
              <a:ext cx="2196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42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4280" y="732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428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8840" y="67860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8840" y="6786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40240" y="6922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024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6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604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474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500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622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622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6716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67160" y="7668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7560" y="73980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4760" y="739800"/>
              <a:ext cx="216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7560" y="71244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476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212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2120" y="685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03880" y="6922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03880" y="692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868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8688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18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8280" y="712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26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268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080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080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91360" y="759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91360" y="75996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840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840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840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840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576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2960" y="685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7472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472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50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016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8192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8912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96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96320" y="7398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128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1280" y="7736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16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924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924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924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82520" y="746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82520" y="746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580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3360" y="746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664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6640" y="746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4580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336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38480" y="75348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5680" y="74628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4280" y="759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1428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94560" y="753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94560" y="7534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0360" y="7599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036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50640" y="75348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82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26440" y="7668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364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89720" y="766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8972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2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232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876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1876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74840" y="7462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4840" y="74628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3800" y="699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3800" y="699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7080" y="6516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846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520" y="746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0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38480" y="77364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8480" y="77364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0176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09320" y="6379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6720" y="780480"/>
              <a:ext cx="3672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1428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77560" y="64476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756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4480" y="651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4480" y="6516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560" y="77364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4560" y="7736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69760" y="692280"/>
              <a:ext cx="36360" cy="33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06120" y="73980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76600" y="692280"/>
              <a:ext cx="29160" cy="266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06120" y="739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8200" y="6379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200" y="6379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316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036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160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604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60560" y="6580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0560" y="6580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47920" y="64476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4792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0640" y="77364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064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14280" y="64476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214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26440" y="7873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2644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120" y="64476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968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6640" y="665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4200" y="665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0400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1200" y="644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82520" y="78732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972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2856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576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280" y="671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280" y="671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7280" y="63792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72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6240" y="72612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13800" y="719280"/>
              <a:ext cx="5076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1840" y="739800"/>
              <a:ext cx="7308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9040" y="732960"/>
              <a:ext cx="65520" cy="133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5600" y="794160"/>
              <a:ext cx="248400" cy="3384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63160" y="787320"/>
              <a:ext cx="233640" cy="270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4640" y="759960"/>
              <a:ext cx="94680" cy="20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080" y="794160"/>
              <a:ext cx="101880" cy="266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03880" y="759960"/>
              <a:ext cx="80280" cy="270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1840" y="753480"/>
              <a:ext cx="87480" cy="201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280" y="794160"/>
              <a:ext cx="87480" cy="133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11080" y="759960"/>
              <a:ext cx="73080" cy="133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2856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308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7480" y="814320"/>
              <a:ext cx="7272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76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28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4680" y="81432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04480" y="807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11680" y="80748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5120" y="7599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2320" y="759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1840" y="78048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904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60560" y="8074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8120" y="807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1120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8760" y="766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792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5512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6360" y="685440"/>
              <a:ext cx="3672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3560" y="68544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728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7484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04000" y="78732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11200" y="780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25840" y="651600"/>
              <a:ext cx="36360" cy="6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400" y="678600"/>
              <a:ext cx="50760" cy="1965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7480" y="773640"/>
              <a:ext cx="862200" cy="14256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6320" y="6222600"/>
            <a:ext cx="655560" cy="635040"/>
            <a:chOff x="76320" y="6222600"/>
            <a:chExt cx="655560" cy="635040"/>
          </a:xfrm>
        </p:grpSpPr>
        <p:sp>
          <p:nvSpPr>
            <p:cNvPr id="1751" name=""/>
            <p:cNvSpPr/>
            <p:nvPr/>
          </p:nvSpPr>
          <p:spPr>
            <a:xfrm>
              <a:off x="76320" y="673020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40920" y="64213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19160" y="622224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3080" y="642888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07640" y="622728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6" name="PlaceHolder 3"/>
          <p:cNvSpPr>
            <a:spLocks noGrp="1"/>
          </p:cNvSpPr>
          <p:nvPr>
            <p:ph type="ftr" idx="2"/>
          </p:nvPr>
        </p:nvSpPr>
        <p:spPr>
          <a:xfrm>
            <a:off x="743040" y="6572160"/>
            <a:ext cx="64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</a:rPr>
              <a:t>Org. e Arq. de Computadores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04920" y="133200"/>
            <a:ext cx="8667720" cy="64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Organização Básica de Computador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952560" y="12574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308520" y="391320"/>
            <a:ext cx="1980000" cy="1347480"/>
            <a:chOff x="308520" y="391320"/>
            <a:chExt cx="1980000" cy="1347480"/>
          </a:xfrm>
        </p:grpSpPr>
        <p:sp>
          <p:nvSpPr>
            <p:cNvPr id="1797" name=""/>
            <p:cNvSpPr/>
            <p:nvPr/>
          </p:nvSpPr>
          <p:spPr>
            <a:xfrm>
              <a:off x="1533600" y="1342440"/>
              <a:ext cx="754920" cy="35640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33600" y="1342440"/>
              <a:ext cx="754920" cy="3366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680480" y="1491120"/>
              <a:ext cx="117720" cy="788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0480" y="1421640"/>
              <a:ext cx="254520" cy="1386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680480" y="14911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80480" y="1491120"/>
              <a:ext cx="127080" cy="59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680480" y="1491120"/>
              <a:ext cx="117720" cy="590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98560" y="1431720"/>
              <a:ext cx="146880" cy="138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90560" y="1421640"/>
              <a:ext cx="215280" cy="792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749240" y="1441440"/>
              <a:ext cx="78480" cy="49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39520" y="1441440"/>
              <a:ext cx="107640" cy="99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90560" y="1431720"/>
              <a:ext cx="5832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680480" y="15310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90560" y="1540800"/>
              <a:ext cx="19440" cy="19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680480" y="1540800"/>
              <a:ext cx="9720" cy="19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612080" y="1540800"/>
              <a:ext cx="78480" cy="1184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621800" y="1560600"/>
              <a:ext cx="68760" cy="59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49240" y="1451520"/>
              <a:ext cx="6876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49240" y="1461240"/>
              <a:ext cx="68760" cy="29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43280" y="430920"/>
              <a:ext cx="666720" cy="96084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10360" y="540000"/>
              <a:ext cx="273960" cy="8517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043280" y="4309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043280" y="430920"/>
              <a:ext cx="940680" cy="21780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866960" y="529920"/>
              <a:ext cx="117360" cy="9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88480" y="52020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0360" y="589320"/>
              <a:ext cx="146520" cy="594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974600" y="529920"/>
              <a:ext cx="9360" cy="1980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043280" y="3913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02320" y="589320"/>
              <a:ext cx="58680" cy="2869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22120" y="589320"/>
              <a:ext cx="39240" cy="2772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739520" y="609120"/>
              <a:ext cx="225360" cy="7131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9520" y="618840"/>
              <a:ext cx="205920" cy="68364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39520" y="856800"/>
              <a:ext cx="5868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39520" y="76752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88480" y="787320"/>
              <a:ext cx="166680" cy="138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520" y="777600"/>
              <a:ext cx="58680" cy="78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39520" y="69840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88480" y="718200"/>
              <a:ext cx="166680" cy="1382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9520" y="708120"/>
              <a:ext cx="58680" cy="69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739520" y="628920"/>
              <a:ext cx="215280" cy="88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88480" y="64872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49240" y="896400"/>
              <a:ext cx="137160" cy="10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58960" y="896400"/>
              <a:ext cx="127080" cy="108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47160" y="92628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98560" y="93600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98560" y="9457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68680" y="936000"/>
              <a:ext cx="166680" cy="2973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798560" y="975960"/>
              <a:ext cx="127080" cy="2178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92600" y="430920"/>
              <a:ext cx="852480" cy="1584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8600" y="440640"/>
              <a:ext cx="803160" cy="227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8600" y="440640"/>
              <a:ext cx="793800" cy="227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7000" y="1045080"/>
              <a:ext cx="666360" cy="286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87000" y="1045080"/>
              <a:ext cx="666360" cy="257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96720" y="1045080"/>
              <a:ext cx="617400" cy="148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8320" y="480240"/>
              <a:ext cx="793800" cy="67356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8320" y="480240"/>
              <a:ext cx="784080" cy="653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55760" y="549720"/>
              <a:ext cx="578160" cy="485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5000" y="1035360"/>
              <a:ext cx="607320" cy="889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4920" y="489960"/>
              <a:ext cx="519480" cy="5940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6920" y="1451520"/>
              <a:ext cx="1225080" cy="2869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67560" y="1560600"/>
              <a:ext cx="303480" cy="178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76920" y="1431720"/>
              <a:ext cx="1225080" cy="29736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08520" y="1283040"/>
              <a:ext cx="1274040" cy="3369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8520" y="1263240"/>
              <a:ext cx="1215360" cy="35676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0040" y="1461240"/>
              <a:ext cx="146880" cy="79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20040" y="14713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31840" y="1362240"/>
              <a:ext cx="195840" cy="78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06160" y="13521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0616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454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4540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5720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572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1796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17960" y="13622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59280" y="14713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5928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8320" y="1362240"/>
              <a:ext cx="58680" cy="49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1880" y="1293120"/>
              <a:ext cx="235080" cy="59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1840" y="1312560"/>
              <a:ext cx="166320" cy="39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31840" y="1362240"/>
              <a:ext cx="185760" cy="78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98160" y="1352160"/>
              <a:ext cx="264600" cy="1684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308240" y="1371960"/>
              <a:ext cx="215280" cy="1486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131840" y="1371960"/>
              <a:ext cx="156600" cy="691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96760" y="1302840"/>
              <a:ext cx="235080" cy="59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000" y="1312560"/>
              <a:ext cx="235080" cy="892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67560" y="1382400"/>
              <a:ext cx="813240" cy="21780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4240" y="14216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34240" y="14216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500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950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5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6800" y="14317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06800" y="14317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7560" y="14414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67560" y="1431720"/>
              <a:ext cx="2916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6308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63080" y="1421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0630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63080" y="138240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014120" y="14216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242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024200" y="13921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024200" y="1392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8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974880" y="14317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8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7488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2592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356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356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935640" y="1392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6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6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866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86680" y="140220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3772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74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474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4744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984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9848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4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848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498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924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24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59240" y="1411920"/>
              <a:ext cx="2952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10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0280" y="14414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1028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1028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239840" y="13622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39840" y="1362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16240" y="13824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162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495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4956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2560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356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540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4540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31796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317960" y="1491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1680" y="14515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1040" y="1451520"/>
              <a:ext cx="2916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1680" y="14119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104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9052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90520" y="13719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67280" y="138240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67280" y="138240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032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032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38636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386360" y="14119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0616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40616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6900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69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84640" y="14810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484640" y="148104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244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24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24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4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4156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1280" y="13719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32804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280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1613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16136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33740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3474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5720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357200" y="14515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976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9760" y="15008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731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28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28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8284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4240" y="14612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4240" y="14612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849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5000" y="1461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4568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45680" y="14612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492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5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76960" y="14713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86680" y="14612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10280" y="14810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028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18280" y="14713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18280" y="14713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51600" y="14810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5160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59240" y="14713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6932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92560" y="14911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264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43600" y="14911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36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43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04328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8496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98496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920" y="146124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25920" y="146124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112400" y="13921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112400" y="13921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63080" y="132264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0731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6920" y="14612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700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76960" y="15008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76960" y="1500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28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720" y="13028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00560" y="1510920"/>
              <a:ext cx="4896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1028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1680" y="131256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6168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63400" y="1322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63400" y="1322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8280" y="1500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18280" y="15008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55480" y="1382400"/>
              <a:ext cx="48600" cy="49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504440" y="14515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464840" y="1382400"/>
              <a:ext cx="39240" cy="39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04440" y="14515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320" y="13028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9320" y="1302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188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51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95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9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4360" y="13323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4360" y="13323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24200" y="131256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02420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59240" y="15008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5924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10280" y="131256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20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2560" y="1520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256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90520" y="131256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0060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5680" y="13424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55760" y="1342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6516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74880" y="13125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34240" y="15206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4360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13184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1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96720" y="13521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6720" y="13521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6200" y="1302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162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102320" y="1431720"/>
              <a:ext cx="78480" cy="49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112400" y="1421640"/>
              <a:ext cx="6840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082880" y="1451520"/>
              <a:ext cx="9792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092600" y="1441440"/>
              <a:ext cx="87840" cy="1980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31800" y="1531080"/>
              <a:ext cx="333360" cy="493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41880" y="1520640"/>
              <a:ext cx="313200" cy="396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73160" y="1481040"/>
              <a:ext cx="127080" cy="298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000" y="1531080"/>
              <a:ext cx="136800" cy="392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367280" y="1481040"/>
              <a:ext cx="107640" cy="396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082880" y="1471320"/>
              <a:ext cx="117720" cy="29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6720" y="1531080"/>
              <a:ext cx="117720" cy="194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77000" y="1481040"/>
              <a:ext cx="97920" cy="198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13184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700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6800" y="1560600"/>
              <a:ext cx="9756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4156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672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160" y="156060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3400" y="15505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3120" y="15505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33920" y="14810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043280" y="14810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82880" y="15109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092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04360" y="15505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14440" y="1550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7488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984960" y="1491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2420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03392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37680" y="1371960"/>
              <a:ext cx="4896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7760" y="137196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1620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2592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65160" y="152064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74880" y="1510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396440" y="1322640"/>
              <a:ext cx="48600" cy="9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8520" y="1362240"/>
              <a:ext cx="68400" cy="2869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6800" y="1500840"/>
              <a:ext cx="1156320" cy="2080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1454400" y="1933920"/>
            <a:ext cx="1163160" cy="630000"/>
            <a:chOff x="1454400" y="1933920"/>
            <a:chExt cx="1163160" cy="630000"/>
          </a:xfrm>
        </p:grpSpPr>
        <p:sp>
          <p:nvSpPr>
            <p:cNvPr id="2118" name=""/>
            <p:cNvSpPr/>
            <p:nvPr/>
          </p:nvSpPr>
          <p:spPr>
            <a:xfrm>
              <a:off x="1454400" y="1938240"/>
              <a:ext cx="1163160" cy="57024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05880" y="2091600"/>
              <a:ext cx="379800" cy="2041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580760" y="2001960"/>
              <a:ext cx="869400" cy="3020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650240" y="2044800"/>
              <a:ext cx="736920" cy="2595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50240" y="2027520"/>
              <a:ext cx="742680" cy="26352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650240" y="2027520"/>
              <a:ext cx="742680" cy="25956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70840" y="2125440"/>
              <a:ext cx="230400" cy="594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018520" y="2078640"/>
              <a:ext cx="120960" cy="468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65080" y="2070000"/>
              <a:ext cx="495000" cy="1954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937880" y="2180880"/>
              <a:ext cx="149400" cy="80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018520" y="2138400"/>
              <a:ext cx="34560" cy="19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8840" y="2163600"/>
              <a:ext cx="28800" cy="19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53080" y="2142360"/>
              <a:ext cx="103320" cy="338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20600" y="2180880"/>
              <a:ext cx="8640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926360" y="2180880"/>
              <a:ext cx="68760" cy="55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007000" y="213840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18520" y="2138400"/>
              <a:ext cx="39960" cy="190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035800" y="2146680"/>
              <a:ext cx="576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920600" y="2176560"/>
              <a:ext cx="172800" cy="72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081880" y="2146680"/>
              <a:ext cx="6300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070360" y="2134080"/>
              <a:ext cx="114840" cy="38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081880" y="2155320"/>
              <a:ext cx="23040" cy="19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087640" y="2159640"/>
              <a:ext cx="1692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030040" y="21423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093400" y="2163600"/>
              <a:ext cx="540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10680" y="212544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33720" y="2125440"/>
              <a:ext cx="17280" cy="19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56760" y="21297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116440" y="2129760"/>
              <a:ext cx="45720" cy="190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33720" y="2134080"/>
              <a:ext cx="1728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179800" y="2087280"/>
              <a:ext cx="80280" cy="511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93400" y="2108160"/>
              <a:ext cx="68760" cy="19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51000" y="2095560"/>
              <a:ext cx="86040" cy="255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45240" y="210816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53080" y="2112840"/>
              <a:ext cx="109080" cy="295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39480" y="2108160"/>
              <a:ext cx="51480" cy="29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76120" y="2146680"/>
              <a:ext cx="9180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87640" y="2155320"/>
              <a:ext cx="34200" cy="19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863000" y="2129760"/>
              <a:ext cx="132120" cy="338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868760" y="2108160"/>
              <a:ext cx="270720" cy="766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891800" y="2146680"/>
              <a:ext cx="91800" cy="19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99160" y="2087280"/>
              <a:ext cx="51840" cy="190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816920" y="2176560"/>
              <a:ext cx="114840" cy="190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788480" y="2167920"/>
              <a:ext cx="166680" cy="208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868760" y="2151000"/>
              <a:ext cx="120960" cy="208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60920" y="2061360"/>
              <a:ext cx="627480" cy="502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471320" y="2232000"/>
              <a:ext cx="489240" cy="33192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72440" y="1998000"/>
              <a:ext cx="644760" cy="51876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454400" y="2167920"/>
              <a:ext cx="518040" cy="34884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40800" y="1989360"/>
              <a:ext cx="471960" cy="11052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494360" y="1933920"/>
              <a:ext cx="1122840" cy="19548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40800" y="1989360"/>
              <a:ext cx="471960" cy="1018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40800" y="1998000"/>
              <a:ext cx="368280" cy="106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39960" y="2091600"/>
              <a:ext cx="45720" cy="20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40800" y="1998000"/>
              <a:ext cx="368280" cy="975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494360" y="1933920"/>
              <a:ext cx="1122840" cy="17424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69240" y="1946520"/>
              <a:ext cx="857880" cy="1486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759320" y="1955160"/>
              <a:ext cx="523800" cy="892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91800" y="1946520"/>
              <a:ext cx="535320" cy="14868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064600" y="1951200"/>
              <a:ext cx="506520" cy="1357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65920" y="2023200"/>
              <a:ext cx="1099800" cy="33192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16920" y="2372400"/>
              <a:ext cx="316440" cy="123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816920" y="2453040"/>
              <a:ext cx="293400" cy="889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42040" y="2151000"/>
              <a:ext cx="32220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0840" y="2163600"/>
              <a:ext cx="74520" cy="21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2163600"/>
              <a:ext cx="253080" cy="1018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37880" y="2219040"/>
              <a:ext cx="74520" cy="42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920600" y="2206440"/>
              <a:ext cx="3996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926360" y="2206440"/>
              <a:ext cx="23040" cy="29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920600" y="2210400"/>
              <a:ext cx="460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816920" y="218088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88480" y="2176560"/>
              <a:ext cx="86400" cy="190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484560" y="1947600"/>
            <a:ext cx="772200" cy="661680"/>
            <a:chOff x="484560" y="1947600"/>
            <a:chExt cx="772200" cy="661680"/>
          </a:xfrm>
        </p:grpSpPr>
        <p:sp>
          <p:nvSpPr>
            <p:cNvPr id="2195" name=""/>
            <p:cNvSpPr/>
            <p:nvPr/>
          </p:nvSpPr>
          <p:spPr>
            <a:xfrm>
              <a:off x="484560" y="2387520"/>
              <a:ext cx="704160" cy="22176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2404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87200" y="2296440"/>
              <a:ext cx="67680" cy="673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84560" y="2351880"/>
              <a:ext cx="704160" cy="24948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9600" y="2498760"/>
              <a:ext cx="110160" cy="633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49600" y="2502720"/>
              <a:ext cx="97200" cy="55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53920" y="2518200"/>
              <a:ext cx="97560" cy="475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4560" y="2383560"/>
              <a:ext cx="704160" cy="2178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84560" y="2387520"/>
              <a:ext cx="704160" cy="21384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9520" y="2451240"/>
              <a:ext cx="93240" cy="594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65960" y="2300400"/>
              <a:ext cx="67680" cy="71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8240" y="2248920"/>
              <a:ext cx="54720" cy="55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0316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66520" y="2014920"/>
              <a:ext cx="352080" cy="3207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45280" y="2252880"/>
              <a:ext cx="55080" cy="55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2680" y="1963440"/>
              <a:ext cx="352080" cy="34884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45280" y="1971360"/>
              <a:ext cx="339480" cy="3366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84560" y="2276640"/>
              <a:ext cx="700200" cy="24552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22720" y="2304360"/>
              <a:ext cx="538920" cy="1861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22720" y="2308320"/>
              <a:ext cx="525960" cy="18216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79680" y="2308320"/>
              <a:ext cx="360720" cy="114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8920" y="2363760"/>
              <a:ext cx="207720" cy="74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28920" y="2367720"/>
              <a:ext cx="203400" cy="75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45840" y="2372040"/>
              <a:ext cx="169560" cy="633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73280" y="2355840"/>
              <a:ext cx="105840" cy="356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02040" y="1971360"/>
              <a:ext cx="20880" cy="23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28360" y="1963440"/>
              <a:ext cx="1692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06000" y="1975680"/>
              <a:ext cx="1260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28360" y="1963440"/>
              <a:ext cx="1260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8400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6960" y="232416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13880" y="23202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264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43400" y="231228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56360" y="230832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9696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138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264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4340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56360" y="23162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68960" y="23122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388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264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4340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56360" y="23241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7328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858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648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4340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56360" y="233208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32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858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3160" y="2320200"/>
              <a:ext cx="1656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340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6360" y="2343960"/>
              <a:ext cx="1656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73280" y="23400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85880" y="2336040"/>
              <a:ext cx="20880" cy="39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03160" y="2332080"/>
              <a:ext cx="1656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576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6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7328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9020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03160" y="23400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1972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326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90200" y="23518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03160" y="23479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1972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32680" y="23400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49600" y="23360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071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19720" y="23518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3700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49600" y="23439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6652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2404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41320" y="23598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539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70840" y="235188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8344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132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58240" y="23637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70840" y="23598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8776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00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5824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7516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87760" y="2363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04680" y="23598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17640" y="23558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75160" y="237960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9208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90900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921600" y="23677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93852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7948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9640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13320" y="2379600"/>
              <a:ext cx="16920" cy="11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2592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4284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5580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900360" y="239544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13320" y="23914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30240" y="23875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471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6012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77040" y="237204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921600" y="24033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93456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951480" y="23954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6408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813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9396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38520" y="24112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55800" y="240336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7272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85320" y="239544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0224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15200" y="238356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88880" y="2372040"/>
              <a:ext cx="691560" cy="1742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14440" y="2427120"/>
              <a:ext cx="263160" cy="166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69520" y="2451240"/>
              <a:ext cx="84960" cy="59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125360" y="2423160"/>
              <a:ext cx="4248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129680" y="2431080"/>
              <a:ext cx="2952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0280" y="2383560"/>
              <a:ext cx="538920" cy="1267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9560" y="2391480"/>
              <a:ext cx="55080" cy="194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9560" y="2387520"/>
              <a:ext cx="42480" cy="118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3280" y="239976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09560" y="2375640"/>
              <a:ext cx="21240" cy="36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84000" y="2387520"/>
              <a:ext cx="8280" cy="11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8800" y="2395440"/>
              <a:ext cx="72000" cy="35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26480" y="2415600"/>
              <a:ext cx="38160" cy="15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71400" y="2399760"/>
              <a:ext cx="84960" cy="234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5680" y="2375640"/>
              <a:ext cx="402840" cy="11088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31360" y="2363760"/>
              <a:ext cx="135720" cy="59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7090920" y="5245920"/>
            <a:ext cx="1163880" cy="559440"/>
            <a:chOff x="7090920" y="5245920"/>
            <a:chExt cx="1163880" cy="559440"/>
          </a:xfrm>
        </p:grpSpPr>
        <p:grpSp>
          <p:nvGrpSpPr>
            <p:cNvPr id="2339" name=""/>
            <p:cNvGrpSpPr/>
            <p:nvPr/>
          </p:nvGrpSpPr>
          <p:grpSpPr>
            <a:xfrm>
              <a:off x="7090920" y="5245920"/>
              <a:ext cx="1163880" cy="559440"/>
              <a:chOff x="7090920" y="5245920"/>
              <a:chExt cx="1163880" cy="559440"/>
            </a:xfrm>
          </p:grpSpPr>
          <p:sp>
            <p:nvSpPr>
              <p:cNvPr id="2340" name=""/>
              <p:cNvSpPr/>
              <p:nvPr/>
            </p:nvSpPr>
            <p:spPr>
              <a:xfrm>
                <a:off x="7090920" y="5245920"/>
                <a:ext cx="1163880" cy="5594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093080" y="5279760"/>
                <a:ext cx="1157400" cy="525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248320" y="540324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220960" y="54075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96480" y="542772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69480" y="544968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42480" y="546984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15480" y="54918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088120" y="55134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61120" y="55350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031960" y="55569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011800" y="5580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89120" y="559764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66800" y="561528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44120" y="56343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1800" y="5652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99120" y="566964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74280" y="568872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51960" y="570636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27120" y="572544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04440" y="57441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8600" y="576324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779600" y="577692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766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752600" y="5783760"/>
                <a:ext cx="13320" cy="21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739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96440" y="577152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55760" y="57607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5440" y="57499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74760" y="57391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34440" y="57279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93760" y="57171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53440" y="570492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412760" y="569556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72080" y="56844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33920" y="56736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295760" y="566280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257240" y="565344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219080" y="564228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78400" y="5632920"/>
                <a:ext cx="45000" cy="30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42400" y="56221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04240" y="56113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095240" y="56084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090920" y="560304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090920" y="5257800"/>
                <a:ext cx="1163880" cy="52704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71640" y="53841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36280" y="5387040"/>
                <a:ext cx="139320" cy="13284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027640" y="551196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016120" y="5497200"/>
                <a:ext cx="13320" cy="3924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002800" y="5498280"/>
                <a:ext cx="17640" cy="475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89120" y="5497200"/>
                <a:ext cx="20160" cy="48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64280" y="5491800"/>
                <a:ext cx="31320" cy="52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19280" y="545220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48800" y="5411520"/>
                <a:ext cx="4320" cy="583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41960" y="540072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32960" y="5391000"/>
                <a:ext cx="15480" cy="5832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17120" y="5381640"/>
                <a:ext cx="20160" cy="583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99120" y="537336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76440" y="5366520"/>
                <a:ext cx="26640" cy="5544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56280" y="5362560"/>
                <a:ext cx="24480" cy="529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38280" y="5358600"/>
                <a:ext cx="22320" cy="52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29280" y="5354280"/>
                <a:ext cx="11160" cy="52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24600" y="534888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822440" y="5343480"/>
                <a:ext cx="4320" cy="54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9600" y="5289120"/>
                <a:ext cx="126000" cy="51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683120" y="5287680"/>
                <a:ext cx="6480" cy="24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0600" y="5285160"/>
                <a:ext cx="2160" cy="255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680600" y="5282280"/>
                <a:ext cx="360" cy="255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649280" y="5312160"/>
                <a:ext cx="148320" cy="406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53600" y="5315040"/>
                <a:ext cx="144000" cy="36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653600" y="5330160"/>
                <a:ext cx="204840" cy="583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49280" y="5330160"/>
                <a:ext cx="204840" cy="60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236800" y="538560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027640" y="551340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775280" y="575100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761960" y="575676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48280" y="57592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734600" y="575784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156080" y="5376240"/>
                <a:ext cx="299160" cy="21024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099920" y="55868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095240" y="5581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486920" y="5267520"/>
                <a:ext cx="139320" cy="111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486920" y="53722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475760" y="537624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462440" y="5377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453440" y="53762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165080" y="558000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169400" y="55731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153920" y="55854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53920" y="5589360"/>
                <a:ext cx="4320" cy="230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714440" y="5739120"/>
                <a:ext cx="2160" cy="21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11080" y="5590800"/>
                <a:ext cx="625680" cy="187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020800" y="5509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020800" y="550404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80640" y="5392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784280" y="5391000"/>
                <a:ext cx="459360" cy="3816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71600" y="5259240"/>
                <a:ext cx="517680" cy="13968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842960" y="5311080"/>
                <a:ext cx="4320" cy="255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40440" y="5313600"/>
                <a:ext cx="4320" cy="24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36120" y="5315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82928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822440" y="5319000"/>
                <a:ext cx="6480" cy="2304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81344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171640" y="538308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8173800" y="53884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7280" y="5259240"/>
                <a:ext cx="43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60440" y="526356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64928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635600" y="526896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62660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495920" y="536652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095240" y="5245920"/>
                <a:ext cx="1150560" cy="513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680600" y="5274360"/>
                <a:ext cx="166320" cy="44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827120" y="5311080"/>
                <a:ext cx="353520" cy="18864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892280" y="531108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81120" y="531108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869960" y="531108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863120" y="531360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829280" y="53164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827120" y="5339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27120" y="53434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27120" y="5346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31440" y="53488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840440" y="535176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860960" y="535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881120" y="5361120"/>
                <a:ext cx="26640" cy="11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03440" y="5367960"/>
                <a:ext cx="24480" cy="13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3960" y="5376240"/>
                <a:ext cx="20160" cy="147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37280" y="5387040"/>
                <a:ext cx="18000" cy="133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48800" y="539784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53120" y="54100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48800" y="542232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37280" y="5433120"/>
                <a:ext cx="1800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120" y="544392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120" y="545220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68960" y="548604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95960" y="5491800"/>
                <a:ext cx="1332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009280" y="5492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18640" y="549180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27640" y="54874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034120" y="5383080"/>
                <a:ext cx="141840" cy="10980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169480" y="53802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171640" y="537768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166960" y="5373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8160480" y="53708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01280" y="5312160"/>
                <a:ext cx="261000" cy="60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833960" y="5315040"/>
                <a:ext cx="337680" cy="177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3960" y="537876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76440" y="5399280"/>
                <a:ext cx="51480" cy="33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27120" y="540216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02280" y="5384160"/>
                <a:ext cx="26640" cy="417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804440" y="5354280"/>
                <a:ext cx="135000" cy="540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10280" y="5360040"/>
                <a:ext cx="29160" cy="187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865280" y="535428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820280" y="535428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804440" y="536400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04440" y="5381640"/>
                <a:ext cx="29160" cy="20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29280" y="539640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881120" y="5393880"/>
                <a:ext cx="47160" cy="147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1800" y="537876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813440" y="5358600"/>
                <a:ext cx="117000" cy="432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813440" y="5358600"/>
                <a:ext cx="117000" cy="460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829280" y="5364000"/>
                <a:ext cx="85320" cy="338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849440" y="53722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851960" y="5373360"/>
                <a:ext cx="403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854120" y="5374800"/>
                <a:ext cx="3600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858440" y="537624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867440" y="53258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872120" y="532872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874280" y="53287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6440" y="532872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878960" y="53301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885800" y="53312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88120" y="53762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92800" y="5377680"/>
                <a:ext cx="42480" cy="17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094960" y="537876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094960" y="53787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097120" y="53787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101800" y="537876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106480" y="5378760"/>
                <a:ext cx="15480" cy="14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108640" y="5378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71120" y="5461920"/>
                <a:ext cx="54000" cy="23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75800" y="546444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7960" y="546588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80120" y="546588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84800" y="546732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91280" y="546840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80120" y="547128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80120" y="547128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189640" y="53762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193960" y="537768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196480" y="537768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198640" y="53787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8200800" y="537876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8207640" y="53802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8198640" y="538308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198640" y="538308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036280" y="54957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540" name=""/>
            <p:cNvSpPr/>
            <p:nvPr/>
          </p:nvSpPr>
          <p:spPr>
            <a:xfrm>
              <a:off x="8038800" y="5497200"/>
              <a:ext cx="40320" cy="16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40960" y="5497200"/>
              <a:ext cx="3600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043480" y="5498640"/>
              <a:ext cx="3348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047800" y="5498640"/>
              <a:ext cx="26640" cy="12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052480" y="5500080"/>
              <a:ext cx="2232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043480" y="5502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043480" y="5504040"/>
              <a:ext cx="33480" cy="252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17600" y="5248800"/>
              <a:ext cx="4248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22280" y="5249880"/>
              <a:ext cx="35640" cy="13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624440" y="524988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626960" y="5251320"/>
              <a:ext cx="2916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629120" y="525132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633440" y="525276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46600" y="5356080"/>
              <a:ext cx="45000" cy="176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448760" y="5357160"/>
              <a:ext cx="38160" cy="14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1280" y="5358600"/>
              <a:ext cx="3348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3440" y="535860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55600" y="535860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62440" y="536004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51280" y="536292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453440" y="536400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108920" y="5566320"/>
              <a:ext cx="47160" cy="20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1080" y="5567760"/>
              <a:ext cx="4032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13600" y="5569200"/>
              <a:ext cx="3564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115760" y="5569200"/>
              <a:ext cx="33480" cy="147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117920" y="557064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124760" y="557208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115760" y="5574600"/>
              <a:ext cx="33480" cy="5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115760" y="5574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730280" y="5730840"/>
              <a:ext cx="49320" cy="23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734960" y="5732280"/>
              <a:ext cx="42480" cy="187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737120" y="5733720"/>
              <a:ext cx="38160" cy="17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739280" y="5733720"/>
              <a:ext cx="33480" cy="16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741440" y="5734800"/>
              <a:ext cx="3132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48280" y="5736240"/>
              <a:ext cx="24480" cy="10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737120" y="5740200"/>
              <a:ext cx="38160" cy="3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37120" y="5740200"/>
              <a:ext cx="3564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273440" y="54104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3440" y="54050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273440" y="539928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273440" y="539532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3440" y="53899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3440" y="53845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73440" y="53805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3440" y="53751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43440" y="5452560"/>
              <a:ext cx="51480" cy="11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543440" y="5442840"/>
              <a:ext cx="514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5120" y="5380560"/>
              <a:ext cx="290160" cy="77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75120" y="5375160"/>
              <a:ext cx="288000" cy="784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93120" y="543492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597440" y="5437440"/>
              <a:ext cx="2016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602120" y="5438880"/>
              <a:ext cx="1116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475760" y="5453640"/>
              <a:ext cx="281160" cy="118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496280" y="5463360"/>
              <a:ext cx="240840" cy="1004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5960" y="54932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3800" y="5497200"/>
              <a:ext cx="4320" cy="28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721280" y="55026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716960" y="550656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12280" y="551088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705440" y="551484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69896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692120" y="552312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83120" y="5525640"/>
              <a:ext cx="864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7412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665120" y="5532480"/>
              <a:ext cx="9000" cy="24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5396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644960" y="55353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33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22280" y="553788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611120" y="553932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99960" y="55378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590960" y="5537880"/>
              <a:ext cx="9000" cy="2304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579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56828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559280" y="55324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55028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541280" y="5527080"/>
              <a:ext cx="864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532280" y="552312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544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21120" y="5516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16440" y="551232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512120" y="55080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509600" y="5502600"/>
              <a:ext cx="216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507440" y="54986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505280" y="549468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505280" y="5445720"/>
              <a:ext cx="222840" cy="93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17600" y="5452560"/>
              <a:ext cx="51480" cy="3924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563600" y="5491800"/>
              <a:ext cx="54000" cy="4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17600" y="5449680"/>
              <a:ext cx="3600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581600" y="5491800"/>
              <a:ext cx="3564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17600" y="5449680"/>
              <a:ext cx="18000" cy="417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597440" y="5491800"/>
              <a:ext cx="20160" cy="43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04280" y="5449680"/>
              <a:ext cx="15480" cy="417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13280" y="5491800"/>
              <a:ext cx="15480" cy="432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588440" y="5449680"/>
              <a:ext cx="29160" cy="417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17600" y="5491800"/>
              <a:ext cx="29160" cy="432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570440" y="5451120"/>
              <a:ext cx="47160" cy="4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17600" y="5491800"/>
              <a:ext cx="45000" cy="4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554600" y="545364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17600" y="549180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536600" y="5459040"/>
              <a:ext cx="81000" cy="32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17600" y="5491800"/>
              <a:ext cx="78480" cy="338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523280" y="546588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17600" y="549180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514280" y="5476680"/>
              <a:ext cx="103320" cy="1476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17600" y="5491800"/>
              <a:ext cx="101160" cy="16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514280" y="5488920"/>
              <a:ext cx="103320" cy="133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17600" y="5481000"/>
              <a:ext cx="101160" cy="133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518600" y="5491800"/>
              <a:ext cx="99000" cy="230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17600" y="5470200"/>
              <a:ext cx="99000" cy="21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530120" y="5491800"/>
              <a:ext cx="8748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617600" y="5460480"/>
              <a:ext cx="85320" cy="309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545960" y="5491800"/>
              <a:ext cx="71640" cy="36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617600" y="5455080"/>
              <a:ext cx="69480" cy="36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536600" y="5455080"/>
              <a:ext cx="159480" cy="66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45960" y="5459040"/>
              <a:ext cx="141480" cy="583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68280" y="5467320"/>
              <a:ext cx="96840" cy="417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575120" y="5470200"/>
              <a:ext cx="83160" cy="352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581600" y="5476680"/>
              <a:ext cx="69480" cy="295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07960" y="5315400"/>
              <a:ext cx="90000" cy="23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890120" y="5492880"/>
            <a:ext cx="911160" cy="759240"/>
            <a:chOff x="7890120" y="5492880"/>
            <a:chExt cx="911160" cy="759240"/>
          </a:xfrm>
        </p:grpSpPr>
        <p:sp>
          <p:nvSpPr>
            <p:cNvPr id="2663" name=""/>
            <p:cNvSpPr/>
            <p:nvPr/>
          </p:nvSpPr>
          <p:spPr>
            <a:xfrm>
              <a:off x="7895520" y="5509440"/>
              <a:ext cx="440280" cy="37188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890120" y="5509440"/>
              <a:ext cx="440280" cy="3736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897320" y="5514480"/>
              <a:ext cx="428040" cy="36684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29000" y="5547960"/>
              <a:ext cx="252000" cy="2026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64280" y="5549760"/>
              <a:ext cx="214920" cy="179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960680" y="5544720"/>
              <a:ext cx="216720" cy="18252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006760" y="5650200"/>
              <a:ext cx="285120" cy="21276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010000" y="56538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24040" y="56754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038440" y="569916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8052480" y="5720760"/>
              <a:ext cx="232560" cy="13896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983720" y="5620320"/>
              <a:ext cx="28080" cy="972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989120" y="5616720"/>
              <a:ext cx="31680" cy="1087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997760" y="5611680"/>
              <a:ext cx="31680" cy="11556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015400" y="560160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006760" y="5607000"/>
              <a:ext cx="31680" cy="120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033040" y="5591520"/>
              <a:ext cx="3348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043480" y="558684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048880" y="5583240"/>
              <a:ext cx="3312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962480" y="5544720"/>
              <a:ext cx="160200" cy="921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90120" y="5509440"/>
              <a:ext cx="514440" cy="48744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95520" y="5514480"/>
              <a:ext cx="505440" cy="47736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913160" y="5541480"/>
              <a:ext cx="482760" cy="44388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9837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9783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983720" y="5502960"/>
              <a:ext cx="410400" cy="3182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019000" y="5523120"/>
              <a:ext cx="253440" cy="1656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061120" y="5524560"/>
              <a:ext cx="209520" cy="15048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57520" y="5518080"/>
              <a:ext cx="209520" cy="1558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64720" y="5646960"/>
              <a:ext cx="290520" cy="16416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070120" y="56502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076960" y="56754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085960" y="57006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92800" y="5724000"/>
              <a:ext cx="255240" cy="8532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076960" y="5563080"/>
              <a:ext cx="17640" cy="968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082360" y="5559840"/>
              <a:ext cx="19080" cy="11052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089560" y="5558040"/>
              <a:ext cx="20880" cy="1170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108640" y="5551560"/>
              <a:ext cx="20880" cy="122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8200" y="5554800"/>
              <a:ext cx="22680" cy="11880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129880" y="554652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138880" y="5543280"/>
              <a:ext cx="22680" cy="120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147520" y="554148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8059320" y="5519520"/>
              <a:ext cx="177840" cy="5184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972920" y="5508000"/>
              <a:ext cx="470160" cy="44244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978320" y="5513040"/>
              <a:ext cx="463320" cy="4323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990560" y="5539680"/>
              <a:ext cx="445680" cy="40032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087760" y="5514480"/>
              <a:ext cx="378720" cy="25632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84160" y="5514480"/>
              <a:ext cx="375120" cy="25812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89560" y="5518080"/>
              <a:ext cx="366480" cy="25272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23040" y="5523120"/>
              <a:ext cx="243000" cy="122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72360" y="5526360"/>
              <a:ext cx="190080" cy="11556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168760" y="5519520"/>
              <a:ext cx="191880" cy="120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135280" y="5663880"/>
              <a:ext cx="280080" cy="1054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140320" y="56671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142120" y="56923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143920" y="571896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145720" y="5744160"/>
              <a:ext cx="262440" cy="248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172360" y="5529600"/>
              <a:ext cx="33120" cy="9216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173800" y="5529600"/>
              <a:ext cx="38520" cy="1054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173800" y="5528160"/>
              <a:ext cx="47520" cy="1119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191800" y="55281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182800" y="55281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2126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2234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232120" y="55263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168760" y="5519520"/>
              <a:ext cx="186480" cy="972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075160" y="5533200"/>
              <a:ext cx="401760" cy="3751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78760" y="5536440"/>
              <a:ext cx="396360" cy="36504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085960" y="5564880"/>
              <a:ext cx="384120" cy="33156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157960" y="5501160"/>
              <a:ext cx="403560" cy="299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154720" y="5496120"/>
              <a:ext cx="401760" cy="30312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159760" y="5501160"/>
              <a:ext cx="390960" cy="29808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221680" y="5511240"/>
              <a:ext cx="250200" cy="14724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69200" y="551628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267400" y="551304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196840" y="5650200"/>
              <a:ext cx="288720" cy="14076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8216280" y="56538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10880" y="56790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207640" y="5703840"/>
              <a:ext cx="262440" cy="7020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04040" y="5729040"/>
              <a:ext cx="260640" cy="6192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269200" y="5519520"/>
              <a:ext cx="54360" cy="85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267400" y="5521320"/>
              <a:ext cx="61560" cy="972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267400" y="5523120"/>
              <a:ext cx="70200" cy="10188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281440" y="5528160"/>
              <a:ext cx="77400" cy="100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271000" y="552456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302680" y="55314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313120" y="55332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320320" y="553464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286840" y="5513040"/>
              <a:ext cx="183240" cy="367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23040" y="5513040"/>
              <a:ext cx="445680" cy="41868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6280" y="5518080"/>
              <a:ext cx="436680" cy="4086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129880" y="5544720"/>
              <a:ext cx="424440" cy="3769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224920" y="5501160"/>
              <a:ext cx="428040" cy="35676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221680" y="5492880"/>
              <a:ext cx="428040" cy="361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224920" y="5497920"/>
              <a:ext cx="417600" cy="35496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316720" y="5516280"/>
              <a:ext cx="255240" cy="18576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360640" y="5528160"/>
              <a:ext cx="213120" cy="172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360640" y="5524560"/>
              <a:ext cx="213120" cy="174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60200" y="5643720"/>
              <a:ext cx="288720" cy="19440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295480" y="56469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285040" y="56703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272800" y="56937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265600" y="5717520"/>
              <a:ext cx="244800" cy="11700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364240" y="5538240"/>
              <a:ext cx="73800" cy="7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58840" y="5541480"/>
              <a:ext cx="84240" cy="82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358840" y="5544720"/>
              <a:ext cx="93240" cy="853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371440" y="55533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362440" y="55479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390880" y="556164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399520" y="556488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406720" y="556812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404920" y="5526360"/>
              <a:ext cx="168840" cy="75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59760" y="5502960"/>
              <a:ext cx="500400" cy="47232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165160" y="5508000"/>
              <a:ext cx="489600" cy="46260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168760" y="5534640"/>
              <a:ext cx="470160" cy="43056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95480" y="5523120"/>
              <a:ext cx="426240" cy="3985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292240" y="5516280"/>
              <a:ext cx="429840" cy="40212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295480" y="5521320"/>
              <a:ext cx="419400" cy="39384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8410320" y="5546520"/>
              <a:ext cx="248400" cy="2160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8448840" y="5568120"/>
              <a:ext cx="211320" cy="1926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448840" y="5564880"/>
              <a:ext cx="213120" cy="1926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325720" y="5657040"/>
              <a:ext cx="272880" cy="23436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375040" y="5658840"/>
              <a:ext cx="22032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358840" y="5679000"/>
              <a:ext cx="218520" cy="17568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341560" y="5699160"/>
              <a:ext cx="21996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330760" y="5718960"/>
              <a:ext cx="213120" cy="16740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454240" y="5581800"/>
              <a:ext cx="89640" cy="56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448840" y="5585040"/>
              <a:ext cx="100440" cy="633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447040" y="5590080"/>
              <a:ext cx="109080" cy="66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456040" y="5603400"/>
              <a:ext cx="11808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448840" y="559692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471880" y="5616720"/>
              <a:ext cx="11772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480520" y="5623560"/>
              <a:ext cx="118080" cy="651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487720" y="562680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515800" y="5564880"/>
              <a:ext cx="146160" cy="1119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204040" y="5521320"/>
              <a:ext cx="526680" cy="50076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09080" y="5528160"/>
              <a:ext cx="516240" cy="49104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216280" y="5551560"/>
              <a:ext cx="488160" cy="4590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078760" y="5868360"/>
              <a:ext cx="422640" cy="18252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087760" y="5873400"/>
              <a:ext cx="405000" cy="17244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212680" y="5841360"/>
              <a:ext cx="154800" cy="1472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7876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84600" y="5868360"/>
              <a:ext cx="211320" cy="468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39268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12680" y="5833080"/>
              <a:ext cx="154800" cy="1490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12680" y="5834880"/>
              <a:ext cx="153000" cy="1458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216280" y="5836320"/>
              <a:ext cx="147960" cy="1422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18080" y="5839920"/>
              <a:ext cx="144360" cy="1357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24920" y="5844960"/>
              <a:ext cx="130320" cy="1256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28520" y="5850000"/>
              <a:ext cx="123120" cy="60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65600" y="5884920"/>
              <a:ext cx="47520" cy="45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267400" y="5886720"/>
              <a:ext cx="43920" cy="41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71000" y="5888520"/>
              <a:ext cx="38520" cy="381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276040" y="5895000"/>
              <a:ext cx="28080" cy="266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389080" y="5828040"/>
              <a:ext cx="96840" cy="34020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450640" y="5828040"/>
              <a:ext cx="350640" cy="38376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720280" y="6191640"/>
              <a:ext cx="81000" cy="60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389080" y="5869800"/>
              <a:ext cx="352440" cy="38196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89080" y="6168240"/>
              <a:ext cx="2088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720280" y="6231960"/>
              <a:ext cx="20880" cy="19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397720" y="5891760"/>
              <a:ext cx="334800" cy="35352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410320" y="6190200"/>
              <a:ext cx="309960" cy="6192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389080" y="5869800"/>
              <a:ext cx="87840" cy="720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653320" y="5932080"/>
              <a:ext cx="87840" cy="399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477280" y="5933520"/>
              <a:ext cx="176040" cy="381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737920" y="5891760"/>
              <a:ext cx="63360" cy="340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29" name=""/>
          <p:cNvGrpSpPr/>
          <p:nvPr/>
        </p:nvGrpSpPr>
        <p:grpSpPr>
          <a:xfrm>
            <a:off x="7242480" y="5993280"/>
            <a:ext cx="1359000" cy="401040"/>
            <a:chOff x="7242480" y="5993280"/>
            <a:chExt cx="1359000" cy="401040"/>
          </a:xfrm>
        </p:grpSpPr>
        <p:sp>
          <p:nvSpPr>
            <p:cNvPr id="2830" name=""/>
            <p:cNvSpPr/>
            <p:nvPr/>
          </p:nvSpPr>
          <p:spPr>
            <a:xfrm>
              <a:off x="7734240" y="612756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228520" y="628164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47280" y="620388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612576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47280" y="612576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39280" y="618192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228520" y="613656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322840" y="617832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330760" y="618192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228520" y="613116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847280" y="619812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734240" y="618552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847280" y="621108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49800" y="620388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852320" y="619992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884000" y="620388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99560" y="622368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47280" y="621828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847280" y="619812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852320" y="622728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8215200" y="628164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215200" y="612936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467560" y="612576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467560" y="612756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467560" y="612756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470080" y="612576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470080" y="612576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478000" y="613656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475480" y="613836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472960" y="614016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470080" y="614196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412480" y="617292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22920" y="617472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81680" y="599868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188920" y="621468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94720" y="615636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020800" y="599328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791840" y="599868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84200" y="599688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181000" y="605124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283600" y="609120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288640" y="609480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181000" y="604764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789320" y="599508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776360" y="599328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678800" y="615276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94720" y="617292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794720" y="616572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797240" y="615852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02640" y="61527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810200" y="61473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794720" y="618012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789320" y="614196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802640" y="618912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168040" y="622008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168040" y="604584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083800" y="599868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091720" y="600048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157240" y="60112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154720" y="60094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157240" y="601128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165160" y="602208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173080" y="60238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183520" y="60256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194320" y="60274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204760" y="60292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352000" y="605484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362440" y="605664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372880" y="605844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383320" y="606204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889400" y="604404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894440" y="604404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986600" y="604404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989120" y="604584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073360" y="606924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112600" y="607680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152200" y="608220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186400" y="608760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220600" y="609300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249400" y="609840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002080" y="604944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025840" y="606564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962840" y="607500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010000" y="60948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997040" y="61020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981200" y="610920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967880" y="611640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242480" y="607500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760520" y="632160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360920" y="627804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634160" y="606384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0920" y="607104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247880" y="606924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760520" y="611280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860240" y="615456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865640" y="616032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757640" y="610740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358040" y="606564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345080" y="606384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42480" y="627804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60920" y="6300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60920" y="6291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63440" y="6283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71360" y="6274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381800" y="626724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358040" y="631080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358040" y="626184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365960" y="631980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744680" y="633456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744680" y="610560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697160" y="607104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705080" y="607104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73480" y="60822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770960" y="60804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773480" y="608040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778880" y="608940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89320" y="60912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799760" y="60930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813080" y="609480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823520" y="609480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973280" y="611856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983720" y="612216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994520" y="612576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004960" y="612936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71080" y="613116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476480" y="613296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584480" y="613296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587000" y="613476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673760" y="615276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13000" y="615636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752600" y="616212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789320" y="616752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823520" y="617112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855200" y="617472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602840" y="613836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626240" y="615276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557840" y="617292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602840" y="619272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587000" y="62020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571160" y="621108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555320" y="62218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8052480" y="5942880"/>
            <a:ext cx="1085400" cy="909720"/>
            <a:chOff x="8052480" y="5942880"/>
            <a:chExt cx="1085400" cy="909720"/>
          </a:xfrm>
        </p:grpSpPr>
        <p:sp>
          <p:nvSpPr>
            <p:cNvPr id="2974" name=""/>
            <p:cNvSpPr/>
            <p:nvPr/>
          </p:nvSpPr>
          <p:spPr>
            <a:xfrm>
              <a:off x="8443080" y="6608160"/>
              <a:ext cx="694800" cy="24444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449200" y="6608160"/>
              <a:ext cx="673560" cy="24444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457480" y="6608160"/>
              <a:ext cx="646560" cy="24444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466120" y="6608160"/>
              <a:ext cx="621360" cy="24444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474400" y="6608160"/>
              <a:ext cx="591840" cy="24444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484840" y="6608160"/>
              <a:ext cx="558360" cy="24444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495640" y="6608160"/>
              <a:ext cx="522360" cy="24444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507880" y="6608160"/>
              <a:ext cx="482760" cy="2444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520480" y="6608160"/>
              <a:ext cx="440640" cy="24444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537400" y="6608160"/>
              <a:ext cx="388080" cy="24444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554320" y="6608160"/>
              <a:ext cx="331560" cy="24444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577360" y="6608160"/>
              <a:ext cx="258120" cy="24444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604720" y="6608160"/>
              <a:ext cx="169920" cy="24444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640360" y="6608160"/>
              <a:ext cx="50040" cy="2361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443080" y="6400800"/>
              <a:ext cx="694800" cy="41220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459640" y="6413400"/>
              <a:ext cx="660960" cy="38952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470440" y="6419520"/>
              <a:ext cx="640080" cy="3769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78720" y="6423480"/>
              <a:ext cx="623160" cy="36648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484840" y="6427800"/>
              <a:ext cx="610560" cy="3582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676000" y="6137640"/>
              <a:ext cx="228600" cy="11592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84840" y="6601680"/>
              <a:ext cx="610560" cy="18216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489160" y="66016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484840" y="65872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89160" y="65872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484840" y="65728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89160" y="65728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84840" y="6560280"/>
              <a:ext cx="610560" cy="17820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489160" y="6560280"/>
              <a:ext cx="602280" cy="17172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484840" y="6545880"/>
              <a:ext cx="610560" cy="1778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489160" y="6545880"/>
              <a:ext cx="602280" cy="16992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484840" y="65332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489160" y="65332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484840" y="65188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489160" y="65188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84840" y="650664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89160" y="6506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484840" y="649188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489160" y="649188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484840" y="6479640"/>
              <a:ext cx="610560" cy="17172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489160" y="6479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484840" y="6467040"/>
              <a:ext cx="610560" cy="16956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489160" y="64670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484840" y="6452640"/>
              <a:ext cx="610560" cy="16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489160" y="64526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84840" y="6440400"/>
              <a:ext cx="610560" cy="16776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489160" y="6440400"/>
              <a:ext cx="602280" cy="16128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484840" y="6427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89160" y="6427800"/>
              <a:ext cx="602280" cy="1594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484840" y="641520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89160" y="64152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484840" y="6400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489160" y="64008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484840" y="638856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489160" y="638856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484840" y="6375960"/>
              <a:ext cx="610560" cy="1616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489160" y="6375960"/>
              <a:ext cx="602280" cy="15516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484840" y="63637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89160" y="63637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484840" y="63511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489160" y="63511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484840" y="63385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89160" y="63385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484840" y="63241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489160" y="63241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484840" y="631368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489160" y="6313680"/>
              <a:ext cx="602280" cy="14904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484840" y="630144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489160" y="63014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484840" y="6288840"/>
              <a:ext cx="610560" cy="15300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489160" y="62888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484840" y="62766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489160" y="62766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484840" y="62640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489160" y="62640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484840" y="62517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489160" y="62517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484840" y="62391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489160" y="62391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484840" y="62265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489160" y="62265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484840" y="621432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489160" y="621432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484840" y="620208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489160" y="620208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484840" y="606096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484840" y="605484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686440" y="6145920"/>
              <a:ext cx="207720" cy="932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489160" y="6057000"/>
              <a:ext cx="602280" cy="271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720280" y="6239160"/>
              <a:ext cx="47880" cy="86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812440" y="6058800"/>
              <a:ext cx="47880" cy="849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848080" y="6233040"/>
              <a:ext cx="109080" cy="745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623440" y="6075360"/>
              <a:ext cx="109080" cy="76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850240" y="62308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602560" y="60796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858520" y="622872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581680" y="608580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867160" y="6222600"/>
              <a:ext cx="155160" cy="68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558280" y="6094080"/>
              <a:ext cx="155160" cy="66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875440" y="621864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535240" y="610668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881560" y="6212160"/>
              <a:ext cx="184680" cy="51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514360" y="6118920"/>
              <a:ext cx="182520" cy="536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890200" y="6203880"/>
              <a:ext cx="190800" cy="4320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499600" y="6137640"/>
              <a:ext cx="190800" cy="414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896320" y="6195600"/>
              <a:ext cx="192960" cy="309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491320" y="6158520"/>
              <a:ext cx="192960" cy="2880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898480" y="6179040"/>
              <a:ext cx="192960" cy="2448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489160" y="6181200"/>
              <a:ext cx="192960" cy="22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898480" y="6168600"/>
              <a:ext cx="190800" cy="1836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491320" y="6195600"/>
              <a:ext cx="190800" cy="205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850240" y="6079680"/>
              <a:ext cx="121680" cy="72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608680" y="6230880"/>
              <a:ext cx="121680" cy="7452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8844120" y="607320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623440" y="623304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8837640" y="606924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644320" y="623520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8831520" y="6065280"/>
              <a:ext cx="87840" cy="828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8661240" y="6237000"/>
              <a:ext cx="87840" cy="806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825040" y="606312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8678160" y="623700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8820720" y="6060960"/>
              <a:ext cx="66960" cy="846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692920" y="6239160"/>
              <a:ext cx="66960" cy="828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816760" y="6060960"/>
              <a:ext cx="56520" cy="846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707320" y="6239160"/>
              <a:ext cx="56520" cy="84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503920" y="6063120"/>
              <a:ext cx="572760" cy="25884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688600" y="6145920"/>
              <a:ext cx="205560" cy="932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8732520" y="6166800"/>
              <a:ext cx="115200" cy="518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718120" y="6253560"/>
              <a:ext cx="3780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822880" y="606708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722080" y="625356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820720" y="606708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726400" y="6253560"/>
              <a:ext cx="35640" cy="64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818560" y="6065280"/>
              <a:ext cx="35640" cy="66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730720" y="625356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816760" y="606528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862840" y="62452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640360" y="6081840"/>
              <a:ext cx="77400" cy="558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86500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63172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867160" y="624348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625600" y="608364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871120" y="624348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617320" y="608796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8875440" y="62413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608680" y="60901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879760" y="623916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600400" y="609192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883720" y="6237000"/>
              <a:ext cx="104760" cy="5148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592120" y="6096240"/>
              <a:ext cx="104760" cy="4968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885880" y="6237000"/>
              <a:ext cx="11088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583480" y="6098400"/>
              <a:ext cx="109080" cy="496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892360" y="6235200"/>
              <a:ext cx="11304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575200" y="6102360"/>
              <a:ext cx="115200" cy="475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896320" y="6230880"/>
              <a:ext cx="117360" cy="4752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566920" y="6106680"/>
              <a:ext cx="119520" cy="453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898480" y="6228720"/>
              <a:ext cx="123840" cy="4320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558280" y="6112800"/>
              <a:ext cx="121680" cy="4320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902800" y="62265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550000" y="61167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907120" y="622260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541720" y="612108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911080" y="622044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535240" y="612936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915400" y="6216480"/>
              <a:ext cx="138600" cy="33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526960" y="6135480"/>
              <a:ext cx="138240" cy="3096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919360" y="621432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520480" y="614196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921520" y="6210360"/>
              <a:ext cx="142560" cy="244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516520" y="6149880"/>
              <a:ext cx="142560" cy="2484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923680" y="6206040"/>
              <a:ext cx="146880" cy="2052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512200" y="6156360"/>
              <a:ext cx="144720" cy="22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925840" y="6202080"/>
              <a:ext cx="146880" cy="1656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507880" y="6164640"/>
              <a:ext cx="144720" cy="1836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928000" y="619776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50608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930160" y="619164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503920" y="6183360"/>
              <a:ext cx="146880" cy="82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930160" y="618336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503920" y="6191640"/>
              <a:ext cx="146880" cy="79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92800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506080" y="6195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928000" y="6168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507880" y="6199920"/>
              <a:ext cx="144720" cy="1656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871120" y="608796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619480" y="624348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867160" y="6085800"/>
              <a:ext cx="90000" cy="55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623440" y="6243480"/>
              <a:ext cx="87840" cy="558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86500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63172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860680" y="6081840"/>
              <a:ext cx="81720" cy="558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638200" y="6245280"/>
              <a:ext cx="81720" cy="579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856720" y="60796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646480" y="6247440"/>
              <a:ext cx="75240" cy="5796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854560" y="6077520"/>
              <a:ext cx="73440" cy="601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652960" y="6247440"/>
              <a:ext cx="73440" cy="597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850240" y="6075360"/>
              <a:ext cx="71280" cy="597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659080" y="6247440"/>
              <a:ext cx="71280" cy="619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848080" y="6075360"/>
              <a:ext cx="66960" cy="59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665560" y="6249600"/>
              <a:ext cx="66960" cy="60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844120" y="607320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671680" y="6249600"/>
              <a:ext cx="62640" cy="61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841960" y="60714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678160" y="62496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839800" y="607140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684280" y="625176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837640" y="6071400"/>
              <a:ext cx="52200" cy="619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690760" y="6251760"/>
              <a:ext cx="54360" cy="619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833320" y="6069240"/>
              <a:ext cx="50040" cy="640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694720" y="6251760"/>
              <a:ext cx="52200" cy="64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831520" y="6069240"/>
              <a:ext cx="48240" cy="619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701200" y="6251760"/>
              <a:ext cx="47880" cy="640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82936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707320" y="6253560"/>
              <a:ext cx="43920" cy="619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82504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711640" y="625356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056800" y="6214320"/>
              <a:ext cx="537120" cy="600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052480" y="6216480"/>
              <a:ext cx="534960" cy="60300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228880" y="6413400"/>
              <a:ext cx="182520" cy="2070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054640" y="6220440"/>
              <a:ext cx="528840" cy="5947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398800" y="6568560"/>
              <a:ext cx="146880" cy="10980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092440" y="6357240"/>
              <a:ext cx="148680" cy="10764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03120" y="656244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084160" y="637596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05280" y="6560280"/>
              <a:ext cx="153000" cy="78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082000" y="6394680"/>
              <a:ext cx="153000" cy="806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1400" y="6413400"/>
              <a:ext cx="16164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067240" y="6554160"/>
              <a:ext cx="16128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09240" y="6390360"/>
              <a:ext cx="161280" cy="88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069400" y="6556320"/>
              <a:ext cx="161280" cy="867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405280" y="6371640"/>
              <a:ext cx="159480" cy="99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075520" y="6562440"/>
              <a:ext cx="159480" cy="101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400960" y="6351120"/>
              <a:ext cx="155160" cy="1137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084160" y="6570720"/>
              <a:ext cx="155160" cy="111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396640" y="6332400"/>
              <a:ext cx="149040" cy="1242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094600" y="6576840"/>
              <a:ext cx="149040" cy="1263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392680" y="63136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107200" y="65854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386200" y="6294960"/>
              <a:ext cx="132120" cy="1468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119800" y="6591600"/>
              <a:ext cx="134280" cy="146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380080" y="627876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136360" y="659772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373600" y="6264000"/>
              <a:ext cx="113040" cy="16776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153280" y="6603840"/>
              <a:ext cx="113040" cy="1656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367480" y="62517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172360" y="66081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359200" y="624132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91080" y="661428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350560" y="6230880"/>
              <a:ext cx="75600" cy="1864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14120" y="6618600"/>
              <a:ext cx="75600" cy="1843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42280" y="622476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35360" y="662040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333640" y="6220440"/>
              <a:ext cx="4824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258400" y="6622560"/>
              <a:ext cx="4788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327520" y="6220440"/>
              <a:ext cx="29160" cy="18828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283600" y="6624720"/>
              <a:ext cx="29160" cy="19044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145000" y="629316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380080" y="659340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130240" y="6303240"/>
              <a:ext cx="125640" cy="1429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384040" y="6589440"/>
              <a:ext cx="125640" cy="14076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115480" y="6320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388360" y="6581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102880" y="6338520"/>
              <a:ext cx="142560" cy="1198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394840" y="6575040"/>
              <a:ext cx="140400" cy="12204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069400" y="6235200"/>
              <a:ext cx="501480" cy="56340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8880" y="6415200"/>
              <a:ext cx="180360" cy="20304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68840" y="6460920"/>
              <a:ext cx="100440" cy="1116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422200" y="6587280"/>
              <a:ext cx="109080" cy="78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109360" y="6367680"/>
              <a:ext cx="109080" cy="8064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424000" y="6583320"/>
              <a:ext cx="11088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105040" y="6373800"/>
              <a:ext cx="11124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426160" y="657900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100720" y="638208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426160" y="6576840"/>
              <a:ext cx="115200" cy="68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098560" y="6388560"/>
              <a:ext cx="115200" cy="70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428320" y="6572880"/>
              <a:ext cx="117360" cy="66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094600" y="6396840"/>
              <a:ext cx="117360" cy="64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430480" y="6570720"/>
              <a:ext cx="115200" cy="60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092440" y="6402960"/>
              <a:ext cx="117360" cy="601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436600" y="6421680"/>
              <a:ext cx="123840" cy="4968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079840" y="6564600"/>
              <a:ext cx="123840" cy="4752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436600" y="6413400"/>
              <a:ext cx="123840" cy="576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079840" y="6564600"/>
              <a:ext cx="123840" cy="558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434440" y="6405120"/>
              <a:ext cx="121680" cy="619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082000" y="6566760"/>
              <a:ext cx="123840" cy="619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434440" y="6398640"/>
              <a:ext cx="119520" cy="640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085960" y="6570720"/>
              <a:ext cx="119520" cy="66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432640" y="639036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088120" y="657504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430480" y="6382080"/>
              <a:ext cx="117360" cy="7236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090280" y="6579000"/>
              <a:ext cx="119520" cy="7236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428320" y="6375960"/>
              <a:ext cx="117360" cy="7452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094600" y="6583320"/>
              <a:ext cx="117360" cy="7632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426160" y="6367680"/>
              <a:ext cx="115200" cy="8064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098560" y="6587280"/>
              <a:ext cx="115200" cy="78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424000" y="6361560"/>
              <a:ext cx="113040" cy="82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100720" y="6589440"/>
              <a:ext cx="115200" cy="8460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422200" y="6353280"/>
              <a:ext cx="110880" cy="867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105040" y="6593400"/>
              <a:ext cx="113040" cy="86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420040" y="6346800"/>
              <a:ext cx="109080" cy="8892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109360" y="6597720"/>
              <a:ext cx="111240" cy="91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417880" y="6338520"/>
              <a:ext cx="106920" cy="95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15480" y="6601680"/>
              <a:ext cx="106920" cy="932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415720" y="6332400"/>
              <a:ext cx="104760" cy="9720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19800" y="6603840"/>
              <a:ext cx="104760" cy="99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413560" y="632412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124120" y="660816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409240" y="6318000"/>
              <a:ext cx="100440" cy="1054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130240" y="6609960"/>
              <a:ext cx="98280" cy="1054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407440" y="6311880"/>
              <a:ext cx="96480" cy="10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134560" y="6614280"/>
              <a:ext cx="98280" cy="1076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405280" y="63054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140680" y="66186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400960" y="6299280"/>
              <a:ext cx="92160" cy="1137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147160" y="6620400"/>
              <a:ext cx="90000" cy="1137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398800" y="6293160"/>
              <a:ext cx="87840" cy="11808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153280" y="6624720"/>
              <a:ext cx="87840" cy="115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394840" y="6287040"/>
              <a:ext cx="8568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159400" y="6626880"/>
              <a:ext cx="8604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392680" y="6282720"/>
              <a:ext cx="81720" cy="1220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165880" y="6628680"/>
              <a:ext cx="81720" cy="124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8360" y="6276600"/>
              <a:ext cx="77400" cy="1263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172360" y="6633000"/>
              <a:ext cx="79560" cy="124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384040" y="6272280"/>
              <a:ext cx="75600" cy="1263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180640" y="6635160"/>
              <a:ext cx="75240" cy="128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380080" y="62661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186760" y="66369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377920" y="626184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195400" y="663912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373600" y="62578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03680" y="66412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369640" y="6253560"/>
              <a:ext cx="58680" cy="1368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09800" y="6643440"/>
              <a:ext cx="60840" cy="1368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65320" y="6251760"/>
              <a:ext cx="54360" cy="1364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218440" y="6645240"/>
              <a:ext cx="56520" cy="1386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361000" y="624744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228880" y="664740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57040" y="6245280"/>
              <a:ext cx="46080" cy="1407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35360" y="6649560"/>
              <a:ext cx="47880" cy="1407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352720" y="6243480"/>
              <a:ext cx="41760" cy="1407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45800" y="6649560"/>
              <a:ext cx="41760" cy="1429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348400" y="623916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54080" y="665172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344440" y="6239160"/>
              <a:ext cx="33480" cy="14292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262360" y="6651720"/>
              <a:ext cx="33480" cy="1447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340120" y="623700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271000" y="665352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35800" y="6235200"/>
              <a:ext cx="23040" cy="14472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79280" y="6653520"/>
              <a:ext cx="25200" cy="144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331840" y="623520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89720" y="665352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327520" y="6235200"/>
              <a:ext cx="14400" cy="14472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298360" y="6655680"/>
              <a:ext cx="12240" cy="1429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159400" y="6305400"/>
              <a:ext cx="83880" cy="109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396640" y="6618600"/>
              <a:ext cx="83880" cy="11160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153280" y="6309720"/>
              <a:ext cx="87840" cy="10764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398800" y="6616440"/>
              <a:ext cx="87840" cy="1098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47160" y="6315840"/>
              <a:ext cx="90000" cy="10548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400960" y="6612120"/>
              <a:ext cx="92160" cy="1076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40680" y="6321960"/>
              <a:ext cx="94320" cy="10152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405280" y="6609960"/>
              <a:ext cx="94320" cy="1033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36360" y="6328440"/>
              <a:ext cx="96480" cy="99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07440" y="6606000"/>
              <a:ext cx="96480" cy="101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30240" y="6334560"/>
              <a:ext cx="100440" cy="97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09240" y="6603840"/>
              <a:ext cx="98280" cy="97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125920" y="63406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1400" y="65998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121960" y="6346800"/>
              <a:ext cx="102600" cy="910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5720" y="6597720"/>
              <a:ext cx="102600" cy="88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7640" y="635328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17880" y="659340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13320" y="6361560"/>
              <a:ext cx="106920" cy="828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420040" y="6589440"/>
              <a:ext cx="106920" cy="8460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741160" y="617904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741160" y="5959440"/>
              <a:ext cx="98640" cy="25668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749440" y="5959440"/>
              <a:ext cx="86040" cy="2527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757720" y="5959440"/>
              <a:ext cx="75240" cy="2527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766360" y="5959440"/>
              <a:ext cx="62640" cy="2527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776800" y="5959440"/>
              <a:ext cx="46080" cy="2527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789400" y="5959440"/>
              <a:ext cx="29160" cy="2527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804160" y="5959440"/>
              <a:ext cx="8280" cy="25056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759880" y="5957280"/>
              <a:ext cx="3960" cy="25056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778960" y="5957280"/>
              <a:ext cx="1800" cy="2545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825040" y="5957280"/>
              <a:ext cx="1800" cy="248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741160" y="594288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745120" y="5942880"/>
              <a:ext cx="90000" cy="309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751600" y="5945040"/>
              <a:ext cx="79560" cy="266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757720" y="5946840"/>
              <a:ext cx="64800" cy="22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772480" y="5953320"/>
              <a:ext cx="35640" cy="100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6347160" y="5759640"/>
            <a:ext cx="1583640" cy="790200"/>
            <a:chOff x="6347160" y="5759640"/>
            <a:chExt cx="1583640" cy="790200"/>
          </a:xfrm>
        </p:grpSpPr>
        <p:sp>
          <p:nvSpPr>
            <p:cNvPr id="3363" name=""/>
            <p:cNvSpPr/>
            <p:nvPr/>
          </p:nvSpPr>
          <p:spPr>
            <a:xfrm>
              <a:off x="6347160" y="577800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347160" y="577296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347160" y="575964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347160" y="5759640"/>
              <a:ext cx="1583640" cy="76932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20240" y="5783400"/>
              <a:ext cx="1411560" cy="6876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54080" y="5799240"/>
              <a:ext cx="1338840" cy="6508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805880" y="588348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790040" y="58914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777080" y="58968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764120" y="590472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751160" y="590976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738200" y="591804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722360" y="59230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709400" y="59310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696440" y="59364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680960" y="594432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667640" y="59518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652160" y="59572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39200" y="59652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23360" y="5973120"/>
              <a:ext cx="8820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610400" y="5978520"/>
              <a:ext cx="8568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94920" y="598644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79080" y="5994360"/>
              <a:ext cx="8856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66120" y="60022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50640" y="600732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34800" y="601524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19320" y="602316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503840" y="60310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90520" y="6039000"/>
              <a:ext cx="8604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75040" y="6044400"/>
              <a:ext cx="85680" cy="471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59560" y="605232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43720" y="60602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28240" y="60681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12400" y="607608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394040" y="60836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378560" y="609192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363080" y="609948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47240" y="61077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329240" y="611532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313400" y="61232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297920" y="6131160"/>
              <a:ext cx="88200" cy="49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79560" y="614160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261560" y="6149880"/>
              <a:ext cx="91080" cy="471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245720" y="61574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227720" y="6165720"/>
              <a:ext cx="91080" cy="496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211880" y="617328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193520" y="6181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175520" y="619200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59680" y="619992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141680" y="620784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23320" y="621828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105320" y="6226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086960" y="623412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068600" y="624456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050600" y="625248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032240" y="626292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011360" y="62708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993000" y="62816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75000" y="628920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56640" y="630000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35760" y="63079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917760" y="6318360"/>
              <a:ext cx="8820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896880" y="632628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876000" y="63367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857640" y="63471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836760" y="63579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815880" y="6365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95000" y="637632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74480" y="63867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53600" y="63975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32720" y="640800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711840" y="641844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690960" y="6428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537680" y="5778000"/>
              <a:ext cx="252360" cy="14220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529760" y="5767560"/>
              <a:ext cx="270720" cy="1447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532280" y="5759640"/>
              <a:ext cx="260280" cy="1393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534800" y="5759640"/>
              <a:ext cx="249840" cy="1317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537680" y="5759640"/>
              <a:ext cx="241920" cy="123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5322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5376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542720" y="5820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548120" y="582300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55680" y="5828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561080" y="582840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568640" y="58334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571520" y="58359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5790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5844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6024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6078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628760" y="58676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631280" y="587052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39200" y="5873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4424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652160" y="588096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657200" y="588348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662600" y="5886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667640" y="5888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675560" y="5893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680960" y="589680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414920" y="5830920"/>
              <a:ext cx="257760" cy="1447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404480" y="581760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407360" y="5812560"/>
              <a:ext cx="268200" cy="14220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412400" y="5809680"/>
              <a:ext cx="255240" cy="136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414920" y="5809680"/>
              <a:ext cx="247320" cy="12888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407360" y="58676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12400" y="58705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42032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2536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33280" y="588096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35800" y="5883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443720" y="5888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449120" y="5891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456680" y="5893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462080" y="58968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4800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4854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506360" y="592308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50888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516800" y="59284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521840" y="59310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52976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534800" y="5938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54020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4524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553160" y="5949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558200" y="5951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287480" y="5886360"/>
              <a:ext cx="262800" cy="1501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277040" y="5873040"/>
              <a:ext cx="283680" cy="1551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82440" y="5865120"/>
              <a:ext cx="270720" cy="1501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84960" y="5865120"/>
              <a:ext cx="260280" cy="1396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87480" y="5862600"/>
              <a:ext cx="252360" cy="13428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279560" y="59230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28496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29288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9792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30584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310880" y="59389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31628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32132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29240" y="5951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334280" y="5954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352640" y="5965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357680" y="5967720"/>
              <a:ext cx="18000" cy="342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3785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3839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91520" y="5986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39692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401960" y="5994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407360" y="5996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4149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3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428240" y="6007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43328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154640" y="5941440"/>
              <a:ext cx="270720" cy="1551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46720" y="5928480"/>
              <a:ext cx="289080" cy="1605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149240" y="5920560"/>
              <a:ext cx="278640" cy="1526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154640" y="5918040"/>
              <a:ext cx="265680" cy="1472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157160" y="5918040"/>
              <a:ext cx="257760" cy="13932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4924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54640" y="5983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162560" y="59864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16760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173000" y="5994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78040" y="5996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5960" y="6002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191000" y="60048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19892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03960" y="60127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22320" y="6023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27720" y="6025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4824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5364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6156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6660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74520" y="6052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77040" y="605484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84960" y="6060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90000" y="60627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297920" y="6068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302960" y="6070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019280" y="5999400"/>
              <a:ext cx="276120" cy="15804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011360" y="5986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13880" y="597600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019280" y="5976000"/>
              <a:ext cx="273240" cy="1501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24320" y="5973120"/>
              <a:ext cx="262800" cy="14472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1388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01928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026840" y="60469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32240" y="6049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04016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04520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050600" y="6060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055640" y="6062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63560" y="6068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68600" y="6070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089480" y="6083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094880" y="6086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2880" y="60994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18280" y="610236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25840" y="6107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31240" y="6110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3916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44200" y="6118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5212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571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65080" y="6128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701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878520" y="6060240"/>
              <a:ext cx="281160" cy="1634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870600" y="6044400"/>
              <a:ext cx="302040" cy="17100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876000" y="603396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78520" y="6033960"/>
              <a:ext cx="281160" cy="1551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883920" y="6033960"/>
              <a:ext cx="270720" cy="14724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873480" y="6099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878520" y="6102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86440" y="6107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891480" y="61102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89940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904440" y="61182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9123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17760" y="61261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9253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930720" y="6134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48720" y="61470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954120" y="6149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975000" y="61628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980040" y="6162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987960" y="61682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993000" y="61707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000920" y="6176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006320" y="6178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013880" y="61840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019280" y="61866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024320" y="6192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32240" y="61945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35240" y="6120720"/>
              <a:ext cx="286200" cy="1684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24800" y="6104880"/>
              <a:ext cx="309600" cy="1789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30200" y="6094440"/>
              <a:ext cx="29916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735240" y="6096960"/>
              <a:ext cx="286200" cy="15804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40280" y="609444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27320" y="61628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35240" y="61628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40280" y="6170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48200" y="6173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3600" y="61786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58640" y="61812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766560" y="61866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771600" y="618912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79520" y="61945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84920" y="61970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05440" y="62103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10840" y="62128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1720" y="62262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3676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44680" y="623412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5008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57640" y="624204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63040" y="62445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870600" y="624996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876000" y="62524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83920" y="625788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888960" y="626040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84040" y="6184080"/>
              <a:ext cx="294120" cy="1738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76480" y="6168240"/>
              <a:ext cx="315000" cy="18432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81520" y="6157440"/>
              <a:ext cx="304560" cy="1764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584040" y="6157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89440" y="615492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579000" y="62262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8404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591960" y="62341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59736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604920" y="62445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610320" y="62470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618240" y="6252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23280" y="6255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31200" y="62604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636240" y="62629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57120" y="62762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62520" y="6278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68304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68844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69636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701400" y="63050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709320" y="63104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714360" y="63129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722280" y="63183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727320" y="6320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735240" y="63262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740280" y="63288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27800" y="6249960"/>
              <a:ext cx="302040" cy="18180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20240" y="6234120"/>
              <a:ext cx="322920" cy="1897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425280" y="6223680"/>
              <a:ext cx="312480" cy="181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30680" y="6223680"/>
              <a:ext cx="29952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435720" y="622080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42276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42780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43572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441120" y="63050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448680" y="631044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54080" y="63129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461640" y="63208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69560" y="6323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474960" y="6328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482520" y="63316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500880" y="63471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508800" y="63500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529320" y="63630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534720" y="6365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542640" y="637092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47680" y="6373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55600" y="63817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560640" y="6384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68560" y="63896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573600" y="63921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581520" y="639756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586920" y="64000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79" name=""/>
          <p:cNvGrpSpPr/>
          <p:nvPr/>
        </p:nvGrpSpPr>
        <p:grpSpPr>
          <a:xfrm>
            <a:off x="7293600" y="4413960"/>
            <a:ext cx="1256760" cy="1078920"/>
            <a:chOff x="7293600" y="4413960"/>
            <a:chExt cx="1256760" cy="1078920"/>
          </a:xfrm>
        </p:grpSpPr>
        <p:sp>
          <p:nvSpPr>
            <p:cNvPr id="3680" name=""/>
            <p:cNvSpPr/>
            <p:nvPr/>
          </p:nvSpPr>
          <p:spPr>
            <a:xfrm>
              <a:off x="7814160" y="4413960"/>
              <a:ext cx="736200" cy="64476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824240" y="4420800"/>
              <a:ext cx="708480" cy="62100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893720" y="4479840"/>
              <a:ext cx="582480" cy="51300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883640" y="4464720"/>
              <a:ext cx="583920" cy="51120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86520" y="4464720"/>
              <a:ext cx="578520" cy="50688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889400" y="4464720"/>
              <a:ext cx="572400" cy="5029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896600" y="4467240"/>
              <a:ext cx="558000" cy="4888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374960" y="5269680"/>
              <a:ext cx="18720" cy="1209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183520" y="5327280"/>
              <a:ext cx="14400" cy="13320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8137080" y="532440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91000" y="532044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8044560" y="5319000"/>
              <a:ext cx="14400" cy="12888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998120" y="5314680"/>
              <a:ext cx="129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951680" y="531216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903800" y="530748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857360" y="5303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809840" y="530064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763400" y="529632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714080" y="5292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666200" y="529092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616880" y="528660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569360" y="528228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520040" y="5279760"/>
              <a:ext cx="1980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471800" y="52754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422480" y="5271480"/>
              <a:ext cx="2016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274960" y="524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280720" y="52783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346160" y="5299200"/>
              <a:ext cx="18720" cy="1206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393680" y="53006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443000" y="530496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490880" y="5309280"/>
              <a:ext cx="16920" cy="1234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539840" y="531216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588080" y="531612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637400" y="532044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684920" y="5323320"/>
              <a:ext cx="1476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731720" y="5327280"/>
              <a:ext cx="16920" cy="12636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779240" y="5331600"/>
              <a:ext cx="1440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828560" y="5333040"/>
              <a:ext cx="1116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875000" y="5337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922880" y="534132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969320" y="5344200"/>
              <a:ext cx="111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015760" y="5348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061840" y="534996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8108280" y="535428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151840" y="5357160"/>
              <a:ext cx="1584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8263440" y="52614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249040" y="528228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234640" y="5304960"/>
              <a:ext cx="15480" cy="1346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8217000" y="533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197920" y="5361120"/>
              <a:ext cx="15840" cy="13176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266320" y="5296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253360" y="531900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235720" y="5341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219880" y="5366880"/>
              <a:ext cx="7200" cy="939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8202600" y="539784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350120" y="5331600"/>
              <a:ext cx="10080" cy="8424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156160" y="53935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109720" y="5389200"/>
              <a:ext cx="57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063280" y="5386320"/>
              <a:ext cx="57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8018640" y="5382360"/>
              <a:ext cx="39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972200" y="537804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925400" y="5375160"/>
              <a:ext cx="4320" cy="925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879320" y="5371200"/>
              <a:ext cx="2880" cy="925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831440" y="536688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785000" y="536544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735680" y="5361120"/>
              <a:ext cx="7200" cy="8856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687800" y="5357160"/>
              <a:ext cx="7200" cy="882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641360" y="535248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592040" y="5349960"/>
              <a:ext cx="7200" cy="867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544520" y="534564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495200" y="534132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447320" y="5340240"/>
              <a:ext cx="7200" cy="8388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398000" y="5335920"/>
              <a:ext cx="10080" cy="838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315560" y="4967640"/>
              <a:ext cx="1078200" cy="42732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93600" y="4939560"/>
              <a:ext cx="1121760" cy="44388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293600" y="4915440"/>
              <a:ext cx="1121760" cy="4453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315560" y="4919760"/>
              <a:ext cx="1078200" cy="42552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443000" y="4955040"/>
              <a:ext cx="881280" cy="34524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440120" y="4946400"/>
              <a:ext cx="876960" cy="34416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444440" y="4947840"/>
              <a:ext cx="869760" cy="3387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451640" y="4947840"/>
              <a:ext cx="858240" cy="33444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466400" y="4947840"/>
              <a:ext cx="833040" cy="3276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2" name=""/>
            <p:cNvSpPr txBox="1"/>
            <p:nvPr/>
          </p:nvSpPr>
          <p:spPr>
            <a:xfrm>
              <a:off x="8030160" y="4664160"/>
              <a:ext cx="262080" cy="1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3763" name=""/>
            <p:cNvSpPr txBox="1"/>
            <p:nvPr/>
          </p:nvSpPr>
          <p:spPr>
            <a:xfrm rot="271200">
              <a:off x="7750080" y="5064480"/>
              <a:ext cx="28980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8488440" y="-360"/>
            <a:ext cx="655560" cy="635040"/>
            <a:chOff x="8488440" y="-360"/>
            <a:chExt cx="655560" cy="635040"/>
          </a:xfrm>
        </p:grpSpPr>
        <p:sp>
          <p:nvSpPr>
            <p:cNvPr id="3765" name=""/>
            <p:cNvSpPr/>
            <p:nvPr/>
          </p:nvSpPr>
          <p:spPr>
            <a:xfrm>
              <a:off x="848844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875304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H="1" flipV="1">
              <a:off x="85316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875520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 flipV="1">
              <a:off x="85201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indent="341280" algn="ctr">
              <a:lnSpc>
                <a:spcPct val="140000"/>
              </a:lnSpc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426960" algn="ctr">
              <a:lnSpc>
                <a:spcPct val="140000"/>
              </a:lnSpc>
              <a:spcBef>
                <a:spcPts val="550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eb"/>
              </a:solidFill>
              <a:latin typeface="Arial"/>
            </a:endParaRPr>
          </a:p>
          <a:p>
            <a:pPr lvl="4" marL="1828800" indent="588960" algn="ctr">
              <a:spcBef>
                <a:spcPts val="499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5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6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ubTitle"/>
          </p:nvPr>
        </p:nvSpPr>
        <p:spPr>
          <a:xfrm>
            <a:off x="1089000" y="5045040"/>
            <a:ext cx="6507360" cy="944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Prof.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66"/>
                </a:solidFill>
                <a:latin typeface="Tahoma"/>
              </a:rPr>
              <a:t>Joseana Macêdo Fechine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>
                <a:solidFill>
                  <a:srgbClr val="ffffe7"/>
                </a:solidFill>
                <a:latin typeface="Tahoma"/>
              </a:rPr>
              <a:t>joseana@dsc.ufcg.edu.br</a:t>
            </a: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363600" y="2359080"/>
            <a:ext cx="822492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ffff66"/>
                </a:solidFill>
                <a:latin typeface="Penguin"/>
              </a:rPr>
              <a:t>Organização e Arquitetura de Computadores I</a:t>
            </a:r>
            <a:br>
              <a:rPr sz="5000"/>
            </a:br>
            <a:br>
              <a:rPr sz="2400"/>
            </a:br>
            <a:r>
              <a:rPr b="1" lang="pt-BR" sz="2400" spc="-1" strike="noStrike">
                <a:solidFill>
                  <a:srgbClr val="ffff66"/>
                </a:solidFill>
                <a:latin typeface="Penguin"/>
              </a:rPr>
              <a:t> </a:t>
            </a:r>
            <a:r>
              <a:rPr b="1" lang="pt-BR" sz="4000" spc="-1" strike="noStrike">
                <a:solidFill>
                  <a:srgbClr val="eaeaea"/>
                </a:solidFill>
                <a:latin typeface="Penguin"/>
              </a:rPr>
              <a:t>Organização básica de computadores (Parte II, Adicional)</a:t>
            </a:r>
            <a:r>
              <a:rPr b="1" lang="pt-BR" sz="4800" spc="-1" strike="noStrike">
                <a:solidFill>
                  <a:srgbClr val="ffff99"/>
                </a:solidFill>
                <a:latin typeface="Pengui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2925720" y="622764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1104840" y="399960"/>
            <a:ext cx="718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/>
          </p:nvPr>
        </p:nvSpPr>
        <p:spPr>
          <a:xfrm>
            <a:off x="142920" y="1352520"/>
            <a:ext cx="8810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00"/>
                </a:solidFill>
                <a:latin typeface="Arial"/>
              </a:rPr>
              <a:t>Memória R/W - </a:t>
            </a:r>
            <a:r>
              <a:rPr b="1" i="1" lang="pt-BR" sz="2600" spc="-1" strike="noStrike">
                <a:solidFill>
                  <a:srgbClr val="ffcc00"/>
                </a:solidFill>
                <a:latin typeface="Arial"/>
              </a:rPr>
              <a:t>Read and Write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emória de leitura e escrita, de acesso aleatório e volátil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Pode ser 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estática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SRAM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ou 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dinâmica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DRAM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745200" indent="-25956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SRA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- uso de circuitos transistorizados (flip-flops) mantém a informação enquanto estiver energizada,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muito rápida (~ns), usada tipicamente como memória cach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5200" indent="-25956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DRA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- uso de capacitores (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1 transistor e 1 capacitor por bit, não usa flip-flops)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necessita de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refresh,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alta capacidade de armazenamento (&gt; densidade), mais lentas, usadas tipicamente como memória principal.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Evolução: FPM DRAM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(Fast Page Mode) assíncrona e mais antiga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EDO DRAM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(Extended Data Output), também assíncrona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SDRAM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(memórias Síncronas), etc.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0A25-EF9B-4EA5-9487-0AB1504DD3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/>
          </p:nvPr>
        </p:nvSpPr>
        <p:spPr>
          <a:xfrm>
            <a:off x="166680" y="1162080"/>
            <a:ext cx="8810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00"/>
                </a:solidFill>
                <a:latin typeface="Arial"/>
              </a:rPr>
              <a:t>Memória R/W - </a:t>
            </a:r>
            <a:r>
              <a:rPr b="1" i="1" lang="pt-BR" sz="2600" spc="-1" strike="noStrike">
                <a:solidFill>
                  <a:srgbClr val="ffcc00"/>
                </a:solidFill>
                <a:latin typeface="Arial"/>
              </a:rPr>
              <a:t>Read and Write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DDR ou SDRAM-II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Double Data Rate SDRA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É uma memória SDRAM muito mais avançada e que consegue trabalhar com o dobro do desempenho. Pode-se encontrá-la, por exemplo, em placas-mãe equipadas com o processador AMD K7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RDRAM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Rambus DRA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Baseada em protocolo, isto é, usa padrão de barramento proprietário. A arquitetura interna dos circuitos, é muito diferente das demais pois, permite a leitura e escrita de até 16 dados simultaneamente por circuito. Utilizadas, principalmente, em algumas máquinas de jogos e em aplicações gráficas muito intensivas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7449-A21F-4D0F-AF92-DE95FA7A12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/>
          </p:nvPr>
        </p:nvSpPr>
        <p:spPr>
          <a:xfrm>
            <a:off x="257040" y="1409760"/>
            <a:ext cx="862992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ROM -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Read Only Memor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0" algn="just">
              <a:lnSpc>
                <a:spcPct val="1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eb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emória apenas de leitura. Uma vez gravada não pode mais ser alterada.  De acesso aleatório, não é volátil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ais lenta que a R/W e mais  barat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ode ser programada por máscara ("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mask programmed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“- MROM) em fábrica. Devido ao alto custo da máscara somente se torna econômica em grandes quantidades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666720" y="5543640"/>
            <a:ext cx="7810560" cy="10666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MROM- O </a:t>
            </a:r>
            <a:r>
              <a:rPr b="1" i="1" lang="pt-BR" sz="1800" spc="-1" strike="noStrike">
                <a:solidFill>
                  <a:srgbClr val="eaeaea"/>
                </a:solidFill>
                <a:latin typeface="Arial"/>
              </a:rPr>
              <a:t>firmware </a:t>
            </a: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era gravado durante a fabricação do circuito, com o auxílio de um filme fotográfico - máscara. As máscaras apresentam o inconveniente de serem caras e não permitem regravaçã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98E7-C042-418C-9295-34398872EC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/>
          </p:nvPr>
        </p:nvSpPr>
        <p:spPr>
          <a:xfrm>
            <a:off x="457200" y="1619280"/>
            <a:ext cx="822960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ROM -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Read Only Memor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tilizada geralmente para gravar programas que não se deseja permitir que o usuário possa alterar ou apagar (Ex.: o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I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asic Input Output System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icroprogramas de Memórias de Control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utros tip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PROM, EPROM,  EEPROM e Flash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5949-E8DC-4DF5-80FE-6792168A1B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/>
          </p:nvPr>
        </p:nvSpPr>
        <p:spPr>
          <a:xfrm>
            <a:off x="409680" y="1523520"/>
            <a:ext cx="832464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M -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Programmable Read Only Memory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emória apenas de leitura, programável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OM programável com máquinas adequadas (chamadas queimadores de PROM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Geralmente é comprada "virgem" (sem nada gravado), sendo muito utilizada no processo de testar programas no lugar da ROM, ou sempre que se queira produzir ROM em quantidades pequena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a vez programada (em fábrica ou não), não pode mais ser alterad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9E11-B63A-4ED1-A627-5F94AA3488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/>
          </p:nvPr>
        </p:nvSpPr>
        <p:spPr>
          <a:xfrm>
            <a:off x="409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PROM -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Erasable Programmable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Read Only Memor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emória apenas de leitura, programável (com queimadores de PROM) e apagável (com máquinas adequadas, à base de raios ultra-violeta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m utilização semelhante à da PROM, para testar programas no lugar da ROM, ou sempre que se queira produzir ROM em quantidades pequenas, com a vantagem de poder ser apagada e reutilizada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836" name="" descr=""/>
          <p:cNvPicPr/>
          <p:nvPr/>
        </p:nvPicPr>
        <p:blipFill>
          <a:blip r:embed="rId2"/>
          <a:stretch/>
        </p:blipFill>
        <p:spPr>
          <a:xfrm>
            <a:off x="6362640" y="1523880"/>
            <a:ext cx="1828800" cy="165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B133-429C-466D-98D8-B87085E5C5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/>
          </p:nvPr>
        </p:nvSpPr>
        <p:spPr>
          <a:xfrm>
            <a:off x="361440" y="1371600"/>
            <a:ext cx="849636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EPROM (ou E2PROM)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Electrically Erasable Programmable Read Only Memor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emória apenas de leitura, programável e eletronicamente alterável.  Também chamada EAROM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lectrically Alterabl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ROM)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EPROM apagável - processo eletrônico, sob controle da UCP (equipamento e programas adequados), menor e mais rápida que a EPROM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ais cara, geralmente utilizada em dispositivos aos quais se deseja permitir a alteração, via modem (carga de novas versões de programas à distância ou possibilitar a reprogramação dinâmica de funções específicas de um programa, geralmente relativas ao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hardwar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p.ex., reconfiguração de teclado, programação de terminal, etc)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A779-2C62-4EA9-97D7-B34E30B991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/>
          </p:nvPr>
        </p:nvSpPr>
        <p:spPr>
          <a:xfrm>
            <a:off x="314280" y="1333080"/>
            <a:ext cx="851544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ROM Flash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uncionamento similar ao da EEPROM – conteúdo total ou parcial da memória pode ser apagado normalmente por um processo de escrit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pagadas e regravadas por blocos (o apagamento não pode ser efetuado ao nível de byte como na EEPROM), alta capacidade de armazenamento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termo flash foi imaginado devido à elevada velocidade de apagamento dessas memórias em comparação com as antigas EPROM e EEPROM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I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eal para várias aplicações portátei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câmeras digitais, palmtop, assistentes digitais portáteis, aparelhos de música digital ou telefones celulares)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E4B9-38E5-4E91-A703-64EBF247A0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/>
          </p:nvPr>
        </p:nvSpPr>
        <p:spPr>
          <a:xfrm>
            <a:off x="361800" y="1771200"/>
            <a:ext cx="842040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emória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CMOS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- (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Complementary Metal Oxide Semiconductor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ipo especial de memória para armazenamento das opções essenciais de configuração de in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cializa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quantidade de memória instalada, data, hor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limentação via bateri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áquinas Macintosh </a:t>
            </a:r>
            <a:r>
              <a:rPr b="1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RAM de parâmetro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76E2-9454-4E65-8170-58C10C636E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"/>
          <p:cNvSpPr/>
          <p:nvPr/>
        </p:nvSpPr>
        <p:spPr>
          <a:xfrm>
            <a:off x="419040" y="1257480"/>
            <a:ext cx="847728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mórias de mei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abricadas de modo a armazenar informações sob a forma de campos magnétic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vido à natureza eletromecânica de seus componentes e à tecnologia de construção em comparação com memórias de semicondutores, esse tipo é mais barato, permitindo armazenamento de grande quantidade de inform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étodo de acesso às informações  -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qüencia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mplo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disquetes, discos rígidos e fitas magnéticas (de carretel ou de cartucho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E07F-9496-44C7-9655-2399D778C4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/>
          </p:nvPr>
        </p:nvSpPr>
        <p:spPr>
          <a:xfrm>
            <a:off x="324000" y="1294920"/>
            <a:ext cx="8496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emória de um computado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subsistema - construída de vários componentes (vários tipos diferentes de memória) interligados e integrados, com o objetivo de armazenar e recuperar informaçõe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onceitos Important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mpo de acess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apacidade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olatilidade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cnologia de fabricaçã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mporariedade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ust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C7D0-D64D-4DD2-B143-75A2048CD8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"/>
          <p:cNvSpPr/>
          <p:nvPr/>
        </p:nvSpPr>
        <p:spPr>
          <a:xfrm>
            <a:off x="380880" y="1658880"/>
            <a:ext cx="861084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mórias de meio óp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spositivos que utilizam um feixe de luz para “marcar” o valor (0 ou 1) de cada dado em sua superfíci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mplo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683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D-ROM (leitur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683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D-RW (leitura e escrit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F0C9-2DC8-43F3-9522-3B475CF15D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"/>
          <p:cNvSpPr/>
          <p:nvPr/>
        </p:nvSpPr>
        <p:spPr>
          <a:xfrm>
            <a:off x="495360" y="1428840"/>
            <a:ext cx="832464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Temporarie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dica o conceito de tempo de permanência da informação em um dado tipo de memór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lassificação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rmazenamento “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permanent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”.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x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: Discos, disquet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rmazenamento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transitóri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temporário).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x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: registradores, memória cache, memória princip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27F8-5F3A-4B58-B020-8ECE0510CD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"/>
          <p:cNvSpPr/>
          <p:nvPr/>
        </p:nvSpPr>
        <p:spPr>
          <a:xfrm>
            <a:off x="390600" y="1390680"/>
            <a:ext cx="83628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us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astante variado em função de diversos fator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ecnologia de fabric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iclo de memó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antidade de bits em um certo espaço físico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ma boa unidade de medida de custo é o preço por byte armazenado, em vez do custo total da memória em si.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3A1D-6A0E-46AF-B634-1B14054855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/>
          </p:nvPr>
        </p:nvSpPr>
        <p:spPr>
          <a:xfrm>
            <a:off x="361440" y="1600200"/>
            <a:ext cx="836316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Tempo de acess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Indica quanto tempo a memória gasta para colocar uma informação no barramento de dados após uma determinada posição ter sido endereçada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É um dos parâmetros que pode medir o desempenho da memória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Denominação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: tempo de acesso para leitura (ou tempo de leitura)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33F4-C2DB-4D14-BA42-2A5F5D3DA1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/>
          </p:nvPr>
        </p:nvSpPr>
        <p:spPr>
          <a:xfrm>
            <a:off x="409680" y="1504440"/>
            <a:ext cx="8324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mpo de acess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pendente do modo como o sistema de memória é construído e da velocidade dos seus circuito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emórias eletrônica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-  igual, independentemente da distância física entre o local de um acesso e o local do próximo acesso 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esso aleatório (direto)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spositivos eletromecânico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discos, fitas, ..) - tempo de acesso varia conforme a distância física entre dois acessos consecutivos 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esso seqüencia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1A60-6799-4DE8-A382-0558B6E8E0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/>
          </p:nvPr>
        </p:nvSpPr>
        <p:spPr>
          <a:xfrm>
            <a:off x="285480" y="1447920"/>
            <a:ext cx="859140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apacidad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Quantidade de informação que pode ser armazenada em uma memória;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nidade de medida mais comum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byt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podem ser usadas outras unidades como células (no caso de memória principal ou cache),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tores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no caso de discos) e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it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no caso de registradores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pendendo do tamanho da memória, isto é, de sua capacidade, indica-se o valor numérico total de elementos de forma simplificada, através da inclusão de K (kilo), M (mega), G (giga) ou T (tera).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7964-E018-41F4-97F5-96D38E565F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/>
          </p:nvPr>
        </p:nvSpPr>
        <p:spPr>
          <a:xfrm>
            <a:off x="514440" y="1523520"/>
            <a:ext cx="819144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olatilidad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emórias podem ser do tipo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oláti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u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 voláti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mória não voláti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- retém a informação armazenada quando a energia elétrica é desligada.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Discos, Fita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mória voláti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- perde a informação armazenada na ausência de energia elétrica.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Registradores, Memória Principal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É possível manter a energia em  uma memória originalmente não volátil - uso de baterias.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21DA-12F8-4DD5-B274-FC81073D43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"/>
          <p:cNvSpPr/>
          <p:nvPr/>
        </p:nvSpPr>
        <p:spPr>
          <a:xfrm>
            <a:off x="399960" y="1714680"/>
            <a:ext cx="731520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Tecnologias de fabr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Memórias de semicondut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Memórias de meio magnétic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Memórias de meio óptic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46C3-D753-4DBB-96B6-B7B0EB9278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"/>
          <p:cNvSpPr/>
          <p:nvPr/>
        </p:nvSpPr>
        <p:spPr>
          <a:xfrm>
            <a:off x="399960" y="1417680"/>
            <a:ext cx="834408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Memórias de semicondut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spositivos fabricados com circuitos eletrônicos e baseados em semicondutore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ápidas e relativamente caras, se comparadas com outros tip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á várias tecnologias específicas, cada uma com suas vantagens, desvantagens, velocidade, custo, etc.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1661-C841-47AE-98B6-1903A5B4E4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lassificação de Memórias Semicondutora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3819" name=""/>
          <p:cNvGrpSpPr/>
          <p:nvPr/>
        </p:nvGrpSpPr>
        <p:grpSpPr>
          <a:xfrm>
            <a:off x="953640" y="1790640"/>
            <a:ext cx="7292520" cy="4591800"/>
            <a:chOff x="953640" y="1790640"/>
            <a:chExt cx="7292520" cy="4591800"/>
          </a:xfrm>
        </p:grpSpPr>
        <p:sp>
          <p:nvSpPr>
            <p:cNvPr id="3820" name=""/>
            <p:cNvSpPr/>
            <p:nvPr/>
          </p:nvSpPr>
          <p:spPr>
            <a:xfrm>
              <a:off x="953640" y="407664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RA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097000" y="2552400"/>
              <a:ext cx="2721240" cy="32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L/E - Leitura/Escrit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(R/W - Read/Write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ROM (Somente Leitura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(Read Only Memory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298480" y="2095200"/>
              <a:ext cx="865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S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822000" y="2552400"/>
              <a:ext cx="142416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FPM 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EDO 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EDO 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S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R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373720" y="4762440"/>
              <a:ext cx="117144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E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EE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714680" y="2171520"/>
              <a:ext cx="228600" cy="4114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7280 h 4114800"/>
                <a:gd name="textAreaBottom" fmla="*/ 4007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4915080" y="1790640"/>
              <a:ext cx="228600" cy="2286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438960" y="247644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067360" y="4609800"/>
              <a:ext cx="228600" cy="17528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A6CA-15B3-404C-8FD2-F9F9D57206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Joseana Macedo Fechine</cp:lastModifiedBy>
  <dcterms:modified xsi:type="dcterms:W3CDTF">2005-03-08T21:33:11Z</dcterms:modified>
  <cp:revision>1023</cp:revision>
  <dc:subject/>
  <dc:title>Org. e Arq. de Computadores</dc:title>
</cp:coreProperties>
</file>