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B406-43E7-4AE2-B86B-481BA7E32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C423-DC6F-4E4D-A7FF-61F443AFB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BAF9-DFEB-4D66-9A57-3EE0D59CD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71D5-C5EB-402B-845A-58365F370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B9C6-8AC2-4168-BFB2-04144C51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C128E-DDE6-4C27-A998-72434970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87E6-D12B-4468-8639-B60DA07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7319F-C52F-4064-9EE2-886E761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9F3E-F7C8-4685-8057-C0151E48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FBCBE-0F2E-408A-AB02-E65F61C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D376-4D51-49ED-BAD9-CEF4FAF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BC58-067E-4CAF-BFB2-1AAB102AC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D1095-2723-4D3C-B2D0-A52C6215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E9601-1856-4485-BC70-AA9353C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9D54F-17DF-4B4E-A973-D16B2CE6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B14DE-4984-4A1D-95F1-526E15A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39D71-5AEB-4F34-87DE-DDBEC2F9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8891-4F1B-4DC5-84BF-FFB4D95F0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0EDB-0576-49E7-AD5E-30C2948A5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7AC3-60C5-4F23-96F4-39A981230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C47F-90E0-48B9-8944-F3715001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62BB-996E-4B72-83A4-ECCDFA194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8C83-5376-4EFD-B6C1-60F38702E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EE1A-1406-4F42-B3EC-4AC22280E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FE07-C893-4B23-B1B8-0A9729EA8F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D47A-8364-4E6F-B601-286948F547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484280" y="23986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Somador Comple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446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79760" y="5218200"/>
            <a:ext cx="2743200" cy="1569960"/>
            <a:chOff x="4379760" y="5218200"/>
            <a:chExt cx="2743200" cy="1569960"/>
          </a:xfrm>
        </p:grpSpPr>
        <p:pic>
          <p:nvPicPr>
            <p:cNvPr id="217" name="somadorcompletobloco" descr=""/>
            <p:cNvPicPr/>
            <p:nvPr/>
          </p:nvPicPr>
          <p:blipFill>
            <a:blip r:embed="rId1"/>
            <a:stretch/>
          </p:blipFill>
          <p:spPr>
            <a:xfrm>
              <a:off x="4379760" y="5218200"/>
              <a:ext cx="2743200" cy="1569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979960" y="6284880"/>
                  <a:ext cx="30456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217840" y="636120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27480" y="1700280"/>
            <a:ext cx="3733920" cy="339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9B9F-19E0-4624-B1E6-A2B697734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ndo-se os blocos do meio somador e do somador completo em série, pode-se obter somadores de vários bit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mador de 2 números de m bits (m=n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6021360"/>
            <a:ext cx="712944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circuito também pode ser implementado apenas com somadores compl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35280" y="3068640"/>
            <a:ext cx="6705360" cy="2693880"/>
            <a:chOff x="1835280" y="3068640"/>
            <a:chExt cx="6705360" cy="2693880"/>
          </a:xfrm>
        </p:grpSpPr>
        <p:pic>
          <p:nvPicPr>
            <p:cNvPr id="224" name="somadorcompleobn+1" descr=""/>
            <p:cNvPicPr/>
            <p:nvPr/>
          </p:nvPicPr>
          <p:blipFill>
            <a:blip r:embed="rId1"/>
            <a:stretch/>
          </p:blipFill>
          <p:spPr>
            <a:xfrm>
              <a:off x="1835280" y="3068640"/>
              <a:ext cx="6705360" cy="2693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78376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846600" y="4657320"/>
                  <a:ext cx="29772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8396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57188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57976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440208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37956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03A5-A4E3-4A7F-AB96-F502E4FBD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6564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ara somar dois números, soma-se os algarismos dos números, coluna a coluna, transportando o "vai um" para a próxima coluna, quando for o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çã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oma em complemento  (A - B = A + ( - B)) - No computador, a subtração é feita através de uma soma em comp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çã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ode ser obtida de duas formas: por somas sucessivas (por exemplo, A + A = 2A) e pela movimentação de bits (para a esquerd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esmas propriedades da multiplicação, aplicadas no sentido contr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5954760"/>
            <a:ext cx="7543800" cy="703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computador pode realizar todas as operações aritméticas usando apenas soma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2D26-ABAB-4327-BE6A-45156CECEC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Penguin"/>
              </a:rPr>
              <a:t>Unidade Lógica e Aritmé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os computadores tem um único circuito para realizar as operações AND, OR e soma, operações essas que são realizadas sobre duas palavras d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geral, esse circuito que trabalha com palavr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bits é construído a parti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ircuitos idênticos, cada um responsável por uma posição individual de bits – Unidade Lógica e Aritmética ou Unidade Aritmética Lógica (ULA ou U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F04F-EE03-4ED1-A6C8-4069A21CF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334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ULA" descr=""/>
          <p:cNvPicPr/>
          <p:nvPr/>
        </p:nvPicPr>
        <p:blipFill>
          <a:blip r:embed="rId1"/>
          <a:stretch/>
        </p:blipFill>
        <p:spPr>
          <a:xfrm>
            <a:off x="1351080" y="285840"/>
            <a:ext cx="6873840" cy="6019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59280" y="6345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AL de 1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3B5B-46CE-4A09-B1E9-E4202CDA2E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58920" y="1916280"/>
            <a:ext cx="7812000" cy="1871640"/>
            <a:chOff x="1258920" y="1916280"/>
            <a:chExt cx="7812000" cy="187164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258920" y="1916280"/>
              <a:ext cx="7812000" cy="18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3" name=""/>
            <p:cNvSpPr/>
            <p:nvPr/>
          </p:nvSpPr>
          <p:spPr>
            <a:xfrm>
              <a:off x="1977840" y="2853000"/>
              <a:ext cx="50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09800" y="2853000"/>
              <a:ext cx="50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1760" y="2853000"/>
              <a:ext cx="507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PlaceHolder 1"/>
            <p:cNvSpPr>
              <a:spLocks noGrp="1"/>
            </p:cNvSpPr>
            <p:nvPr>
              <p:ph/>
            </p:nvPr>
          </p:nvSpPr>
          <p:spPr>
            <a:xfrm>
              <a:off x="1977840" y="2924280"/>
              <a:ext cx="433440" cy="36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txBody>
            <a:bodyPr anchor="t">
              <a:normAutofit fontScale="96000"/>
            </a:bodyPr>
            <a:p>
              <a:pPr marL="32904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11320" y="2943360"/>
              <a:ext cx="4082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3280" y="2943360"/>
              <a:ext cx="4064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2962440"/>
              <a:ext cx="407880" cy="36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22680" y="2980080"/>
              <a:ext cx="408240" cy="365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37360" y="2999160"/>
              <a:ext cx="407880" cy="36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8960" y="2980080"/>
              <a:ext cx="406440" cy="365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34400" y="3016440"/>
              <a:ext cx="4064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74560" y="2061000"/>
              <a:ext cx="40644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3280" y="2348280"/>
              <a:ext cx="441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5560" y="2433960"/>
              <a:ext cx="1364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022480" y="10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4149720"/>
            <a:ext cx="762948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ito UALs de 1 bit, conectadas para formar uma UAL de 8 bits. Não estão apresentados os sinais de inversão e de habil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5516640"/>
            <a:ext cx="7450200" cy="916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sinal INC tem utilidade nas operações de soma. Quando presente incrementa o resultado de 1 unidade, tornando possível o cálculo de somas como A+1 e A+B+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EED2-D398-44E6-B1FF-BC40E1798E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Funç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remento e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plicação e Divisão p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plicação por um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enchimento com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4F46-0072-4155-BA04-8A390D194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Circuitos Lógicos Combinacionais (Circuitos Aritmé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Lógica e Aritm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0DE7-FBE6-45E5-ABC2-D4DEFD322D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nguin"/>
              </a:rPr>
              <a:t>Deslo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sibilitam deslocamentos, para a esquerda ou para a direita, de um número binári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85" r="0" b="0"/>
          <a:stretch/>
        </p:blipFill>
        <p:spPr>
          <a:xfrm>
            <a:off x="1252440" y="2997360"/>
            <a:ext cx="77835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F8B0-D0DA-46EE-A37D-73E1EE48E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43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dor de 1 bit para a esquerda/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s: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ída (entrada deslocada de um bit):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ha de controle: C – determina a direção do deslocamento (0 – para a esquerda, 1 – para a dire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6450-4C1E-4EC4-947E-9DA4D7728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292720" y="4005360"/>
            <a:ext cx="312408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32000" y="1988640"/>
            <a:ext cx="7619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nguin"/>
                <a:ea typeface="Arial"/>
              </a:rPr>
              <a:t>Somadores Binários</a:t>
            </a: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35640" y="4365720"/>
                <a:ext cx="27446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51640" y="5229360"/>
            <a:ext cx="2438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4221000"/>
            <a:ext cx="457200" cy="1676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3068640"/>
            <a:ext cx="4267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madores  gené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eio somador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lf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somador comple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ull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4221000"/>
            <a:ext cx="533160" cy="1676520"/>
          </a:xfrm>
          <a:prstGeom prst="ellipse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21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de dois números (A e B) de n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B190-B28E-42D9-80AA-F89CA96016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io S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86440" y="328464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e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18200" y="4199040"/>
                <a:ext cx="29401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36560" y="4122720"/>
            <a:ext cx="342900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118F-DC08-49B8-95A3-767487DBB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5509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Meio Somad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1880" y="5446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88000" y="5222880"/>
            <a:ext cx="2666880" cy="1519200"/>
            <a:chOff x="4788000" y="5222880"/>
            <a:chExt cx="2666880" cy="1519200"/>
          </a:xfrm>
        </p:grpSpPr>
        <p:pic>
          <p:nvPicPr>
            <p:cNvPr id="124" name="meiosomadorbloco" descr=""/>
            <p:cNvPicPr/>
            <p:nvPr/>
          </p:nvPicPr>
          <p:blipFill>
            <a:blip r:embed="rId1"/>
            <a:stretch/>
          </p:blipFill>
          <p:spPr>
            <a:xfrm>
              <a:off x="4788000" y="5222880"/>
              <a:ext cx="2666880" cy="1519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388200" y="6213600"/>
                  <a:ext cx="30456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6480" y="1712880"/>
            <a:ext cx="4168800" cy="33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D534-8C28-4C22-A4EF-463B6CA60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io S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2708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implementação (portas NAN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35280" y="4005360"/>
            <a:ext cx="2134800" cy="849240"/>
            <a:chOff x="1835280" y="4005360"/>
            <a:chExt cx="2134800" cy="849240"/>
          </a:xfrm>
        </p:grpSpPr>
        <p:sp>
          <p:nvSpPr>
            <p:cNvPr id="131" name=""/>
            <p:cNvSpPr/>
            <p:nvPr/>
          </p:nvSpPr>
          <p:spPr>
            <a:xfrm>
              <a:off x="2603880" y="4502160"/>
              <a:ext cx="690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72120" y="4442040"/>
              <a:ext cx="9525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8120" y="4427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9160" y="4427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0320" y="44276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340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6400" y="40449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52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196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1920" y="40449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5280" y="40449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0120" y="449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9440" y="44960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8640" y="44960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2720" y="449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0280" y="4464360"/>
              <a:ext cx="16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4800" y="4388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1520" y="400536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7400" y="400536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77560" y="40053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502520" y="3573360"/>
            <a:ext cx="4116960" cy="1983600"/>
            <a:chOff x="4502520" y="3573360"/>
            <a:chExt cx="4116960" cy="1983600"/>
          </a:xfrm>
        </p:grpSpPr>
        <p:grpSp>
          <p:nvGrpSpPr>
            <p:cNvPr id="152" name=""/>
            <p:cNvGrpSpPr/>
            <p:nvPr/>
          </p:nvGrpSpPr>
          <p:grpSpPr>
            <a:xfrm>
              <a:off x="7572240" y="3605040"/>
              <a:ext cx="396000" cy="384120"/>
              <a:chOff x="7572240" y="3605040"/>
              <a:chExt cx="396000" cy="384120"/>
            </a:xfrm>
          </p:grpSpPr>
          <p:sp>
            <p:nvSpPr>
              <p:cNvPr id="153" name=""/>
              <p:cNvSpPr/>
              <p:nvPr/>
            </p:nvSpPr>
            <p:spPr>
              <a:xfrm rot="5400000">
                <a:off x="7533720" y="3643200"/>
                <a:ext cx="384120" cy="30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2280" y="375912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310000" y="4495680"/>
              <a:ext cx="650160" cy="460440"/>
              <a:chOff x="5310000" y="4495680"/>
              <a:chExt cx="650160" cy="460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310000" y="4495680"/>
                <a:ext cx="566280" cy="460440"/>
              </a:xfrm>
              <a:prstGeom prst="flowChartDelay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78080" y="4686120"/>
                <a:ext cx="82080" cy="82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414840" y="4025880"/>
              <a:ext cx="650160" cy="1400040"/>
              <a:chOff x="6414840" y="4025880"/>
              <a:chExt cx="650160" cy="1400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414840" y="4025880"/>
                <a:ext cx="650160" cy="460080"/>
                <a:chOff x="6414840" y="4025880"/>
                <a:chExt cx="650160" cy="460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414840" y="4025880"/>
                  <a:ext cx="566280" cy="460080"/>
                </a:xfrm>
                <a:prstGeom prst="flowChartDelay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82920" y="4215960"/>
                  <a:ext cx="82080" cy="82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414840" y="4965480"/>
                <a:ext cx="650160" cy="460440"/>
                <a:chOff x="6414840" y="4965480"/>
                <a:chExt cx="650160" cy="460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414840" y="4965480"/>
                  <a:ext cx="566280" cy="460440"/>
                </a:xfrm>
                <a:prstGeom prst="flowChartDelay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82920" y="5155920"/>
                  <a:ext cx="82080" cy="82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313400" y="4495680"/>
              <a:ext cx="650160" cy="460440"/>
              <a:chOff x="7313400" y="4495680"/>
              <a:chExt cx="650160" cy="460440"/>
            </a:xfrm>
          </p:grpSpPr>
          <p:sp>
            <p:nvSpPr>
              <p:cNvPr id="166" name=""/>
              <p:cNvSpPr/>
              <p:nvPr/>
            </p:nvSpPr>
            <p:spPr>
              <a:xfrm>
                <a:off x="7313400" y="4495680"/>
                <a:ext cx="566280" cy="460440"/>
              </a:xfrm>
              <a:prstGeom prst="flowChartDelay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81480" y="4686120"/>
                <a:ext cx="82080" cy="82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068960" y="4244760"/>
              <a:ext cx="232560" cy="347760"/>
              <a:chOff x="7068960" y="4244760"/>
              <a:chExt cx="232560" cy="3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068960" y="424476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82720" y="459252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87760" y="42447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083360" y="4849560"/>
              <a:ext cx="232560" cy="347760"/>
              <a:chOff x="7083360" y="4849560"/>
              <a:chExt cx="232560" cy="347760"/>
            </a:xfrm>
          </p:grpSpPr>
          <p:sp>
            <p:nvSpPr>
              <p:cNvPr id="173" name=""/>
              <p:cNvSpPr/>
              <p:nvPr/>
            </p:nvSpPr>
            <p:spPr>
              <a:xfrm>
                <a:off x="7083360" y="519732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97120" y="484956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202160" y="48495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173640" y="4735440"/>
              <a:ext cx="232560" cy="347760"/>
              <a:chOff x="6173640" y="4735440"/>
              <a:chExt cx="232560" cy="347760"/>
            </a:xfrm>
          </p:grpSpPr>
          <p:sp>
            <p:nvSpPr>
              <p:cNvPr id="177" name=""/>
              <p:cNvSpPr/>
              <p:nvPr/>
            </p:nvSpPr>
            <p:spPr>
              <a:xfrm>
                <a:off x="6173640" y="473544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87400" y="508320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92440" y="473544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173640" y="4387680"/>
              <a:ext cx="232560" cy="347760"/>
              <a:chOff x="6173640" y="4387680"/>
              <a:chExt cx="232560" cy="347760"/>
            </a:xfrm>
          </p:grpSpPr>
          <p:sp>
            <p:nvSpPr>
              <p:cNvPr id="181" name=""/>
              <p:cNvSpPr/>
              <p:nvPr/>
            </p:nvSpPr>
            <p:spPr>
              <a:xfrm>
                <a:off x="6173640" y="473544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87400" y="438768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292440" y="43876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5958720" y="4735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292440" y="378756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287760" y="37875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78680" y="3797280"/>
              <a:ext cx="29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3640" y="4725720"/>
              <a:ext cx="29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44880" y="4116240"/>
              <a:ext cx="15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5306760"/>
              <a:ext cx="15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025960" y="4116240"/>
              <a:ext cx="284760" cy="475920"/>
              <a:chOff x="5025960" y="4116240"/>
              <a:chExt cx="284760" cy="475920"/>
            </a:xfrm>
          </p:grpSpPr>
          <p:sp>
            <p:nvSpPr>
              <p:cNvPr id="192" name=""/>
              <p:cNvSpPr/>
              <p:nvPr/>
            </p:nvSpPr>
            <p:spPr>
              <a:xfrm>
                <a:off x="5025960" y="4116240"/>
                <a:ext cx="14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65280" y="4592160"/>
                <a:ext cx="14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71400" y="411624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020920" y="4854960"/>
              <a:ext cx="280440" cy="451800"/>
              <a:chOff x="5020920" y="4854960"/>
              <a:chExt cx="280440" cy="451800"/>
            </a:xfrm>
          </p:grpSpPr>
          <p:sp>
            <p:nvSpPr>
              <p:cNvPr id="196" name=""/>
              <p:cNvSpPr/>
              <p:nvPr/>
            </p:nvSpPr>
            <p:spPr>
              <a:xfrm>
                <a:off x="5020920" y="5306760"/>
                <a:ext cx="1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58080" y="4854960"/>
                <a:ext cx="1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164200" y="4854960"/>
                <a:ext cx="0" cy="45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141520" y="4087800"/>
              <a:ext cx="55440" cy="568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60760" y="4354200"/>
              <a:ext cx="55440" cy="57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0760" y="4706640"/>
              <a:ext cx="55440" cy="57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2160" y="5273640"/>
              <a:ext cx="55080" cy="568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2520" y="389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02520" y="5097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36080" y="35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36080" y="450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ECE3-1B45-488C-843A-9BE7B58B7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dor 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00480" y="278136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 e  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829480" y="3695760"/>
                <a:ext cx="28908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Ci                    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C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 Ci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657600" cy="2532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753160" y="4229280"/>
            <a:ext cx="3066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322A-9FEB-464F-87F3-2E087405D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9-04-29T01:05:40Z</dcterms:modified>
  <cp:revision>190</cp:revision>
  <dc:subject/>
  <dc:title>Organização e Arquitetura de Computadores I</dc:title>
</cp:coreProperties>
</file>