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1.png" ContentType="image/png"/>
  <Override PartName="/ppt/media/image10.wmf" ContentType="image/x-wmf"/>
  <Override PartName="/ppt/media/image18.wmf" ContentType="image/x-wmf"/>
  <Override PartName="/ppt/media/image17.png" ContentType="image/png"/>
  <Override PartName="/ppt/media/image4.wmf" ContentType="image/x-wmf"/>
  <Override PartName="/ppt/media/image2.wmf" ContentType="image/x-wmf"/>
  <Override PartName="/ppt/media/image3.wmf" ContentType="image/x-wmf"/>
  <Override PartName="/ppt/media/image6.jpeg" ContentType="image/jpeg"/>
  <Override PartName="/ppt/media/image16.wmf" ContentType="image/x-wmf"/>
  <Override PartName="/ppt/media/image8.png" ContentType="image/png"/>
  <Override PartName="/ppt/media/image12.wmf" ContentType="image/x-wmf"/>
  <Override PartName="/ppt/media/image1.jpeg" ContentType="image/jpeg"/>
  <Override PartName="/ppt/media/image15.wmf" ContentType="image/x-wmf"/>
  <Override PartName="/ppt/media/image7.png" ContentType="image/png"/>
  <Override PartName="/ppt/media/image9.wmf" ContentType="image/x-wmf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37B1E-04F1-4066-A5BB-C35A579403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B79B9-2D58-43EF-A84B-3C08B91881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0C4ED-41D5-4500-8A94-329DC05F8F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96000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1672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40328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96000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1672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BF226-EA5F-430A-A2D9-17EDBFBC60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FB0412-4EFA-4EFF-8C4E-7DA85A07A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E8AF59-1081-4AD3-A8F9-DB69F786D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262BF5-A2EF-443A-B8D1-DD451BD35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B98BE2-C019-4810-B386-4E4CF6290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836A48-5113-4503-AC5E-6E3AE94E2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219320" y="18864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692529-C6A1-44CA-A383-40B6D48AA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7D1F91-93B5-4731-97D7-4488599C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2E8D3-DBB4-4287-962A-BC2BFAA5BA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8DADDD-18DC-4CB5-AC71-2C1C71B1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2B465B-073F-40AB-AA09-E1C0F205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2A3041-8C86-4EFC-AD53-F1E66D174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A30F96-EF0E-49A0-9E48-D9B82E55B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6000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1672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0328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96000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51672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3C4A77-EC53-4094-BF2F-BDE5A8221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A2AA2-7FA1-44E0-A30F-EBDB4668A0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0E431-0847-4F31-B748-55E6F9F3B9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692EB-A845-472B-8129-042A8C702F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19320" y="18864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F742C-754D-48BE-BF25-B1AB6C6346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3DFF1-561A-458C-B5A0-4E613F0212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35CF1-47BC-484C-B7F7-602EF90044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0964B-8C62-4F37-93D8-86F129F37C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143000" y="1557360"/>
            <a:ext cx="8001000" cy="0"/>
          </a:xfrm>
          <a:prstGeom prst="line">
            <a:avLst/>
          </a:prstGeom>
          <a:ln cap="sq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87280" cy="688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B8A72-5C5C-47EA-95D7-BBE99C4F8E6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50920" y="6165360"/>
            <a:ext cx="647640" cy="576360"/>
            <a:chOff x="250920" y="6165360"/>
            <a:chExt cx="647640" cy="576360"/>
          </a:xfrm>
        </p:grpSpPr>
        <p:sp>
          <p:nvSpPr>
            <p:cNvPr id="6" name=""/>
            <p:cNvSpPr/>
            <p:nvPr/>
          </p:nvSpPr>
          <p:spPr>
            <a:xfrm>
              <a:off x="250920" y="6627240"/>
              <a:ext cx="647640" cy="1144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0000"/>
                  </a:solidFill>
                  <a:latin typeface="Humanst521 BT"/>
                </a:rPr>
                <a:t>DSC/CEEI/UFC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13000" y="634788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flipV="1">
              <a:off x="281520" y="6165000"/>
              <a:ext cx="35172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15160" y="635652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282600" y="6173640"/>
              <a:ext cx="35388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92080" y="3141720"/>
            <a:ext cx="8001000" cy="0"/>
          </a:xfrm>
          <a:prstGeom prst="line">
            <a:avLst/>
          </a:prstGeom>
          <a:ln cap="sq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63640" cy="6885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14400" y="141300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3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518CE-E90E-4353-9010-14A3329EBBF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39640" y="6165360"/>
            <a:ext cx="647640" cy="576360"/>
            <a:chOff x="539640" y="6165360"/>
            <a:chExt cx="647640" cy="576360"/>
          </a:xfrm>
        </p:grpSpPr>
        <p:sp>
          <p:nvSpPr>
            <p:cNvPr id="54" name=""/>
            <p:cNvSpPr/>
            <p:nvPr/>
          </p:nvSpPr>
          <p:spPr>
            <a:xfrm>
              <a:off x="539640" y="6627240"/>
              <a:ext cx="647640" cy="1144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0000"/>
                  </a:solidFill>
                  <a:latin typeface="Humanst521 BT"/>
                </a:rPr>
                <a:t>DSC/CEEI/UFC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01720" y="634788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 flipV="1">
              <a:off x="570240" y="6165000"/>
              <a:ext cx="35172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03880" y="635652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571320" y="6173640"/>
              <a:ext cx="35388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763640" y="115920"/>
            <a:ext cx="7129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834920" y="34999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Circuitos Lógicos Combinaciona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(Parte II)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Prof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Verdan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908000" y="141300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Organização e Arquitetura </a:t>
            </a:r>
            <a:br>
              <a:rPr sz="3200"/>
            </a:b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de Computadores 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1407960" y="1860120"/>
            <a:ext cx="73915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codificadores e Codificadores – outras aplic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Uma grande parte dos sistemas digitais trabalha com níveis lógicos representando informações que, portanto, devem ser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codificada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Devido à grande diversidade de informações e ao desenvolvimento da eletrônica digital, vários códigos foram criados (Código Gray, Código 2 em 5, Código em Anel, Código para acionamento de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display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, etc.) e, conseqüentemente, vários circuitos se fizeram necessários para a codificação e decodificação destas informaçõ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1407960" y="260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Combinaciona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02176-E5FE-4B16-95A9-D6A83F9A59E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258920" y="1636560"/>
            <a:ext cx="7696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emplo: Decodificador BCD - Display de 7 segment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335240" y="2322360"/>
            <a:ext cx="7315200" cy="4419360"/>
            <a:chOff x="1335240" y="2322360"/>
            <a:chExt cx="7315200" cy="4419360"/>
          </a:xfrm>
        </p:grpSpPr>
        <p:sp>
          <p:nvSpPr>
            <p:cNvPr id="236" name=""/>
            <p:cNvSpPr/>
            <p:nvPr/>
          </p:nvSpPr>
          <p:spPr>
            <a:xfrm>
              <a:off x="1335240" y="2322360"/>
              <a:ext cx="7315200" cy="44193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7" name=""/>
            <p:cNvGraphicFramePr/>
            <p:nvPr/>
          </p:nvGraphicFramePr>
          <p:xfrm>
            <a:off x="2783160" y="2550960"/>
            <a:ext cx="4267080" cy="6858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3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83160" y="2550960"/>
                      <a:ext cx="426708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39" name="tab2" descr=""/>
            <p:cNvPicPr/>
            <p:nvPr/>
          </p:nvPicPr>
          <p:blipFill>
            <a:blip r:embed="rId3">
              <a:lum contrast="18000"/>
            </a:blip>
            <a:srcRect l="0" t="0" r="0" b="84502"/>
            <a:stretch/>
          </p:blipFill>
          <p:spPr>
            <a:xfrm>
              <a:off x="1945080" y="5675040"/>
              <a:ext cx="5391000" cy="8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4"/>
            <a:stretch/>
          </p:blipFill>
          <p:spPr>
            <a:xfrm>
              <a:off x="7050240" y="3693960"/>
              <a:ext cx="1257480" cy="153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" descr=""/>
            <p:cNvPicPr/>
            <p:nvPr/>
          </p:nvPicPr>
          <p:blipFill>
            <a:blip r:embed="rId5"/>
            <a:stretch/>
          </p:blipFill>
          <p:spPr>
            <a:xfrm>
              <a:off x="1716480" y="3389040"/>
              <a:ext cx="5398920" cy="2219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112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Combinaciona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93944-4CA2-476A-86B3-2CFE10E398A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"/>
          <p:cNvGrpSpPr/>
          <p:nvPr/>
        </p:nvGrpSpPr>
        <p:grpSpPr>
          <a:xfrm>
            <a:off x="4925880" y="266760"/>
            <a:ext cx="4038480" cy="6347880"/>
            <a:chOff x="4925880" y="266760"/>
            <a:chExt cx="4038480" cy="6347880"/>
          </a:xfrm>
        </p:grpSpPr>
        <p:sp>
          <p:nvSpPr>
            <p:cNvPr id="244" name=""/>
            <p:cNvSpPr/>
            <p:nvPr/>
          </p:nvSpPr>
          <p:spPr>
            <a:xfrm>
              <a:off x="4925880" y="266760"/>
              <a:ext cx="4038480" cy="63244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5" name="" descr=""/>
            <p:cNvPicPr/>
            <p:nvPr/>
          </p:nvPicPr>
          <p:blipFill>
            <a:blip r:embed="rId1"/>
            <a:srcRect l="0" t="0" r="23188" b="0"/>
            <a:stretch/>
          </p:blipFill>
          <p:spPr>
            <a:xfrm>
              <a:off x="4925880" y="317160"/>
              <a:ext cx="4038480" cy="6297480"/>
            </a:xfrm>
            <a:prstGeom prst="rect">
              <a:avLst/>
            </a:prstGeom>
            <a:ln cap="sq" w="12600">
              <a:solidFill>
                <a:srgbClr val="000000"/>
              </a:solidFill>
              <a:miter/>
            </a:ln>
          </p:spPr>
        </p:pic>
      </p:grpSp>
      <p:sp>
        <p:nvSpPr>
          <p:cNvPr id="246" name=""/>
          <p:cNvSpPr/>
          <p:nvPr/>
        </p:nvSpPr>
        <p:spPr>
          <a:xfrm>
            <a:off x="925560" y="1371600"/>
            <a:ext cx="3924360" cy="4591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rcRect l="23680" t="0" r="22670" b="0"/>
          <a:stretch/>
        </p:blipFill>
        <p:spPr>
          <a:xfrm>
            <a:off x="1001880" y="1523880"/>
            <a:ext cx="3951000" cy="45910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1547640" y="333360"/>
            <a:ext cx="26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ela-verdade e circuito 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344600" y="6172200"/>
            <a:ext cx="3371760" cy="3988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s.: A=w, B=x, C=y, D=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2449440" y="1523520"/>
            <a:ext cx="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B4208-CD17-45D2-BFF8-DFB482A2E54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Combinaciona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mplo: Código Gray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Código Biná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2268360" y="2492280"/>
            <a:ext cx="3168360" cy="3746160"/>
            <a:chOff x="2268360" y="2492280"/>
            <a:chExt cx="3168360" cy="3746160"/>
          </a:xfrm>
        </p:grpSpPr>
        <p:sp>
          <p:nvSpPr>
            <p:cNvPr id="254" name=""/>
            <p:cNvSpPr/>
            <p:nvPr/>
          </p:nvSpPr>
          <p:spPr>
            <a:xfrm>
              <a:off x="2649240" y="2526840"/>
              <a:ext cx="678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ra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588040" y="2888280"/>
              <a:ext cx="794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 B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104720" y="2526840"/>
              <a:ext cx="983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inár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272120" y="2888280"/>
              <a:ext cx="794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imes New Roman"/>
                </a:rPr>
                <a:t>X Y 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268360" y="2492280"/>
              <a:ext cx="19080" cy="19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268360" y="249228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268360" y="2492280"/>
              <a:ext cx="1440" cy="19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268360" y="2492280"/>
              <a:ext cx="19080" cy="19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268360" y="249228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8360" y="2492280"/>
              <a:ext cx="1440" cy="19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287440" y="2492280"/>
              <a:ext cx="1479600" cy="19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287440" y="2492280"/>
              <a:ext cx="147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786120" y="2492280"/>
              <a:ext cx="1631160" cy="19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786120" y="2492280"/>
              <a:ext cx="1631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17640" y="2492280"/>
              <a:ext cx="19080" cy="19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7640" y="249228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417640" y="2492280"/>
              <a:ext cx="1800" cy="19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417640" y="2492280"/>
              <a:ext cx="19080" cy="19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17640" y="249228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17640" y="2492280"/>
              <a:ext cx="1800" cy="19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268360" y="2512080"/>
              <a:ext cx="19080" cy="72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68360" y="2512080"/>
              <a:ext cx="1440" cy="72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417640" y="2512080"/>
              <a:ext cx="19080" cy="72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417640" y="2512080"/>
              <a:ext cx="1800" cy="72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690640" y="3261600"/>
              <a:ext cx="229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941560" y="3261600"/>
              <a:ext cx="229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192120" y="326160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267800" y="3261600"/>
              <a:ext cx="229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18720" y="3261600"/>
              <a:ext cx="229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768200" y="326160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68360" y="3236760"/>
              <a:ext cx="1908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68360" y="323676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7440" y="3236760"/>
              <a:ext cx="147960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7440" y="3236760"/>
              <a:ext cx="147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776040" y="3236760"/>
              <a:ext cx="164124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776040" y="3236760"/>
              <a:ext cx="1641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417640" y="3236760"/>
              <a:ext cx="1908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417640" y="323676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268360" y="3246480"/>
              <a:ext cx="19080" cy="362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268360" y="3246480"/>
              <a:ext cx="1440" cy="36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417640" y="3246480"/>
              <a:ext cx="19080" cy="362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417640" y="3246480"/>
              <a:ext cx="1800" cy="36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690280" y="3634920"/>
              <a:ext cx="457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0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192120" y="363492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267800" y="3634920"/>
              <a:ext cx="229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519440" y="3634920"/>
              <a:ext cx="381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268360" y="3609720"/>
              <a:ext cx="19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287440" y="3609720"/>
              <a:ext cx="147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76040" y="3609720"/>
              <a:ext cx="1641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417640" y="3609720"/>
              <a:ext cx="19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268360" y="3619800"/>
              <a:ext cx="19080" cy="362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268360" y="3619800"/>
              <a:ext cx="1440" cy="36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417640" y="3619800"/>
              <a:ext cx="19080" cy="362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417640" y="3619800"/>
              <a:ext cx="1800" cy="36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90640" y="4007880"/>
              <a:ext cx="229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941200" y="4007880"/>
              <a:ext cx="381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268160" y="4007880"/>
              <a:ext cx="610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 1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268360" y="3983040"/>
              <a:ext cx="1908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268360" y="398304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287440" y="3983040"/>
              <a:ext cx="147960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287440" y="3983040"/>
              <a:ext cx="147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776040" y="3983040"/>
              <a:ext cx="164124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776040" y="3983040"/>
              <a:ext cx="1641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417640" y="3983040"/>
              <a:ext cx="1908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417640" y="398304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268360" y="3992760"/>
              <a:ext cx="19080" cy="36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268360" y="3992760"/>
              <a:ext cx="1440" cy="36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417640" y="3992760"/>
              <a:ext cx="19080" cy="36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417640" y="3992760"/>
              <a:ext cx="1800" cy="36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691000" y="4379040"/>
              <a:ext cx="610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 1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268520" y="4379040"/>
              <a:ext cx="457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 1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768200" y="437904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268360" y="4356360"/>
              <a:ext cx="1908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268360" y="435636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287440" y="4356360"/>
              <a:ext cx="147960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287440" y="4356360"/>
              <a:ext cx="147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776040" y="4356360"/>
              <a:ext cx="164124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776040" y="4356360"/>
              <a:ext cx="1641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417640" y="4356360"/>
              <a:ext cx="1908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417640" y="435636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268360" y="4366080"/>
              <a:ext cx="19080" cy="36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268360" y="4366080"/>
              <a:ext cx="1440" cy="36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417640" y="4366080"/>
              <a:ext cx="19080" cy="36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417640" y="4366080"/>
              <a:ext cx="1800" cy="36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690280" y="4752360"/>
              <a:ext cx="457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 1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192120" y="475236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268520" y="4752360"/>
              <a:ext cx="457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0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768200" y="475236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268360" y="4727880"/>
              <a:ext cx="1908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268360" y="472788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287440" y="4727880"/>
              <a:ext cx="147960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287440" y="4727880"/>
              <a:ext cx="147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76040" y="4727880"/>
              <a:ext cx="164124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776040" y="4727880"/>
              <a:ext cx="1641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417640" y="4727880"/>
              <a:ext cx="1908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417640" y="472788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68360" y="4737600"/>
              <a:ext cx="19080" cy="362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268360" y="4737600"/>
              <a:ext cx="1440" cy="36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417640" y="4737600"/>
              <a:ext cx="19080" cy="362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417640" y="4737600"/>
              <a:ext cx="1800" cy="36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690640" y="5125680"/>
              <a:ext cx="229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941560" y="5125680"/>
              <a:ext cx="229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192120" y="512568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268160" y="5125680"/>
              <a:ext cx="610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0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268360" y="5100840"/>
              <a:ext cx="19080" cy="10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268360" y="5100840"/>
              <a:ext cx="19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287440" y="5100840"/>
              <a:ext cx="1479600" cy="10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287440" y="5100840"/>
              <a:ext cx="147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776040" y="5100840"/>
              <a:ext cx="1641240" cy="10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776040" y="5100840"/>
              <a:ext cx="1641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417640" y="5100840"/>
              <a:ext cx="19080" cy="10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17640" y="5100840"/>
              <a:ext cx="19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268360" y="5110920"/>
              <a:ext cx="19080" cy="362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268360" y="5110920"/>
              <a:ext cx="1440" cy="36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17640" y="5110920"/>
              <a:ext cx="19080" cy="362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417640" y="5110920"/>
              <a:ext cx="1800" cy="36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691000" y="5498640"/>
              <a:ext cx="610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0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267800" y="5498640"/>
              <a:ext cx="229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519440" y="5498640"/>
              <a:ext cx="381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268360" y="5474160"/>
              <a:ext cx="1908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268360" y="547416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287440" y="5474160"/>
              <a:ext cx="147960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287440" y="5474160"/>
              <a:ext cx="147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776040" y="5474160"/>
              <a:ext cx="164124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776040" y="5474160"/>
              <a:ext cx="1641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17640" y="5474160"/>
              <a:ext cx="1908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417640" y="547416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268360" y="5483880"/>
              <a:ext cx="19080" cy="36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68360" y="5483880"/>
              <a:ext cx="1440" cy="36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417640" y="5483880"/>
              <a:ext cx="19080" cy="36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417640" y="5483880"/>
              <a:ext cx="1800" cy="36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690640" y="5870160"/>
              <a:ext cx="229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941200" y="5870160"/>
              <a:ext cx="381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267800" y="5870160"/>
              <a:ext cx="229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518720" y="5870160"/>
              <a:ext cx="229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768200" y="587016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268360" y="5847480"/>
              <a:ext cx="1908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268360" y="584748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287440" y="5847480"/>
              <a:ext cx="147960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287440" y="5847480"/>
              <a:ext cx="147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776040" y="5847480"/>
              <a:ext cx="164124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776040" y="5847480"/>
              <a:ext cx="1641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417640" y="5847480"/>
              <a:ext cx="1908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417640" y="584748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268360" y="5857200"/>
              <a:ext cx="19080" cy="36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268360" y="5857200"/>
              <a:ext cx="1440" cy="36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268360" y="6218640"/>
              <a:ext cx="19080" cy="19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268360" y="621864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268360" y="6218640"/>
              <a:ext cx="1440" cy="19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268360" y="6218640"/>
              <a:ext cx="19080" cy="19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268360" y="621864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268360" y="6218640"/>
              <a:ext cx="1440" cy="19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287440" y="6218640"/>
              <a:ext cx="1479600" cy="19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287440" y="6218640"/>
              <a:ext cx="147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786120" y="6218640"/>
              <a:ext cx="1631160" cy="19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786120" y="6218640"/>
              <a:ext cx="1631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417640" y="5857200"/>
              <a:ext cx="19080" cy="36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417640" y="5857200"/>
              <a:ext cx="1800" cy="36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417640" y="6218640"/>
              <a:ext cx="19080" cy="19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417640" y="621864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417640" y="6218640"/>
              <a:ext cx="1800" cy="19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417640" y="6218640"/>
              <a:ext cx="19080" cy="19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417640" y="621864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417640" y="6218640"/>
              <a:ext cx="1800" cy="19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815640" y="2518560"/>
              <a:ext cx="0" cy="369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6588000" y="2922480"/>
            <a:ext cx="100368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X =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Y =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Z =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796000" y="4869000"/>
            <a:ext cx="295272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ugestão de passo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lnSpc>
                <a:spcPct val="6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initer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lnSpc>
                <a:spcPct val="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implific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lnSpc>
                <a:spcPct val="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pressão Ló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E1D1A-5E92-408D-A108-F9F51FA2EEB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1331640" y="184464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ele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eleção de dados ou informação é uma opéração crítica em sistemas digitais e computad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aracterísticas de um circuito seletor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 conjunto de informações de entrada para as quais será feita a seleçã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a saíd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 conjunto de sinais de controle responsáveis por selecionar a informação de saí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Multiplexadore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: Circuitos lógicos que realizam seleç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840040" y="274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title"/>
          </p:nvPr>
        </p:nvSpPr>
        <p:spPr>
          <a:xfrm>
            <a:off x="1339920" y="28872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Combinaciona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ECF9E-4250-43D0-ABBB-EC6AB23E979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1331640" y="184464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ultiplexadores (MUX)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circuitos combinacionais que têm a finalidade de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eleciona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a partir das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variáveis de sele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um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e suas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ntrad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conectando-a eletronicamente a sua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única saíd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ircuito com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pt-BR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ntradas de dados, uma saída de dados e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ntradas de controle para efetuar a seleção de uma das entradas de d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840040" y="274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title"/>
          </p:nvPr>
        </p:nvSpPr>
        <p:spPr>
          <a:xfrm>
            <a:off x="1339920" y="28872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Combinaciona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C3E3E-D2D5-4903-AD0D-3DBCC4DBD72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1835280" y="249228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X 2: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349800" y="296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9" name="mux2-1" descr=""/>
          <p:cNvPicPr/>
          <p:nvPr/>
        </p:nvPicPr>
        <p:blipFill>
          <a:blip r:embed="rId1"/>
          <a:stretch/>
        </p:blipFill>
        <p:spPr>
          <a:xfrm>
            <a:off x="5003640" y="2708280"/>
            <a:ext cx="3810240" cy="1946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0" name=""/>
          <p:cNvGraphicFramePr/>
          <p:nvPr/>
        </p:nvGraphicFramePr>
        <p:xfrm>
          <a:off x="1835280" y="3068640"/>
          <a:ext cx="2666880" cy="1514520"/>
        </p:xfrm>
        <a:graphic>
          <a:graphicData uri="http://schemas.openxmlformats.org/drawingml/2006/table">
            <a:tbl>
              <a:tblPr/>
              <a:tblGrid>
                <a:gridCol w="1371240"/>
                <a:gridCol w="1295640"/>
              </a:tblGrid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ável de sele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í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492200" y="21888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Combinaciona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 de Multiplex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2"/>
          <a:stretch/>
        </p:blipFill>
        <p:spPr>
          <a:xfrm>
            <a:off x="2411280" y="4797360"/>
            <a:ext cx="5221440" cy="184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3F64D-277F-49BA-934B-D785561933B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1835280" y="249228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UX 4: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349800" y="296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492200" y="21888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Combinaciona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 de Multiplex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2268360" y="2997360"/>
            <a:ext cx="5981760" cy="3485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3136A-DE07-446F-B632-0CAFA0B9CE2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1695600" y="2279520"/>
            <a:ext cx="2762280" cy="1847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1625760" y="2076480"/>
          <a:ext cx="3306600" cy="228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5760" y="2076480"/>
                    <a:ext cx="3306600" cy="22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"/>
          <p:cNvSpPr/>
          <p:nvPr/>
        </p:nvSpPr>
        <p:spPr>
          <a:xfrm>
            <a:off x="1657440" y="4965840"/>
            <a:ext cx="3143160" cy="1695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Aplicação de MUX na Construção de Circuitos Combinacionai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1576440" y="4276800"/>
          <a:ext cx="8388360" cy="2612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76440" y="4276800"/>
                    <a:ext cx="8388360" cy="26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6" name=""/>
          <p:cNvGraphicFramePr/>
          <p:nvPr/>
        </p:nvGraphicFramePr>
        <p:xfrm>
          <a:off x="5435640" y="1844640"/>
          <a:ext cx="3398760" cy="47196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35640" y="1844640"/>
                    <a:ext cx="3398760" cy="47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"/>
          <p:cNvSpPr/>
          <p:nvPr/>
        </p:nvSpPr>
        <p:spPr>
          <a:xfrm>
            <a:off x="1886040" y="16318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abela-ver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219480" y="4260960"/>
            <a:ext cx="0" cy="2400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924360" y="2050920"/>
            <a:ext cx="0" cy="20955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4A378-78BE-4E29-87BE-30D9EEFF0470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Combinaciona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Código Gray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Código Binário usando multiplex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124000" y="2708280"/>
            <a:ext cx="3168360" cy="3746160"/>
            <a:chOff x="2124000" y="2708280"/>
            <a:chExt cx="3168360" cy="3746160"/>
          </a:xfrm>
        </p:grpSpPr>
        <p:sp>
          <p:nvSpPr>
            <p:cNvPr id="454" name=""/>
            <p:cNvSpPr/>
            <p:nvPr/>
          </p:nvSpPr>
          <p:spPr>
            <a:xfrm>
              <a:off x="2504880" y="2742840"/>
              <a:ext cx="678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ra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443680" y="3104280"/>
              <a:ext cx="794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 B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960360" y="2742840"/>
              <a:ext cx="983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inár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127760" y="3104280"/>
              <a:ext cx="794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imes New Roman"/>
                </a:rPr>
                <a:t>X Y 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124000" y="2708280"/>
              <a:ext cx="19080" cy="19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124000" y="270828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124000" y="2708280"/>
              <a:ext cx="1440" cy="19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124000" y="2708280"/>
              <a:ext cx="19080" cy="19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124000" y="270828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124000" y="2708280"/>
              <a:ext cx="1440" cy="19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143080" y="2708280"/>
              <a:ext cx="1479600" cy="19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143080" y="2708280"/>
              <a:ext cx="147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641760" y="2708280"/>
              <a:ext cx="1631160" cy="19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641760" y="2708280"/>
              <a:ext cx="1631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273280" y="2708280"/>
              <a:ext cx="19080" cy="19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273280" y="270828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273280" y="2708280"/>
              <a:ext cx="1800" cy="19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273280" y="2708280"/>
              <a:ext cx="19080" cy="19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273280" y="270828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273280" y="2708280"/>
              <a:ext cx="1800" cy="19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124000" y="2728080"/>
              <a:ext cx="19080" cy="72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124000" y="2728080"/>
              <a:ext cx="1440" cy="72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73280" y="2728080"/>
              <a:ext cx="19080" cy="72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273280" y="2728080"/>
              <a:ext cx="1800" cy="72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546280" y="3477600"/>
              <a:ext cx="229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797200" y="3477600"/>
              <a:ext cx="229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047760" y="347760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123440" y="3477600"/>
              <a:ext cx="229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374360" y="3477600"/>
              <a:ext cx="229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623840" y="347760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124000" y="3452760"/>
              <a:ext cx="1908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124000" y="345276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143080" y="3452760"/>
              <a:ext cx="147960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143080" y="3452760"/>
              <a:ext cx="147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631680" y="3452760"/>
              <a:ext cx="164124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631680" y="3452760"/>
              <a:ext cx="1641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273280" y="3452760"/>
              <a:ext cx="1908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273280" y="345276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124000" y="3462480"/>
              <a:ext cx="19080" cy="362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124000" y="3462480"/>
              <a:ext cx="1440" cy="36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273280" y="3462480"/>
              <a:ext cx="19080" cy="362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273280" y="3462480"/>
              <a:ext cx="1800" cy="36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545920" y="3850920"/>
              <a:ext cx="457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0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047760" y="385092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123440" y="3850920"/>
              <a:ext cx="229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375080" y="3850920"/>
              <a:ext cx="381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124000" y="3825720"/>
              <a:ext cx="19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143080" y="3825720"/>
              <a:ext cx="147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631680" y="3825720"/>
              <a:ext cx="1641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273280" y="3825720"/>
              <a:ext cx="19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124000" y="3835800"/>
              <a:ext cx="19080" cy="362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124000" y="3835800"/>
              <a:ext cx="1440" cy="36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273280" y="3835800"/>
              <a:ext cx="19080" cy="362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273280" y="3835800"/>
              <a:ext cx="1800" cy="36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546280" y="4223880"/>
              <a:ext cx="229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796840" y="4223880"/>
              <a:ext cx="381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123800" y="4223880"/>
              <a:ext cx="610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 1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124000" y="4199040"/>
              <a:ext cx="1908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124000" y="419904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143080" y="4199040"/>
              <a:ext cx="147960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143080" y="4199040"/>
              <a:ext cx="147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631680" y="4199040"/>
              <a:ext cx="164124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631680" y="4199040"/>
              <a:ext cx="1641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273280" y="4199040"/>
              <a:ext cx="1908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273280" y="419904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124000" y="4208760"/>
              <a:ext cx="19080" cy="36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124000" y="4208760"/>
              <a:ext cx="1440" cy="36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273280" y="4208760"/>
              <a:ext cx="19080" cy="36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273280" y="4208760"/>
              <a:ext cx="1800" cy="36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546640" y="4595040"/>
              <a:ext cx="610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 1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124160" y="4595040"/>
              <a:ext cx="457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 1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623840" y="459504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124000" y="4572360"/>
              <a:ext cx="1908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124000" y="457236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143080" y="4572360"/>
              <a:ext cx="147960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143080" y="4572360"/>
              <a:ext cx="147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631680" y="4572360"/>
              <a:ext cx="164124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631680" y="4572360"/>
              <a:ext cx="1641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273280" y="4572360"/>
              <a:ext cx="1908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273280" y="457236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124000" y="4582080"/>
              <a:ext cx="19080" cy="36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124000" y="4582080"/>
              <a:ext cx="1440" cy="36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273280" y="4582080"/>
              <a:ext cx="19080" cy="36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273280" y="4582080"/>
              <a:ext cx="1800" cy="36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545920" y="4968360"/>
              <a:ext cx="457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 1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047760" y="496836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124160" y="4968360"/>
              <a:ext cx="457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0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623840" y="496836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124000" y="4943880"/>
              <a:ext cx="1908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124000" y="494388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143080" y="4943880"/>
              <a:ext cx="147960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143080" y="4943880"/>
              <a:ext cx="147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631680" y="4943880"/>
              <a:ext cx="164124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31680" y="4943880"/>
              <a:ext cx="1641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273280" y="4943880"/>
              <a:ext cx="1908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273280" y="494388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124000" y="4953600"/>
              <a:ext cx="19080" cy="362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124000" y="4953600"/>
              <a:ext cx="1440" cy="36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273280" y="4953600"/>
              <a:ext cx="19080" cy="362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273280" y="4953600"/>
              <a:ext cx="1800" cy="36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546280" y="5341680"/>
              <a:ext cx="229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797200" y="5341680"/>
              <a:ext cx="229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047760" y="534168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123800" y="5341680"/>
              <a:ext cx="610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0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124000" y="5316840"/>
              <a:ext cx="19080" cy="10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124000" y="5316840"/>
              <a:ext cx="19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143080" y="5316840"/>
              <a:ext cx="1479600" cy="10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143080" y="5316840"/>
              <a:ext cx="147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631680" y="5316840"/>
              <a:ext cx="1641240" cy="10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631680" y="5316840"/>
              <a:ext cx="1641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273280" y="5316840"/>
              <a:ext cx="19080" cy="10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273280" y="5316840"/>
              <a:ext cx="19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124000" y="5326920"/>
              <a:ext cx="19080" cy="362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124000" y="5326920"/>
              <a:ext cx="1440" cy="36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273280" y="5326920"/>
              <a:ext cx="19080" cy="362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273280" y="5326920"/>
              <a:ext cx="1800" cy="36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546640" y="5714640"/>
              <a:ext cx="610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0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123440" y="5714640"/>
              <a:ext cx="229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75080" y="5714640"/>
              <a:ext cx="381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124000" y="5690160"/>
              <a:ext cx="1908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124000" y="569016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143080" y="5690160"/>
              <a:ext cx="147960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143080" y="5690160"/>
              <a:ext cx="147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631680" y="5690160"/>
              <a:ext cx="164124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31680" y="5690160"/>
              <a:ext cx="1641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273280" y="5690160"/>
              <a:ext cx="1908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273280" y="569016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124000" y="5699880"/>
              <a:ext cx="19080" cy="36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124000" y="5699880"/>
              <a:ext cx="1440" cy="36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73280" y="5699880"/>
              <a:ext cx="19080" cy="36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73280" y="5699880"/>
              <a:ext cx="1800" cy="36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546280" y="6086160"/>
              <a:ext cx="229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796840" y="6086160"/>
              <a:ext cx="381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123440" y="6086160"/>
              <a:ext cx="229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374360" y="6086160"/>
              <a:ext cx="229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623840" y="608616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124000" y="6063480"/>
              <a:ext cx="1908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124000" y="606348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143080" y="6063480"/>
              <a:ext cx="147960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143080" y="6063480"/>
              <a:ext cx="147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631680" y="6063480"/>
              <a:ext cx="164124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631680" y="6063480"/>
              <a:ext cx="1641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273280" y="6063480"/>
              <a:ext cx="1908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273280" y="606348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124000" y="6073200"/>
              <a:ext cx="19080" cy="36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124000" y="6073200"/>
              <a:ext cx="1440" cy="36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124000" y="6434640"/>
              <a:ext cx="19080" cy="19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124000" y="643464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124000" y="6434640"/>
              <a:ext cx="1440" cy="19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124000" y="6434640"/>
              <a:ext cx="19080" cy="19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124000" y="643464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124000" y="6434640"/>
              <a:ext cx="1440" cy="19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143080" y="6434640"/>
              <a:ext cx="1479600" cy="19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143080" y="6434640"/>
              <a:ext cx="147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641760" y="6434640"/>
              <a:ext cx="1631160" cy="19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641760" y="6434640"/>
              <a:ext cx="1631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273280" y="6073200"/>
              <a:ext cx="19080" cy="36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273280" y="6073200"/>
              <a:ext cx="1800" cy="36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273280" y="6434640"/>
              <a:ext cx="19080" cy="19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273280" y="643464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273280" y="6434640"/>
              <a:ext cx="1800" cy="19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273280" y="6434640"/>
              <a:ext cx="19080" cy="19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273280" y="643464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273280" y="6434640"/>
              <a:ext cx="1800" cy="19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671280" y="2734560"/>
              <a:ext cx="0" cy="369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78EE0-4D33-4C9A-9DE7-317D19E11B6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óp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1844640"/>
            <a:ext cx="759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mplos de Circuitos Lógicos Combinacio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ecodificad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dificad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ultiplexad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emultiplexad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Gerador/Verificador de Parida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73FBA-ECE8-4DA1-B5A9-9B4C8FAAFA15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Combinaciona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403280" y="-175572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X = C, Y = ?, Z =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2272320" y="2349360"/>
            <a:ext cx="5352840" cy="3210840"/>
            <a:chOff x="2272320" y="2349360"/>
            <a:chExt cx="5352840" cy="3210840"/>
          </a:xfrm>
        </p:grpSpPr>
        <p:sp>
          <p:nvSpPr>
            <p:cNvPr id="622" name=""/>
            <p:cNvSpPr/>
            <p:nvPr/>
          </p:nvSpPr>
          <p:spPr>
            <a:xfrm>
              <a:off x="2935080" y="2372400"/>
              <a:ext cx="1226880" cy="3111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540160" y="5143680"/>
              <a:ext cx="408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540160" y="5344200"/>
              <a:ext cx="408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995920" y="3665880"/>
              <a:ext cx="453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D04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995920" y="3965760"/>
              <a:ext cx="453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D05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995920" y="4216680"/>
              <a:ext cx="453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D06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995920" y="4466160"/>
              <a:ext cx="453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D07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012840" y="5015520"/>
              <a:ext cx="270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S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012840" y="5213160"/>
              <a:ext cx="270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S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272320" y="4757760"/>
              <a:ext cx="166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274480" y="5026320"/>
              <a:ext cx="162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B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552760" y="4917240"/>
              <a:ext cx="40536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006360" y="4771800"/>
              <a:ext cx="270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S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989440" y="3374640"/>
              <a:ext cx="453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D03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989440" y="3074400"/>
              <a:ext cx="453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D0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989440" y="2774520"/>
              <a:ext cx="453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D0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989440" y="2474640"/>
              <a:ext cx="453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D0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688200" y="3821400"/>
              <a:ext cx="4564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Ou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282400" y="5270400"/>
              <a:ext cx="154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C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805000" y="2349360"/>
              <a:ext cx="1224360" cy="3111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393520" y="5119200"/>
              <a:ext cx="409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5394960" y="5317920"/>
              <a:ext cx="4082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851440" y="3641760"/>
              <a:ext cx="453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D14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51440" y="3941280"/>
              <a:ext cx="453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D15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51440" y="4192200"/>
              <a:ext cx="453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D16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851440" y="4440240"/>
              <a:ext cx="453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D17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67640" y="4991040"/>
              <a:ext cx="270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S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867640" y="5190120"/>
              <a:ext cx="270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S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086440" y="4743000"/>
              <a:ext cx="166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111280" y="4991040"/>
              <a:ext cx="162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B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5407560" y="4892400"/>
              <a:ext cx="4082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863680" y="4748400"/>
              <a:ext cx="270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S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846760" y="3349800"/>
              <a:ext cx="453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D13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846760" y="3051360"/>
              <a:ext cx="453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D1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846760" y="2751480"/>
              <a:ext cx="453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D1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846760" y="2451600"/>
              <a:ext cx="453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D1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544440" y="3799440"/>
              <a:ext cx="4564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Ou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100120" y="5247000"/>
              <a:ext cx="154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C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184280" y="3921120"/>
              <a:ext cx="4082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040160" y="3921120"/>
              <a:ext cx="40860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2552760" y="4569480"/>
              <a:ext cx="394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V="1">
              <a:off x="2552760" y="4320000"/>
              <a:ext cx="3974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552760" y="4068000"/>
              <a:ext cx="40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556720" y="3817440"/>
              <a:ext cx="3826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>
              <a:off x="2552760" y="3518640"/>
              <a:ext cx="407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552760" y="3220200"/>
              <a:ext cx="39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543040" y="2576880"/>
              <a:ext cx="4042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407560" y="4515120"/>
              <a:ext cx="39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05760" y="4268520"/>
              <a:ext cx="400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V="1">
              <a:off x="5407560" y="4017600"/>
              <a:ext cx="3974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407560" y="3771000"/>
              <a:ext cx="4096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407560" y="3471120"/>
              <a:ext cx="4096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401800" y="3171240"/>
              <a:ext cx="407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407560" y="2871360"/>
              <a:ext cx="40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391000" y="2522160"/>
              <a:ext cx="407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435040" y="3078720"/>
              <a:ext cx="137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435040" y="2775960"/>
              <a:ext cx="137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255640" y="4404960"/>
              <a:ext cx="137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255640" y="3645720"/>
              <a:ext cx="137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441880" y="4163760"/>
              <a:ext cx="137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441880" y="3912840"/>
              <a:ext cx="137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251680" y="3021120"/>
              <a:ext cx="137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251680" y="2723040"/>
              <a:ext cx="137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255640" y="3906000"/>
              <a:ext cx="137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267160" y="4162320"/>
              <a:ext cx="137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435040" y="2448720"/>
              <a:ext cx="137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435040" y="3383640"/>
              <a:ext cx="137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251680" y="2372400"/>
              <a:ext cx="137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251680" y="3321360"/>
              <a:ext cx="137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441880" y="3663360"/>
              <a:ext cx="137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441880" y="4464720"/>
              <a:ext cx="137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550960" y="2910960"/>
              <a:ext cx="392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652280" y="3812040"/>
              <a:ext cx="15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Y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485840" y="3805200"/>
              <a:ext cx="1393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Z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495960" y="4885920"/>
              <a:ext cx="685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8-to-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512160" y="5139720"/>
              <a:ext cx="569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MUX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345720" y="4847760"/>
              <a:ext cx="685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8-to-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363720" y="5101560"/>
              <a:ext cx="569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MUX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0" name=""/>
          <p:cNvSpPr/>
          <p:nvPr/>
        </p:nvSpPr>
        <p:spPr>
          <a:xfrm>
            <a:off x="1476360" y="5661000"/>
            <a:ext cx="7272360" cy="1008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b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: O multiplexador com um número de entradas fixo é idêntico a uma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emória ROM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com 3 bits de endereço e 2 bits de d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357200" y="1700280"/>
            <a:ext cx="661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ódigo Gray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Código Binário com MUX 3: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E89ED-2492-401F-A695-7C25AAEF11F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Combinaciona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1403280" y="-175572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X = C, Y = ?, Z =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619280" y="263700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eria possível obter o circui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ódigo Gray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Código Binár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utilizando MUX 2:1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44D8B-5164-4198-80E7-2BF081A45A6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/>
          </p:nvPr>
        </p:nvSpPr>
        <p:spPr>
          <a:xfrm>
            <a:off x="1331640" y="191628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multiplexadores (DEMUX) </a:t>
            </a:r>
            <a:r>
              <a:rPr b="1" lang="pt-B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têm a finalidade de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eleciona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através das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variáveis de sele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qual de suas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aíd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eve receber a informação presente em sua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única entrad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oteia o sinal presente em sua única linha de entrada para uma de suas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pt-BR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saídas, dependendo dos valores em suas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linhas de contro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title"/>
          </p:nvPr>
        </p:nvSpPr>
        <p:spPr>
          <a:xfrm>
            <a:off x="1332000" y="23472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Combinaciona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3FC27-5009-48DC-ACA9-615E83CEBB4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/>
          </p:nvPr>
        </p:nvSpPr>
        <p:spPr>
          <a:xfrm>
            <a:off x="1331640" y="1915920"/>
            <a:ext cx="754380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 de Demultiplex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2436840" y="5491080"/>
            <a:ext cx="5181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MUX 1: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9" name=""/>
          <p:cNvGraphicFramePr/>
          <p:nvPr/>
        </p:nvGraphicFramePr>
        <p:xfrm>
          <a:off x="1979640" y="3357720"/>
          <a:ext cx="3429000" cy="1569960"/>
        </p:xfrm>
        <a:graphic>
          <a:graphicData uri="http://schemas.openxmlformats.org/drawingml/2006/table">
            <a:tbl>
              <a:tblPr/>
              <a:tblGrid>
                <a:gridCol w="1371600"/>
                <a:gridCol w="914400"/>
                <a:gridCol w="1143000"/>
              </a:tblGrid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ável de sele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ais de Saí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      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0" name=""/>
          <p:cNvSpPr/>
          <p:nvPr/>
        </p:nvSpPr>
        <p:spPr>
          <a:xfrm>
            <a:off x="3465360" y="285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demux1-2" descr=""/>
          <p:cNvPicPr/>
          <p:nvPr/>
        </p:nvPicPr>
        <p:blipFill>
          <a:blip r:embed="rId1"/>
          <a:srcRect l="0" t="0" r="13222" b="0"/>
          <a:stretch/>
        </p:blipFill>
        <p:spPr>
          <a:xfrm>
            <a:off x="5796000" y="2997360"/>
            <a:ext cx="2819520" cy="2392200"/>
          </a:xfrm>
          <a:prstGeom prst="rect">
            <a:avLst/>
          </a:prstGeom>
          <a:ln w="0">
            <a:noFill/>
          </a:ln>
        </p:spPr>
      </p:pic>
      <p:sp>
        <p:nvSpPr>
          <p:cNvPr id="712" name="PlaceHolder 2"/>
          <p:cNvSpPr>
            <a:spLocks noGrp="1"/>
          </p:cNvSpPr>
          <p:nvPr>
            <p:ph type="title"/>
          </p:nvPr>
        </p:nvSpPr>
        <p:spPr>
          <a:xfrm>
            <a:off x="1403280" y="260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Combinaciona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7205D-665E-46F8-BE91-FB440954412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/>
          </p:nvPr>
        </p:nvSpPr>
        <p:spPr>
          <a:xfrm>
            <a:off x="1476360" y="1916280"/>
            <a:ext cx="7223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Gerador/Verificador de Par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nsiste no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acréscimo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e um bit à informação (de tamanho pré-definido) chamado </a:t>
            </a:r>
            <a:r>
              <a:rPr b="1" i="1" lang="pt-BR" sz="2200" spc="-1" strike="noStrike" u="sng">
                <a:solidFill>
                  <a:srgbClr val="000000"/>
                </a:solidFill>
                <a:uFillTx/>
                <a:latin typeface="Arial"/>
              </a:rPr>
              <a:t>bit de paridade (Bp)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. Seu valor depende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do número de bits em “1”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da informação original e do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tipo de paridad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em us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ecanismo de segurança de dados binários de simples  implementação, muito utilizado no armazenamento de informação e na comunicação entre sistema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2557440" y="334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title"/>
          </p:nvPr>
        </p:nvSpPr>
        <p:spPr>
          <a:xfrm>
            <a:off x="1457280" y="260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Combinaciona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FD028-9AC8-4BB8-854F-DD05BEF5D00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2557440" y="334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457280" y="260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Combinaciona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"/>
          <p:cNvSpPr/>
          <p:nvPr/>
        </p:nvSpPr>
        <p:spPr>
          <a:xfrm>
            <a:off x="1535040" y="2916360"/>
            <a:ext cx="7010640" cy="1371600"/>
          </a:xfrm>
          <a:prstGeom prst="rect">
            <a:avLst/>
          </a:prstGeom>
          <a:solidFill>
            <a:srgbClr val="f8f8f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9" name="" descr=""/>
          <p:cNvPicPr/>
          <p:nvPr/>
        </p:nvPicPr>
        <p:blipFill>
          <a:blip r:embed="rId1"/>
          <a:stretch/>
        </p:blipFill>
        <p:spPr>
          <a:xfrm>
            <a:off x="1763640" y="3068640"/>
            <a:ext cx="6553440" cy="1084320"/>
          </a:xfrm>
          <a:prstGeom prst="rect">
            <a:avLst/>
          </a:prstGeom>
          <a:ln w="0">
            <a:noFill/>
          </a:ln>
        </p:spPr>
      </p:pic>
      <p:sp>
        <p:nvSpPr>
          <p:cNvPr id="720" name=""/>
          <p:cNvSpPr/>
          <p:nvPr/>
        </p:nvSpPr>
        <p:spPr>
          <a:xfrm>
            <a:off x="1476000" y="1916280"/>
            <a:ext cx="60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ircuito Gerador/Verificador de Par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618200" y="5013360"/>
            <a:ext cx="28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jete o circuito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BF022-BCB4-494F-9619-1EA003805F4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ircuitos Combinacionai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03280" y="1773000"/>
            <a:ext cx="7561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odif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versão de um código de entrada de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bits em um código de saída de m bits co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l que cada palavra-código válida produz um único código de saíd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odific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o que implementa a decodifica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B8DAC-35A9-401A-91FF-50BF36DBCC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ircuitos Combinacionai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31640" y="1916280"/>
            <a:ext cx="756108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mplo: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codificador de 1-2 lin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68360" y="3068640"/>
            <a:ext cx="5040360" cy="168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28177-67BA-4F4F-B9A5-76B5BD62257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ircuitos Combinacionai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31640" y="1844640"/>
            <a:ext cx="7561080" cy="46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mplo: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codificador de 2-4 lin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332000" y="2708280"/>
            <a:ext cx="7417800" cy="3789000"/>
            <a:chOff x="1332000" y="2708280"/>
            <a:chExt cx="7417800" cy="3789000"/>
          </a:xfrm>
        </p:grpSpPr>
        <p:grpSp>
          <p:nvGrpSpPr>
            <p:cNvPr id="109" name=""/>
            <p:cNvGrpSpPr/>
            <p:nvPr/>
          </p:nvGrpSpPr>
          <p:grpSpPr>
            <a:xfrm>
              <a:off x="1332000" y="2708280"/>
              <a:ext cx="6061680" cy="3590640"/>
              <a:chOff x="1332000" y="2708280"/>
              <a:chExt cx="6061680" cy="3590640"/>
            </a:xfrm>
          </p:grpSpPr>
          <p:sp>
            <p:nvSpPr>
              <p:cNvPr id="110" name=""/>
              <p:cNvSpPr/>
              <p:nvPr/>
            </p:nvSpPr>
            <p:spPr>
              <a:xfrm>
                <a:off x="1332000" y="5280480"/>
                <a:ext cx="3941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834960" y="3562560"/>
                <a:ext cx="558720" cy="273636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831920" y="3274560"/>
                <a:ext cx="1697400" cy="500400"/>
              </a:xfrm>
              <a:prstGeom prst="rect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189040" y="2708280"/>
                <a:ext cx="1702440" cy="468000"/>
              </a:xfrm>
              <a:prstGeom prst="rect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1607400" y="3529080"/>
              <a:ext cx="2418120" cy="1440"/>
            </a:xfrm>
            <a:prstGeom prst="line">
              <a:avLst/>
            </a:prstGeom>
            <a:ln w="11160">
              <a:solidFill>
                <a:srgbClr val="00a0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62120" y="3147480"/>
              <a:ext cx="131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Ten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811520" y="325188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Te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15760" y="363528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Ten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715760" y="391716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Ten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715760" y="420192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Ten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15760" y="448344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Ten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014560" y="3147480"/>
              <a:ext cx="131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Ten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164320" y="325188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Te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068200" y="363528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Ten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68200" y="391716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Ten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068200" y="420192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Ten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8200" y="448344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Ten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14600" y="3147480"/>
              <a:ext cx="142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Ten"/>
                </a:rPr>
                <a:t>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667600" y="325188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Te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74000" y="363528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Ten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4000" y="391716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Ten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574000" y="420192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Ten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574000" y="448344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Ten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867040" y="3147480"/>
              <a:ext cx="142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Ten"/>
                </a:rPr>
                <a:t>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22920" y="325188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Te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26440" y="363528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Ten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926440" y="391716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Ten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926440" y="420192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Ten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926440" y="448344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Ten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371680" y="3194280"/>
              <a:ext cx="1080" cy="1620360"/>
            </a:xfrm>
            <a:prstGeom prst="line">
              <a:avLst/>
            </a:prstGeom>
            <a:ln w="11160">
              <a:solidFill>
                <a:srgbClr val="00a0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31360" y="3147480"/>
              <a:ext cx="142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Ten"/>
                </a:rPr>
                <a:t>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386160" y="325188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Te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91480" y="363528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Ten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91480" y="391716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Ten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91480" y="420192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Ten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91480" y="448344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Ten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585240" y="3147480"/>
              <a:ext cx="142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Ten"/>
                </a:rPr>
                <a:t>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738600" y="325188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Ten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43560" y="363528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Ten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43560" y="391716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Ten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643560" y="420192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Ten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643560" y="448344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Ten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640960" y="4931280"/>
              <a:ext cx="223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Ten"/>
                </a:rPr>
                <a:t>(a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8120" y="2920680"/>
              <a:ext cx="2330280" cy="2256480"/>
            </a:xfrm>
            <a:custGeom>
              <a:avLst/>
              <a:gdLst/>
              <a:ahLst/>
              <a:rect l="l" t="t" r="r" b="b"/>
              <a:pathLst>
                <a:path w="1488" h="1402">
                  <a:moveTo>
                    <a:pt x="0" y="0"/>
                  </a:moveTo>
                  <a:lnTo>
                    <a:pt x="1401" y="0"/>
                  </a:lnTo>
                  <a:lnTo>
                    <a:pt x="1399" y="1402"/>
                  </a:lnTo>
                  <a:lnTo>
                    <a:pt x="1488" y="1402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278320" y="2920680"/>
              <a:ext cx="1630080" cy="2959920"/>
            </a:xfrm>
            <a:custGeom>
              <a:avLst/>
              <a:gdLst/>
              <a:ahLst/>
              <a:rect l="l" t="t" r="r" b="b"/>
              <a:pathLst>
                <a:path w="1041" h="1839">
                  <a:moveTo>
                    <a:pt x="0" y="0"/>
                  </a:moveTo>
                  <a:lnTo>
                    <a:pt x="0" y="1839"/>
                  </a:lnTo>
                  <a:lnTo>
                    <a:pt x="1041" y="1839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924440" y="3498480"/>
              <a:ext cx="1983960" cy="2576880"/>
            </a:xfrm>
            <a:custGeom>
              <a:avLst/>
              <a:gdLst/>
              <a:ahLst/>
              <a:rect l="l" t="t" r="r" b="b"/>
              <a:pathLst>
                <a:path w="1267" h="1601">
                  <a:moveTo>
                    <a:pt x="0" y="0"/>
                  </a:moveTo>
                  <a:lnTo>
                    <a:pt x="0" y="1601"/>
                  </a:lnTo>
                  <a:lnTo>
                    <a:pt x="1267" y="1601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4924080" y="5370480"/>
              <a:ext cx="19839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5278320" y="4472280"/>
              <a:ext cx="16300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6432480" y="3961800"/>
              <a:ext cx="4759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6772320" y="3768840"/>
              <a:ext cx="1360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685480" y="2738880"/>
              <a:ext cx="286560" cy="373320"/>
            </a:xfrm>
            <a:custGeom>
              <a:avLst/>
              <a:gdLst/>
              <a:ahLst/>
              <a:rect l="l" t="t" r="r" b="b"/>
              <a:pathLst>
                <a:path w="183" h="232">
                  <a:moveTo>
                    <a:pt x="0" y="0"/>
                  </a:moveTo>
                  <a:lnTo>
                    <a:pt x="0" y="232"/>
                  </a:lnTo>
                  <a:lnTo>
                    <a:pt x="183" y="1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972040" y="2860920"/>
              <a:ext cx="118800" cy="120600"/>
            </a:xfrm>
            <a:prstGeom prst="ellipse">
              <a:avLst/>
            </a:prstGeom>
            <a:solidFill>
              <a:srgbClr val="ffffff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908400" y="3694680"/>
              <a:ext cx="396000" cy="341280"/>
            </a:xfrm>
            <a:custGeom>
              <a:avLst/>
              <a:gdLst/>
              <a:ahLst/>
              <a:rect l="l" t="t" r="r" b="b"/>
              <a:pathLst>
                <a:path w="134" h="112">
                  <a:moveTo>
                    <a:pt x="0" y="112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8" y="0"/>
                    <a:pt x="78" y="0"/>
                    <a:pt x="78" y="0"/>
                  </a:cubicBezTo>
                  <a:cubicBezTo>
                    <a:pt x="109" y="0"/>
                    <a:pt x="134" y="25"/>
                    <a:pt x="134" y="55"/>
                  </a:cubicBezTo>
                  <a:cubicBezTo>
                    <a:pt x="134" y="86"/>
                    <a:pt x="110" y="111"/>
                    <a:pt x="79" y="112"/>
                  </a:cubicBezTo>
                  <a:cubicBezTo>
                    <a:pt x="0" y="112"/>
                    <a:pt x="0" y="112"/>
                    <a:pt x="0" y="112"/>
                  </a:cubicBezTo>
                  <a:close/>
                </a:path>
              </a:pathLst>
            </a:custGeom>
            <a:solidFill>
              <a:srgbClr val="ffffff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908400" y="5103360"/>
              <a:ext cx="396000" cy="340920"/>
            </a:xfrm>
            <a:custGeom>
              <a:avLst/>
              <a:gdLst/>
              <a:ahLst/>
              <a:rect l="l" t="t" r="r" b="b"/>
              <a:pathLst>
                <a:path w="134" h="112">
                  <a:moveTo>
                    <a:pt x="0" y="112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8" y="0"/>
                    <a:pt x="78" y="0"/>
                    <a:pt x="78" y="0"/>
                  </a:cubicBezTo>
                  <a:cubicBezTo>
                    <a:pt x="108" y="0"/>
                    <a:pt x="134" y="25"/>
                    <a:pt x="134" y="55"/>
                  </a:cubicBezTo>
                  <a:cubicBezTo>
                    <a:pt x="134" y="86"/>
                    <a:pt x="109" y="111"/>
                    <a:pt x="79" y="112"/>
                  </a:cubicBezTo>
                  <a:cubicBezTo>
                    <a:pt x="0" y="112"/>
                    <a:pt x="0" y="112"/>
                    <a:pt x="0" y="112"/>
                  </a:cubicBezTo>
                  <a:close/>
                </a:path>
              </a:pathLst>
            </a:custGeom>
            <a:solidFill>
              <a:srgbClr val="ffffff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908400" y="5808240"/>
              <a:ext cx="396000" cy="339120"/>
            </a:xfrm>
            <a:custGeom>
              <a:avLst/>
              <a:gdLst/>
              <a:ahLst/>
              <a:rect l="l" t="t" r="r" b="b"/>
              <a:pathLst>
                <a:path w="134" h="112">
                  <a:moveTo>
                    <a:pt x="0" y="112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8" y="0"/>
                    <a:pt x="78" y="0"/>
                    <a:pt x="78" y="0"/>
                  </a:cubicBezTo>
                  <a:cubicBezTo>
                    <a:pt x="108" y="0"/>
                    <a:pt x="134" y="25"/>
                    <a:pt x="134" y="55"/>
                  </a:cubicBezTo>
                  <a:cubicBezTo>
                    <a:pt x="134" y="86"/>
                    <a:pt x="109" y="111"/>
                    <a:pt x="79" y="112"/>
                  </a:cubicBezTo>
                  <a:cubicBezTo>
                    <a:pt x="0" y="112"/>
                    <a:pt x="0" y="112"/>
                    <a:pt x="0" y="112"/>
                  </a:cubicBezTo>
                  <a:close/>
                </a:path>
              </a:pathLst>
            </a:custGeom>
            <a:solidFill>
              <a:srgbClr val="ffffff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304760" y="3862440"/>
              <a:ext cx="4273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748920" y="3961800"/>
              <a:ext cx="1594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304760" y="4567320"/>
              <a:ext cx="4273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304760" y="5270760"/>
              <a:ext cx="4273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304760" y="5975640"/>
              <a:ext cx="4273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75280" y="3730320"/>
              <a:ext cx="13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Ten"/>
                </a:rPr>
                <a:t>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929000" y="382680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Te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44920" y="375768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MathematicalPi 1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210160" y="3730320"/>
              <a:ext cx="17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Ten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Ten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406360" y="382680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Te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481960" y="3730320"/>
              <a:ext cx="17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Ten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Ten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677440" y="382680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Te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269560" y="3731760"/>
              <a:ext cx="118800" cy="1800"/>
            </a:xfrm>
            <a:custGeom>
              <a:avLst/>
              <a:gdLst/>
              <a:ahLst/>
              <a:rect l="l" t="t" r="r" b="b"/>
              <a:pathLst>
                <a:path w="76" h="0">
                  <a:moveTo>
                    <a:pt x="0" y="0"/>
                  </a:moveTo>
                  <a:lnTo>
                    <a:pt x="7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269560" y="3731760"/>
              <a:ext cx="1188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541720" y="3731760"/>
              <a:ext cx="117360" cy="1800"/>
            </a:xfrm>
            <a:custGeom>
              <a:avLst/>
              <a:gdLst/>
              <a:ahLst/>
              <a:rect l="l" t="t" r="r" b="b"/>
              <a:pathLst>
                <a:path w="75" h="0">
                  <a:moveTo>
                    <a:pt x="0" y="0"/>
                  </a:moveTo>
                  <a:lnTo>
                    <a:pt x="7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541720" y="3731760"/>
              <a:ext cx="1173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775280" y="4431960"/>
              <a:ext cx="13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Ten"/>
                </a:rPr>
                <a:t>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929000" y="453024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Te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044920" y="445932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MathematicalPi 1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210160" y="4431960"/>
              <a:ext cx="17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Ten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Ten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406360" y="453024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Te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481960" y="4431960"/>
              <a:ext cx="17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Ten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Ten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677440" y="453024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Te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269560" y="4438440"/>
              <a:ext cx="118800" cy="1800"/>
            </a:xfrm>
            <a:custGeom>
              <a:avLst/>
              <a:gdLst/>
              <a:ahLst/>
              <a:rect l="l" t="t" r="r" b="b"/>
              <a:pathLst>
                <a:path w="76" h="0">
                  <a:moveTo>
                    <a:pt x="0" y="0"/>
                  </a:moveTo>
                  <a:lnTo>
                    <a:pt x="7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269560" y="4438440"/>
              <a:ext cx="1188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775280" y="5138640"/>
              <a:ext cx="13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Ten"/>
                </a:rPr>
                <a:t>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929000" y="523692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Te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044920" y="516600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MathematicalPi 1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210160" y="5138640"/>
              <a:ext cx="17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Ten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Ten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406360" y="523692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Te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481960" y="5138640"/>
              <a:ext cx="17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Ten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Ten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677440" y="523692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Te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541720" y="5143680"/>
              <a:ext cx="117360" cy="1440"/>
            </a:xfrm>
            <a:custGeom>
              <a:avLst/>
              <a:gdLst/>
              <a:ahLst/>
              <a:rect l="l" t="t" r="r" b="b"/>
              <a:pathLst>
                <a:path w="75" h="0">
                  <a:moveTo>
                    <a:pt x="0" y="0"/>
                  </a:moveTo>
                  <a:lnTo>
                    <a:pt x="7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541720" y="5143680"/>
              <a:ext cx="1173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775280" y="5843520"/>
              <a:ext cx="13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Ten"/>
                </a:rPr>
                <a:t>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929000" y="594180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Ten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044920" y="587088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MathematicalPi 1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210160" y="5843520"/>
              <a:ext cx="17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Ten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Ten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406360" y="594180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Te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481960" y="5843520"/>
              <a:ext cx="17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Ten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Ten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677440" y="594180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Te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301440" y="6268680"/>
              <a:ext cx="23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Ten"/>
                </a:rPr>
                <a:t>(b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314600" y="3363480"/>
              <a:ext cx="122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Ten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461480" y="346140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Te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314600" y="2787120"/>
              <a:ext cx="122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Ten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461480" y="288180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Te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242320" y="2885040"/>
              <a:ext cx="72000" cy="72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888080" y="3461400"/>
              <a:ext cx="70560" cy="72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242320" y="4437000"/>
              <a:ext cx="72000" cy="72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888080" y="5335200"/>
              <a:ext cx="70560" cy="72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737760" y="3731760"/>
              <a:ext cx="70560" cy="72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401160" y="3929760"/>
              <a:ext cx="70560" cy="72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578120" y="3498480"/>
              <a:ext cx="2330280" cy="1168200"/>
            </a:xfrm>
            <a:custGeom>
              <a:avLst/>
              <a:gdLst/>
              <a:ahLst/>
              <a:rect l="l" t="t" r="r" b="b"/>
              <a:pathLst>
                <a:path w="1488" h="726">
                  <a:moveTo>
                    <a:pt x="0" y="0"/>
                  </a:moveTo>
                  <a:lnTo>
                    <a:pt x="1184" y="0"/>
                  </a:lnTo>
                  <a:lnTo>
                    <a:pt x="1184" y="726"/>
                  </a:lnTo>
                  <a:lnTo>
                    <a:pt x="1488" y="726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908400" y="4399560"/>
              <a:ext cx="396000" cy="339480"/>
            </a:xfrm>
            <a:custGeom>
              <a:avLst/>
              <a:gdLst/>
              <a:ahLst/>
              <a:rect l="l" t="t" r="r" b="b"/>
              <a:pathLst>
                <a:path w="134" h="112">
                  <a:moveTo>
                    <a:pt x="0" y="112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8" y="0"/>
                    <a:pt x="78" y="0"/>
                    <a:pt x="78" y="0"/>
                  </a:cubicBezTo>
                  <a:cubicBezTo>
                    <a:pt x="108" y="0"/>
                    <a:pt x="134" y="25"/>
                    <a:pt x="134" y="55"/>
                  </a:cubicBezTo>
                  <a:cubicBezTo>
                    <a:pt x="134" y="86"/>
                    <a:pt x="109" y="111"/>
                    <a:pt x="79" y="112"/>
                  </a:cubicBezTo>
                  <a:cubicBezTo>
                    <a:pt x="0" y="112"/>
                    <a:pt x="0" y="112"/>
                    <a:pt x="0" y="112"/>
                  </a:cubicBezTo>
                  <a:close/>
                </a:path>
              </a:pathLst>
            </a:custGeom>
            <a:solidFill>
              <a:srgbClr val="ffffff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685480" y="3313440"/>
              <a:ext cx="286560" cy="376560"/>
            </a:xfrm>
            <a:custGeom>
              <a:avLst/>
              <a:gdLst/>
              <a:ahLst/>
              <a:rect l="l" t="t" r="r" b="b"/>
              <a:pathLst>
                <a:path w="183" h="234">
                  <a:moveTo>
                    <a:pt x="0" y="0"/>
                  </a:moveTo>
                  <a:lnTo>
                    <a:pt x="0" y="234"/>
                  </a:lnTo>
                  <a:lnTo>
                    <a:pt x="183" y="1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972040" y="3436920"/>
              <a:ext cx="118800" cy="120600"/>
            </a:xfrm>
            <a:prstGeom prst="ellipse">
              <a:avLst/>
            </a:prstGeom>
            <a:solidFill>
              <a:srgbClr val="ffffff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607400" y="4815000"/>
              <a:ext cx="2418120" cy="1800"/>
            </a:xfrm>
            <a:prstGeom prst="line">
              <a:avLst/>
            </a:prstGeom>
            <a:ln w="11160">
              <a:solidFill>
                <a:srgbClr val="00a0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86272-0FCB-4763-85A9-B06BC9E9D28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ircuitos Combinacionai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16000" y="1700280"/>
            <a:ext cx="2160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0"/>
          </a:bodyPr>
          <a:p>
            <a:pPr lvl="1" marL="716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: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Decodificador de 3-8 linh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este exemplo são utilizados decodificadores de 1-2 linhas e de 2-4 linh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276720" y="1700280"/>
            <a:ext cx="5473440" cy="493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AFCCC-C87A-4F92-9598-D93FC58557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ircuitos Combinacionai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codificador com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En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619280" y="2708280"/>
            <a:ext cx="6985080" cy="361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EB474-56C4-4B3A-8E83-420E90A680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ircuitos Combinacionai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02920" y="1773000"/>
            <a:ext cx="72723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dif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oposto da decodificação - conversão de um código de entrada de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bits em um código de saída de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bits co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al que cada palavra-código válida produz um único código de saíd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dific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o que implementa a codifica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7A886-3C95-4222-BE08-30ACF1C1450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ircuitos Combinacionai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02920" y="1773000"/>
            <a:ext cx="72723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mplo: Codificador decimal para B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adas: 10 bits correspondente aos dígitos decimais de 0 a 9, (D</a:t>
            </a:r>
            <a:r>
              <a:rPr b="0" lang="en-US" sz="2000" spc="-1" strike="noStrike" baseline="-2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…, D</a:t>
            </a:r>
            <a:r>
              <a:rPr b="0" lang="en-US" sz="2000" spc="-1" strike="noStrike" baseline="-2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ída: 4 bits com o código BC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6045F-4F1B-4209-BF90-C79762F032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 Macêdo Fechine/DSC/UFCG</dc:creator>
  <dc:description/>
  <dc:language>en-US</dc:language>
  <cp:lastModifiedBy>USE</cp:lastModifiedBy>
  <dcterms:modified xsi:type="dcterms:W3CDTF">2008-05-09T11:32:54Z</dcterms:modified>
  <cp:revision>185</cp:revision>
  <dc:subject/>
  <dc:title>Organização e Arquitetura de Computadores I</dc:title>
</cp:coreProperties>
</file>