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2.wmf" ContentType="image/x-wmf"/>
  <Override PartName="/ppt/media/image6.png" ContentType="image/png"/>
  <Override PartName="/ppt/media/image21.wmf" ContentType="image/x-wmf"/>
  <Override PartName="/ppt/media/image10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CE6A-38BD-463D-96DE-78FE625FC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391E-0D6D-4BF8-9828-A77B2C7A9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A6D8-B06E-45AA-8BBD-A4C931217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DB56-E926-4860-819A-C4B01469D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E9D44-3DC1-4976-B10B-762DC44F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FDA73-28D6-41A7-8816-AF3087EC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83DB8-8CDD-44B0-ADCE-52263F72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D95E8-61D1-407F-A6FB-593777D0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26F08-95B0-4616-B352-A7061957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9B30A-8D10-4A74-B9D3-00E85830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AF137-9011-442C-BFBD-06E568B6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DF21-1CDE-4415-AF93-E4DE544B5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C81E0-5C28-4BBD-93E9-4727A213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B1B43-22CA-463C-ABC6-5DFA68BB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A4BA3-0E6D-4D43-ABE8-63FCD192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FDC26-3A51-4141-9619-F102AFB6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4D5EA-06F4-4CEB-9C7F-1AE356E3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9F45-C794-40CE-9EAC-FB6089D02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948E-DF23-4539-A94D-EABF6606B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3292-0D94-4E16-A5FE-B8F2DADBD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7762-EF6F-4D8B-9D2C-1C6B14331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BD0C-488A-481E-AD6E-DD10C1A58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3F4E-E51B-4435-A02C-065E56E57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5AC8-6942-4325-8D63-A53BAE682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EEC5-2670-46F0-A942-2A5BD6E462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3471-3CE8-40B9-96A8-045D1E62FB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sc.ufcg.edu.br/~joseana/kmap12.exe" TargetMode="External"/><Relationship Id="rId2" Type="http://schemas.openxmlformats.org/officeDocument/2006/relationships/hyperlink" Target="http://maui.theoinf.tu-ilmenau.de/~sane/projekte/karnaugh/embed_karnaugh.html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Combinacion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tenção da expressão lógica a partir 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bela-ver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Fun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MA DE PRODU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 DE SOM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oma de produt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OR d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initermo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levam a saída para “1” (método mais utiliz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oduto de soma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AND d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maxiterm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levam a saída para “O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19640" y="3567240"/>
            <a:ext cx="3097440" cy="8697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64000" y="3573360"/>
                <a:ext cx="24526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64000" y="3954600"/>
                <a:ext cx="28720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197080" y="6093000"/>
            <a:ext cx="590400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a de Produtos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Sum-of-Produ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to de Somas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Product-of-Su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E89A-F7E3-41FE-A236-FFAEF16CB3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plificação de Circuitos Combi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a Álgebra de Boole (forma dir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Mapas de Karna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CF5A-7EF7-4B40-8F7C-41C414E604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305424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ras Básicas da Álgebra de Bo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51280" y="1731960"/>
          <a:ext cx="4240080" cy="49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731960"/>
                    <a:ext cx="424008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69000" y="6315120"/>
                <a:ext cx="225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858000" y="6330960"/>
                <a:ext cx="2253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0EEB-DF43-47BC-8532-16E33CA179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47920" y="305424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gras Básicas da Álgebra de Bo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52720" y="593640"/>
          <a:ext cx="4680000" cy="333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593640"/>
                    <a:ext cx="468000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852720" y="3718080"/>
          <a:ext cx="4680000" cy="2663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2720" y="3718080"/>
                    <a:ext cx="468000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94CC-5E62-4622-A117-4AAF822570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Álgebra de B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teoremas, propriedade e identidades da álgebra boleana podem ser aplicados para simplificar funções lógicas e, com isso, reduzir o número necessário de oper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plifican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x.y + y.x.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tem-se w = xy +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x ( x + y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tem-se w = 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x (x + y) + z + z.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tem-se w = y +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49600" y="4292640"/>
            <a:ext cx="37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25960" y="4724280"/>
            <a:ext cx="12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33960" y="5157720"/>
            <a:ext cx="12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43280" y="5157720"/>
            <a:ext cx="122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885080" y="5157720"/>
            <a:ext cx="12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855C2-8EBF-44C3-B784-8514FC7FFC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Álgebra de B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rcício 1: Simplifique a expressão a segu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(W + Y + X)(W + Y + X)(Y + Z)(W +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 = V + VX + 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436A-DE55-4379-9DBD-C069EC4B58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Álgebra de Bol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rcício 2: Um aluno de mestrado geralmente pode realizar a defesa de sua dissertação q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á cursou todos os créditos requeri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já convalidou todos os créditos requeri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os créditos cursados ou convalidados totalizam os reque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já foi aprovado no exame de proficiência de idiom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já foi aprovado no exame de qualificação do projeto de dissert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e a função lógica equivalente, simplificando-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E983-9CF0-4BA1-9E42-8B4CA4B603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200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pas de Karnaugh para Duas Variá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-1768" t="0" r="76372" b="4614"/>
          <a:stretch/>
        </p:blipFill>
        <p:spPr>
          <a:xfrm>
            <a:off x="1476360" y="2708280"/>
            <a:ext cx="3743280" cy="2852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300720" y="4508640"/>
            <a:ext cx="1800360" cy="1778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rcRect l="46801" t="41148" r="36720" b="40149"/>
          <a:stretch/>
        </p:blipFill>
        <p:spPr>
          <a:xfrm>
            <a:off x="6300720" y="2708280"/>
            <a:ext cx="1943280" cy="16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8689-C479-4081-8652-A91C8E5F00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200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pas de Karnaugh para Três Variá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34265" t="0" r="34560" b="5163"/>
          <a:stretch/>
        </p:blipFill>
        <p:spPr>
          <a:xfrm>
            <a:off x="1403280" y="2349360"/>
            <a:ext cx="3913200" cy="4392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rcRect l="31005" t="35246" r="33024" b="18492"/>
          <a:stretch/>
        </p:blipFill>
        <p:spPr>
          <a:xfrm>
            <a:off x="5292720" y="2708280"/>
            <a:ext cx="350856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CF87-F966-4645-A882-ED0E65D24E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295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pas de Karnaugh para Quatro Variá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28045" t="25393" r="29868" b="50977"/>
          <a:stretch/>
        </p:blipFill>
        <p:spPr>
          <a:xfrm>
            <a:off x="1332000" y="2852640"/>
            <a:ext cx="3600360" cy="1516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835280" y="4365720"/>
            <a:ext cx="2519280" cy="245736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4932360" y="333360"/>
            <a:ext cx="4119480" cy="6310440"/>
            <a:chOff x="4932360" y="333360"/>
            <a:chExt cx="4119480" cy="6310440"/>
          </a:xfrm>
        </p:grpSpPr>
        <p:pic>
          <p:nvPicPr>
            <p:cNvPr id="236" name="" descr=""/>
            <p:cNvPicPr/>
            <p:nvPr/>
          </p:nvPicPr>
          <p:blipFill>
            <a:blip r:embed="rId3"/>
            <a:srcRect l="28268" t="0" r="30013" b="3255"/>
            <a:stretch/>
          </p:blipFill>
          <p:spPr>
            <a:xfrm>
              <a:off x="4932360" y="333360"/>
              <a:ext cx="4119480" cy="63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9036000" y="333360"/>
              <a:ext cx="0" cy="6264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7CDC-0142-445C-8479-8A5F6C30E0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699920"/>
            <a:ext cx="7448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itos Lógicos Combina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i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apas do Projeto de um Circuito Lógico Comb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ific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e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3B26-D8FB-465E-84D6-6CC62C61C1F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construídos Mapas de Karnaugh para 5 ou mais variáveis –&gt; maior nível de complexidade na constr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7DF2-BBA4-410F-866E-47453F2355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03280" y="1812600"/>
            <a:ext cx="75614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58240" y="2903400"/>
            <a:ext cx="2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WISS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702960" y="3068640"/>
            <a:ext cx="2215080" cy="2444760"/>
            <a:chOff x="3702960" y="3068640"/>
            <a:chExt cx="2215080" cy="2444760"/>
          </a:xfrm>
        </p:grpSpPr>
        <p:sp>
          <p:nvSpPr>
            <p:cNvPr id="244" name=""/>
            <p:cNvSpPr/>
            <p:nvPr/>
          </p:nvSpPr>
          <p:spPr>
            <a:xfrm>
              <a:off x="4006800" y="3409920"/>
              <a:ext cx="191124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62240" y="3068640"/>
              <a:ext cx="1800" cy="178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84520" y="3409920"/>
              <a:ext cx="1800" cy="178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40320" y="3409920"/>
              <a:ext cx="1440" cy="178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55520" y="3608640"/>
              <a:ext cx="21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77800" y="3608640"/>
              <a:ext cx="21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702960" y="4091040"/>
              <a:ext cx="2215080" cy="1422360"/>
              <a:chOff x="3702960" y="4091040"/>
              <a:chExt cx="2215080" cy="1422360"/>
            </a:xfrm>
          </p:grpSpPr>
          <p:sp>
            <p:nvSpPr>
              <p:cNvPr id="251" name=""/>
              <p:cNvSpPr/>
              <p:nvPr/>
            </p:nvSpPr>
            <p:spPr>
              <a:xfrm>
                <a:off x="3827160" y="4091040"/>
                <a:ext cx="20908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02960" y="4289400"/>
                <a:ext cx="221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WISS"/>
                  </a:rPr>
                  <a:t>x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45240" y="5056200"/>
                <a:ext cx="186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WISS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00080" y="4289400"/>
                <a:ext cx="218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SWISS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77800" y="4289400"/>
                <a:ext cx="218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SWISS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4600080" y="3608640"/>
              <a:ext cx="21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18000" y="3559320"/>
            <a:ext cx="835200" cy="2490120"/>
            <a:chOff x="4518000" y="3559320"/>
            <a:chExt cx="835200" cy="2490120"/>
          </a:xfrm>
        </p:grpSpPr>
        <p:sp>
          <p:nvSpPr>
            <p:cNvPr id="258" name=""/>
            <p:cNvSpPr/>
            <p:nvPr/>
          </p:nvSpPr>
          <p:spPr>
            <a:xfrm>
              <a:off x="5276880" y="5562360"/>
              <a:ext cx="1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18000" y="3559320"/>
              <a:ext cx="835200" cy="1191960"/>
            </a:xfrm>
            <a:custGeom>
              <a:avLst/>
              <a:gdLst>
                <a:gd name="textAreaLeft" fmla="*/ 34920 w 835200"/>
                <a:gd name="textAreaRight" fmla="*/ 800280 w 835200"/>
                <a:gd name="textAreaTop" fmla="*/ 34920 h 1191960"/>
                <a:gd name="textAreaBottom" fmla="*/ 1157040 h 1191960"/>
              </a:gdLst>
              <a:ahLst/>
              <a:rect l="textAreaLeft" t="textAreaTop" r="textAreaRight" b="textAreaBottom"/>
              <a:pathLst>
                <a:path w="21600" h="30823">
                  <a:moveTo>
                    <a:pt x="3086" y="0"/>
                  </a:moveTo>
                  <a:arcTo wR="3086" hR="3086" stAng="16200000" swAng="-5400000"/>
                  <a:lnTo>
                    <a:pt x="0" y="27737"/>
                  </a:lnTo>
                  <a:arcTo wR="3086" hR="3086" stAng="10800000" swAng="-5400000"/>
                  <a:lnTo>
                    <a:pt x="18514" y="30823"/>
                  </a:lnTo>
                  <a:arcTo wR="3086" hR="3086" stAng="5400000" swAng="-5400000"/>
                  <a:lnTo>
                    <a:pt x="21600" y="3086"/>
                  </a:lnTo>
                  <a:arcTo wR="3086" hR="3086" stAng="0" swAng="-5400000"/>
                  <a:close/>
                </a:path>
              </a:pathLst>
            </a:custGeom>
            <a:noFill/>
            <a:ln w="39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040360" y="3522600"/>
            <a:ext cx="961920" cy="2533680"/>
            <a:chOff x="5040360" y="3522600"/>
            <a:chExt cx="961920" cy="2533680"/>
          </a:xfrm>
        </p:grpSpPr>
        <p:grpSp>
          <p:nvGrpSpPr>
            <p:cNvPr id="261" name=""/>
            <p:cNvGrpSpPr/>
            <p:nvPr/>
          </p:nvGrpSpPr>
          <p:grpSpPr>
            <a:xfrm>
              <a:off x="5527800" y="5558040"/>
              <a:ext cx="474480" cy="498240"/>
              <a:chOff x="5527800" y="5558040"/>
              <a:chExt cx="474480" cy="498240"/>
            </a:xfrm>
          </p:grpSpPr>
          <p:sp>
            <p:nvSpPr>
              <p:cNvPr id="262" name=""/>
              <p:cNvSpPr/>
              <p:nvPr/>
            </p:nvSpPr>
            <p:spPr>
              <a:xfrm>
                <a:off x="5894280" y="5568840"/>
                <a:ext cx="892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5827680" y="5568840"/>
                <a:ext cx="174600" cy="487440"/>
                <a:chOff x="5827680" y="5568840"/>
                <a:chExt cx="174600" cy="4874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35600" y="5626080"/>
                  <a:ext cx="1652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00840" y="5568840"/>
                  <a:ext cx="144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27680" y="5568840"/>
                  <a:ext cx="180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5527800" y="5558040"/>
                <a:ext cx="14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5040360" y="3522600"/>
              <a:ext cx="716040" cy="511200"/>
            </a:xfrm>
            <a:prstGeom prst="roundRect">
              <a:avLst>
                <a:gd name="adj" fmla="val 33333"/>
              </a:avLst>
            </a:prstGeom>
            <a:noFill/>
            <a:ln w="39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632560" y="5486400"/>
            <a:ext cx="503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BE61-F656-41BF-BC27-292FFED3E1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35160" y="3179880"/>
            <a:ext cx="1841760" cy="696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4615560" y="3689640"/>
            <a:ext cx="1841400" cy="696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763280" y="2840040"/>
            <a:ext cx="6428160" cy="1428840"/>
            <a:chOff x="1763280" y="2840040"/>
            <a:chExt cx="6428160" cy="1428840"/>
          </a:xfrm>
        </p:grpSpPr>
        <p:sp>
          <p:nvSpPr>
            <p:cNvPr id="275" name=""/>
            <p:cNvSpPr/>
            <p:nvPr/>
          </p:nvSpPr>
          <p:spPr>
            <a:xfrm>
              <a:off x="6210360" y="3202200"/>
              <a:ext cx="1841400" cy="6969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4200" y="2860920"/>
              <a:ext cx="957240" cy="14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902600" y="3181320"/>
              <a:ext cx="1841400" cy="6969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762920" y="2840040"/>
              <a:ext cx="957240" cy="140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269440" y="2781360"/>
            <a:ext cx="4735800" cy="3156840"/>
            <a:chOff x="2269440" y="2781360"/>
            <a:chExt cx="4735800" cy="3156840"/>
          </a:xfrm>
        </p:grpSpPr>
        <p:sp>
          <p:nvSpPr>
            <p:cNvPr id="280" name=""/>
            <p:cNvSpPr/>
            <p:nvPr/>
          </p:nvSpPr>
          <p:spPr>
            <a:xfrm>
              <a:off x="3557160" y="318132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46080" y="315900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16280" y="31734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28960" y="31622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66960" y="422892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60640" y="425772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92000" y="426060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54440" y="42354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6840" y="3214440"/>
              <a:ext cx="418788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38480" y="2781360"/>
              <a:ext cx="0" cy="249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9880" y="4227480"/>
              <a:ext cx="46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22200" y="3217680"/>
              <a:ext cx="0" cy="255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84640" y="3203640"/>
              <a:ext cx="0" cy="259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69440" y="43516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93680" y="5173920"/>
              <a:ext cx="42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2D6A-5F13-4C4D-9751-9E0D5DDBD9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194920" y="2556000"/>
            <a:ext cx="4735800" cy="3155760"/>
            <a:chOff x="2194920" y="2556000"/>
            <a:chExt cx="4735800" cy="3155760"/>
          </a:xfrm>
        </p:grpSpPr>
        <p:sp>
          <p:nvSpPr>
            <p:cNvPr id="298" name=""/>
            <p:cNvSpPr/>
            <p:nvPr/>
          </p:nvSpPr>
          <p:spPr>
            <a:xfrm>
              <a:off x="3482640" y="295596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71560" y="293364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1760" y="2948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54440" y="29368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92440" y="400356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86120" y="403236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17480" y="403524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9920" y="4010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22320" y="2989080"/>
              <a:ext cx="4187880" cy="2057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3960" y="2556000"/>
              <a:ext cx="0" cy="249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95360" y="4002120"/>
              <a:ext cx="46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7680" y="2992320"/>
              <a:ext cx="0" cy="255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10120" y="2978280"/>
              <a:ext cx="0" cy="2595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4920" y="41263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1560" y="4949640"/>
              <a:ext cx="18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857680" y="3130560"/>
            <a:ext cx="1841400" cy="180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96600" y="2343240"/>
            <a:ext cx="6428160" cy="3461400"/>
            <a:chOff x="1596600" y="2343240"/>
            <a:chExt cx="6428160" cy="3461400"/>
          </a:xfrm>
        </p:grpSpPr>
        <p:sp>
          <p:nvSpPr>
            <p:cNvPr id="315" name=""/>
            <p:cNvSpPr/>
            <p:nvPr/>
          </p:nvSpPr>
          <p:spPr>
            <a:xfrm>
              <a:off x="6043680" y="3220560"/>
              <a:ext cx="1841400" cy="1688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7520" y="2393640"/>
              <a:ext cx="957240" cy="34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735920" y="3169800"/>
              <a:ext cx="1841400" cy="1688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96240" y="2343240"/>
              <a:ext cx="957240" cy="341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924360" y="3068640"/>
            <a:ext cx="1841400" cy="180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843A-F802-4A49-BD15-9C1983C5DE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19560" y="2035080"/>
            <a:ext cx="0" cy="378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03640" y="2697120"/>
            <a:ext cx="0" cy="38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65720" y="2674800"/>
            <a:ext cx="0" cy="393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340000" y="2060640"/>
            <a:ext cx="5481720" cy="4476240"/>
            <a:chOff x="2340000" y="2060640"/>
            <a:chExt cx="5481720" cy="4476240"/>
          </a:xfrm>
        </p:grpSpPr>
        <p:sp>
          <p:nvSpPr>
            <p:cNvPr id="326" name=""/>
            <p:cNvSpPr/>
            <p:nvPr/>
          </p:nvSpPr>
          <p:spPr>
            <a:xfrm>
              <a:off x="3726000" y="4964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5560" y="49482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84840" y="4967280"/>
              <a:ext cx="6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19960" y="49672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05400" y="41734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02240" y="41716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62880" y="41734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19960" y="41734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95760" y="26082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684680" y="25858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15000" y="26002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57920" y="257328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1160" y="339876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13640" y="338436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87840" y="3416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35520" y="340488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978280" y="2692080"/>
              <a:ext cx="4187880" cy="3119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2436840" y="4228560"/>
              <a:ext cx="4749840" cy="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86840" y="404172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51520" y="20606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88080" y="601632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957400" y="3470040"/>
              <a:ext cx="48405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81520" y="502416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0000" y="4682880"/>
              <a:ext cx="53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5178600" y="2808360"/>
            <a:ext cx="1854000" cy="1359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0480" y="3570120"/>
            <a:ext cx="1854360" cy="1359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422800" y="2363760"/>
            <a:ext cx="5308200" cy="3796920"/>
            <a:chOff x="2422800" y="2363760"/>
            <a:chExt cx="5308200" cy="3796920"/>
          </a:xfrm>
        </p:grpSpPr>
        <p:grpSp>
          <p:nvGrpSpPr>
            <p:cNvPr id="353" name=""/>
            <p:cNvGrpSpPr/>
            <p:nvPr/>
          </p:nvGrpSpPr>
          <p:grpSpPr>
            <a:xfrm>
              <a:off x="6207120" y="2363760"/>
              <a:ext cx="1523880" cy="1067040"/>
              <a:chOff x="6207120" y="2363760"/>
              <a:chExt cx="1523880" cy="1067040"/>
            </a:xfrm>
          </p:grpSpPr>
          <p:sp>
            <p:nvSpPr>
              <p:cNvPr id="354" name=""/>
              <p:cNvSpPr/>
              <p:nvPr/>
            </p:nvSpPr>
            <p:spPr>
              <a:xfrm>
                <a:off x="6257880" y="2440080"/>
                <a:ext cx="1257480" cy="9525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207120" y="2363760"/>
                <a:ext cx="15238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299360" y="2554560"/>
                <a:ext cx="330120" cy="87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435400" y="2363760"/>
              <a:ext cx="1625040" cy="1067040"/>
              <a:chOff x="2435400" y="2363760"/>
              <a:chExt cx="1625040" cy="106704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2665080" y="2440080"/>
                <a:ext cx="1341000" cy="95256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435400" y="2363760"/>
                <a:ext cx="16250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2543400" y="2554560"/>
                <a:ext cx="352080" cy="87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422800" y="5094360"/>
              <a:ext cx="1625400" cy="1066320"/>
              <a:chOff x="2422800" y="5094360"/>
              <a:chExt cx="1625400" cy="1066320"/>
            </a:xfrm>
          </p:grpSpPr>
          <p:sp>
            <p:nvSpPr>
              <p:cNvPr id="362" name=""/>
              <p:cNvSpPr/>
              <p:nvPr/>
            </p:nvSpPr>
            <p:spPr>
              <a:xfrm flipH="1" flipV="1">
                <a:off x="2652840" y="5132160"/>
                <a:ext cx="1341360" cy="952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2422440" y="5932440"/>
                <a:ext cx="162540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>
                <a:off x="2531160" y="5094000"/>
                <a:ext cx="352080" cy="87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207120" y="5081760"/>
              <a:ext cx="1523880" cy="1066320"/>
              <a:chOff x="6207120" y="5081760"/>
              <a:chExt cx="1523880" cy="1066320"/>
            </a:xfrm>
          </p:grpSpPr>
          <p:sp>
            <p:nvSpPr>
              <p:cNvPr id="366" name=""/>
              <p:cNvSpPr/>
              <p:nvPr/>
            </p:nvSpPr>
            <p:spPr>
              <a:xfrm flipV="1">
                <a:off x="6257880" y="5119560"/>
                <a:ext cx="1257480" cy="952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207120" y="5919840"/>
                <a:ext cx="1523880" cy="228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7299360" y="5081400"/>
                <a:ext cx="330120" cy="87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43F2-6E47-4212-BBD5-9E8994D2D5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11720" y="1957320"/>
            <a:ext cx="0" cy="378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95800" y="2619360"/>
            <a:ext cx="0" cy="38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57880" y="2597040"/>
            <a:ext cx="0" cy="393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80160" y="3925800"/>
            <a:ext cx="4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56280" y="184320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92840" y="611676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41600" y="2508120"/>
            <a:ext cx="5361120" cy="3238560"/>
            <a:chOff x="2541600" y="2508120"/>
            <a:chExt cx="5361120" cy="3238560"/>
          </a:xfrm>
        </p:grpSpPr>
        <p:sp>
          <p:nvSpPr>
            <p:cNvPr id="378" name=""/>
            <p:cNvSpPr/>
            <p:nvPr/>
          </p:nvSpPr>
          <p:spPr>
            <a:xfrm>
              <a:off x="3830760" y="48988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10320" y="48830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89960" y="49021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24720" y="49021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10160" y="41083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07000" y="410688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67640" y="41083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24720" y="4108320"/>
              <a:ext cx="66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0520" y="254304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9440" y="252072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19760" y="2535120"/>
              <a:ext cx="4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63040" y="250812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95920" y="33336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818400" y="331920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92600" y="335124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40640" y="3340080"/>
              <a:ext cx="43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83040" y="2627280"/>
              <a:ext cx="4187880" cy="3119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541600" y="4163760"/>
              <a:ext cx="4749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062520" y="3405240"/>
              <a:ext cx="48402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86280" y="4959360"/>
              <a:ext cx="480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432160" y="466884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16200000">
            <a:off x="3752640" y="3256920"/>
            <a:ext cx="2933640" cy="1866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44720" y="4191120"/>
            <a:ext cx="127080" cy="14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997360" y="2755800"/>
            <a:ext cx="4431960" cy="2882880"/>
            <a:chOff x="2997360" y="2755800"/>
            <a:chExt cx="4431960" cy="2882880"/>
          </a:xfrm>
        </p:grpSpPr>
        <p:grpSp>
          <p:nvGrpSpPr>
            <p:cNvPr id="402" name=""/>
            <p:cNvGrpSpPr/>
            <p:nvPr/>
          </p:nvGrpSpPr>
          <p:grpSpPr>
            <a:xfrm>
              <a:off x="2997360" y="2755800"/>
              <a:ext cx="1104840" cy="2882880"/>
              <a:chOff x="2997360" y="2755800"/>
              <a:chExt cx="1104840" cy="288288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3657960" y="5205960"/>
                <a:ext cx="4312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4102200" y="2971440"/>
                <a:ext cx="0" cy="246384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71280" y="2755800"/>
                <a:ext cx="43056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3009600" y="2755800"/>
                <a:ext cx="87660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2997360" y="5638680"/>
                <a:ext cx="8762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324480" y="2755800"/>
              <a:ext cx="1104840" cy="2882880"/>
              <a:chOff x="6324480" y="2755800"/>
              <a:chExt cx="1104840" cy="2882880"/>
            </a:xfrm>
          </p:grpSpPr>
          <p:sp>
            <p:nvSpPr>
              <p:cNvPr id="409" name=""/>
              <p:cNvSpPr/>
              <p:nvPr/>
            </p:nvSpPr>
            <p:spPr>
              <a:xfrm flipH="1" flipV="1">
                <a:off x="6337440" y="5205960"/>
                <a:ext cx="43128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6324480" y="2971440"/>
                <a:ext cx="0" cy="246384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324840" y="2755800"/>
                <a:ext cx="43056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40480" y="2755800"/>
                <a:ext cx="87660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53080" y="5638680"/>
                <a:ext cx="87624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3187800" y="2463480"/>
            <a:ext cx="3987000" cy="3569040"/>
            <a:chOff x="3187800" y="2463480"/>
            <a:chExt cx="3987000" cy="3569040"/>
          </a:xfrm>
        </p:grpSpPr>
        <p:grpSp>
          <p:nvGrpSpPr>
            <p:cNvPr id="415" name=""/>
            <p:cNvGrpSpPr/>
            <p:nvPr/>
          </p:nvGrpSpPr>
          <p:grpSpPr>
            <a:xfrm>
              <a:off x="3187800" y="5142600"/>
              <a:ext cx="3987000" cy="889920"/>
              <a:chOff x="3187800" y="5142600"/>
              <a:chExt cx="3987000" cy="889920"/>
            </a:xfrm>
          </p:grpSpPr>
          <p:sp>
            <p:nvSpPr>
              <p:cNvPr id="416" name=""/>
              <p:cNvSpPr/>
              <p:nvPr/>
            </p:nvSpPr>
            <p:spPr>
              <a:xfrm flipV="1" rot="16200000">
                <a:off x="6701760" y="5028480"/>
                <a:ext cx="3470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485520" y="5142600"/>
                <a:ext cx="340740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6200000">
                <a:off x="3312360" y="5018760"/>
                <a:ext cx="3463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87800" y="5316480"/>
                <a:ext cx="0" cy="7056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74800" y="5327280"/>
                <a:ext cx="0" cy="70524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3187800" y="2463480"/>
              <a:ext cx="3987000" cy="889920"/>
              <a:chOff x="3187800" y="2463480"/>
              <a:chExt cx="3987000" cy="889920"/>
            </a:xfrm>
          </p:grpSpPr>
          <p:sp>
            <p:nvSpPr>
              <p:cNvPr id="422" name=""/>
              <p:cNvSpPr/>
              <p:nvPr/>
            </p:nvSpPr>
            <p:spPr>
              <a:xfrm flipH="1" flipV="1" rot="16200000">
                <a:off x="6701400" y="2870640"/>
                <a:ext cx="347040" cy="59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3485520" y="3353400"/>
                <a:ext cx="3407400" cy="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-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 rot="16200000">
                <a:off x="3312360" y="2881800"/>
                <a:ext cx="3463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187800" y="2473920"/>
                <a:ext cx="0" cy="70560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7174800" y="2463480"/>
                <a:ext cx="0" cy="70524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 rot="16200000">
            <a:off x="2685960" y="3206160"/>
            <a:ext cx="2933640" cy="194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51160" y="3517920"/>
            <a:ext cx="3873600" cy="1308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2781360"/>
            <a:ext cx="3873240" cy="13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AAA7-475A-4421-9C82-9D1A132BE0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4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89520" y="2138400"/>
            <a:ext cx="2993760" cy="2502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98200" y="4840200"/>
            <a:ext cx="13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WISS"/>
              </a:rPr>
              <a:t>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10720" y="3895560"/>
            <a:ext cx="23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WISS"/>
              </a:rPr>
              <a:t>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21160" y="3397320"/>
            <a:ext cx="3462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86400" y="1824120"/>
            <a:ext cx="1440" cy="2832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37240" y="2138400"/>
            <a:ext cx="2880" cy="2989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35560" y="2138400"/>
            <a:ext cx="1800" cy="2989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89520" y="4027320"/>
            <a:ext cx="34621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89520" y="2768760"/>
            <a:ext cx="34621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48600" y="252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98840" y="252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46560" y="252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96440" y="252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48600" y="315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8840" y="315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46560" y="315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96440" y="315108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57880" y="3780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05240" y="3780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954760" y="3780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02480" y="378000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48600" y="4408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98840" y="440856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4760" y="44085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702480" y="44085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018400" y="28209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18400" y="40784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14200" y="28209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67200" y="28209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69960" y="407844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69960" y="34495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25880" y="34495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67560" y="34495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67560" y="407844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423120" y="407844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514560" y="34495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9960" y="219240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18400" y="219240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67200" y="219240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514200" y="219240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9960" y="2820960"/>
            <a:ext cx="14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97160" y="3429000"/>
            <a:ext cx="2806920" cy="1103400"/>
          </a:xfrm>
          <a:prstGeom prst="roundRect">
            <a:avLst>
              <a:gd name="adj" fmla="val 14287"/>
            </a:avLst>
          </a:prstGeom>
          <a:noFill/>
          <a:ln w="442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35520" y="2846520"/>
            <a:ext cx="1306440" cy="107136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83240" y="2925720"/>
            <a:ext cx="1308240" cy="88128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84880" y="3129120"/>
            <a:ext cx="156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WISS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45560" y="1557360"/>
            <a:ext cx="150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WISS"/>
              </a:rPr>
              <a:t>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32000" y="5445000"/>
            <a:ext cx="7632720" cy="11912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utras formas de obten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Ferramenta para manipulação de Mapas de Karnaugh (4 variáve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9696"/>
                </a:solidFill>
                <a:uFillTx/>
                <a:latin typeface="Arial"/>
                <a:hlinkClick r:id="rId2"/>
              </a:rPr>
              <a:t>Ferramenta para manipulação de Mapas de Karnaugh (applet Java)      (6 variáve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A436-F085-4D8E-8700-3FFDCBCE9B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a a tabela-verdade a seguir, obtenha a expressão simplificada utilizando o Mapa de Karna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rcRect l="0" t="0" r="76642" b="7702"/>
          <a:stretch/>
        </p:blipFill>
        <p:spPr>
          <a:xfrm>
            <a:off x="1835280" y="342900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3676-5914-4F0D-8180-A92B2BCF38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mplificação –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pa de Karnaugh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02920" y="1812960"/>
            <a:ext cx="280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a a tabela-verdade a seguir, obtenha a expressão simplificada utilizando o Mapa de Karna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rcRect l="0" t="0" r="70522" b="0"/>
          <a:stretch/>
        </p:blipFill>
        <p:spPr>
          <a:xfrm>
            <a:off x="4427640" y="1700280"/>
            <a:ext cx="3593880" cy="544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0EB2-561B-4887-928A-5916E2A850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03280" y="1773000"/>
            <a:ext cx="756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s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em função de variáveis de entradas e saí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do problema utilizando, por exemplo, uma tabela-ver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im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mplificação utilizando Álbebra de Boole (e/ou Mapas de Karnau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e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ear o esquemático lógico ou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ara a técnica de implementação selecio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77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r a corretude do projeto final manualmente ou utilizando simulação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F5BF-1F64-4949-BABD-B0A2214350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jeto de elementos digitais está relacionado com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versão de idéias 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re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 os elementos encontrados n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lgebra boole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rmitem que uma idéia, uma afirmação, possa ser expressa matema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álgebra boole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rmite também que a expressão resultante da formulação matemática da idéia possa ser simplificada e, finalmente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vertida no mundo real 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de portas lógicas e outros elementos digit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2FD5-DBA6-4472-B8B4-84E25C7513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56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tas Lógicas – Quadro Re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76520" y="2077920"/>
            <a:ext cx="6904080" cy="4664160"/>
            <a:chOff x="1676520" y="2077920"/>
            <a:chExt cx="6904080" cy="46641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1676520" y="2077920"/>
              <a:ext cx="6904080" cy="46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3200400" y="4584600"/>
              <a:ext cx="1066680" cy="73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E984-35A8-4A94-BA24-CD206FCAEB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1773000"/>
            <a:ext cx="756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tas Lógicas – Quadro Re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476360" y="2349360"/>
            <a:ext cx="6904080" cy="3714480"/>
            <a:chOff x="1476360" y="2349360"/>
            <a:chExt cx="6904080" cy="3714480"/>
          </a:xfrm>
        </p:grpSpPr>
        <p:sp>
          <p:nvSpPr>
            <p:cNvPr id="111" name=""/>
            <p:cNvSpPr/>
            <p:nvPr/>
          </p:nvSpPr>
          <p:spPr>
            <a:xfrm>
              <a:off x="2695680" y="4939920"/>
              <a:ext cx="1371600" cy="6858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476360" y="2349360"/>
              <a:ext cx="6904080" cy="37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2695680" y="4939920"/>
              <a:ext cx="1295280" cy="8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990960" y="5092560"/>
              <a:ext cx="76320" cy="457200"/>
            </a:xfrm>
            <a:prstGeom prst="rect">
              <a:avLst/>
            </a:prstGeom>
            <a:noFill/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C838-3262-4FBC-B9D4-087A0057C2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561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tas Lógicas – Quadro Resu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60213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rtas lógica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OR e XN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ão na verdade circuitos obtidos de portas lógicas bás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03280" y="2060640"/>
            <a:ext cx="7097760" cy="3921120"/>
            <a:chOff x="1403280" y="2060640"/>
            <a:chExt cx="7097760" cy="39211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403280" y="2060640"/>
              <a:ext cx="7097760" cy="39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3079440" y="3203640"/>
              <a:ext cx="9907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927160" y="3127320"/>
              <a:ext cx="152280" cy="8384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70160" y="3203640"/>
              <a:ext cx="152280" cy="83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70160" y="4803840"/>
              <a:ext cx="228600" cy="83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27160" y="4803840"/>
              <a:ext cx="152280" cy="838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079440" y="4880160"/>
              <a:ext cx="990720" cy="69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3841920" y="6291360"/>
            <a:ext cx="449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95640" y="6308640"/>
            <a:ext cx="6095880" cy="312840"/>
            <a:chOff x="2195640" y="6308640"/>
            <a:chExt cx="6095880" cy="312840"/>
          </a:xfrm>
        </p:grpSpPr>
        <p:sp>
          <p:nvSpPr>
            <p:cNvPr id="128" name=""/>
            <p:cNvSpPr/>
            <p:nvPr/>
          </p:nvSpPr>
          <p:spPr>
            <a:xfrm>
              <a:off x="2195640" y="6308640"/>
              <a:ext cx="6095880" cy="30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271600" y="6308640"/>
                  <a:ext cx="24256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⊕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5853240" y="6308640"/>
                  <a:ext cx="240660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⊗</m:t>
                      </m:r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⋅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863B-C2F0-44EB-9C50-EBDE5262F3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ceitos Bás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aso de portas 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86360" y="2790720"/>
            <a:ext cx="7578360" cy="2369160"/>
            <a:chOff x="1386360" y="2790720"/>
            <a:chExt cx="7578360" cy="2369160"/>
          </a:xfrm>
        </p:grpSpPr>
        <p:sp>
          <p:nvSpPr>
            <p:cNvPr id="134" name=""/>
            <p:cNvSpPr/>
            <p:nvPr/>
          </p:nvSpPr>
          <p:spPr>
            <a:xfrm flipH="1">
              <a:off x="2679480" y="3425760"/>
              <a:ext cx="3920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59280" y="2955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60720" y="2957400"/>
              <a:ext cx="182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76920" y="2982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88080" y="3429000"/>
              <a:ext cx="182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2668320" y="4350960"/>
              <a:ext cx="10904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746520" y="38847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47960" y="3886200"/>
              <a:ext cx="182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564160" y="39117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5320" y="4357800"/>
              <a:ext cx="182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59280" y="35528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46520" y="35542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8360" y="354348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53000" y="35323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32200" y="3375000"/>
              <a:ext cx="965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24280" y="3392640"/>
              <a:ext cx="965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86360" y="30430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tr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63120" y="390852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í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2720" y="4713120"/>
              <a:ext cx="476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26520" y="476100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mpo (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03360" y="323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04800" y="4162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04800" y="2790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6600" y="3719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3680" y="4710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4480" y="47242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8880" y="4722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04840" y="471312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21360" y="3338640"/>
              <a:ext cx="204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= 0.3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702080" y="5661000"/>
            <a:ext cx="193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ate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C6B0-4D5D-4FD8-B5B7-D40D215CDB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02920" y="1812960"/>
            <a:ext cx="727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aída é função dos valores de entrada corr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s circuitos não têm capacidade de armazena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6019920" cy="18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3150-F941-465D-98E6-73FFEB975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56144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eqüência de opera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r todas as variáveis de entra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r todas as variáveis de saí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artir da combinação das variáveis de entrada, montar a tabela-verdade para cada saí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r, a partir da tabela-verdade,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pressão boolean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cada saí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r, a partir da expressão booleana, o circuito combinacional correspond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60520" y="2349360"/>
            <a:ext cx="7575480" cy="822600"/>
            <a:chOff x="1460520" y="2349360"/>
            <a:chExt cx="7575480" cy="822600"/>
          </a:xfrm>
        </p:grpSpPr>
        <p:sp>
          <p:nvSpPr>
            <p:cNvPr id="170" name=""/>
            <p:cNvSpPr/>
            <p:nvPr/>
          </p:nvSpPr>
          <p:spPr>
            <a:xfrm>
              <a:off x="1460520" y="2349360"/>
              <a:ext cx="151776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9040" y="2484720"/>
              <a:ext cx="126072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89120" y="263556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TU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8320" y="2349360"/>
              <a:ext cx="151920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99000" y="2349360"/>
              <a:ext cx="151776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16800" y="2349360"/>
              <a:ext cx="1519200" cy="82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06840" y="2484720"/>
              <a:ext cx="126216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6760" y="2553480"/>
              <a:ext cx="876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BELA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8080" y="2775240"/>
              <a:ext cx="99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R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27880" y="2484720"/>
              <a:ext cx="138420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49840" y="2635560"/>
              <a:ext cx="1263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45320" y="2484720"/>
              <a:ext cx="126216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44760" y="264420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RCUI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975040" y="2683080"/>
              <a:ext cx="502920" cy="148680"/>
              <a:chOff x="2975040" y="2683080"/>
              <a:chExt cx="502920" cy="148680"/>
            </a:xfrm>
          </p:grpSpPr>
          <p:sp>
            <p:nvSpPr>
              <p:cNvPr id="184" name=""/>
              <p:cNvSpPr/>
              <p:nvPr/>
            </p:nvSpPr>
            <p:spPr>
              <a:xfrm>
                <a:off x="2975040" y="2755440"/>
                <a:ext cx="371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40440" y="2683080"/>
                <a:ext cx="137520" cy="14868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994280" y="2683080"/>
              <a:ext cx="504360" cy="148680"/>
              <a:chOff x="4994280" y="2683080"/>
              <a:chExt cx="504360" cy="14868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4280" y="2755440"/>
                <a:ext cx="37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360400" y="2683080"/>
                <a:ext cx="138240" cy="14868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012080" y="2683080"/>
              <a:ext cx="504360" cy="148680"/>
              <a:chOff x="7012080" y="2683080"/>
              <a:chExt cx="504360" cy="148680"/>
            </a:xfrm>
          </p:grpSpPr>
          <p:sp>
            <p:nvSpPr>
              <p:cNvPr id="190" name=""/>
              <p:cNvSpPr/>
              <p:nvPr/>
            </p:nvSpPr>
            <p:spPr>
              <a:xfrm>
                <a:off x="7012080" y="2755440"/>
                <a:ext cx="372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78200" y="2683080"/>
                <a:ext cx="138240" cy="14868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0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E375-D4CB-4C37-921A-FAEC70448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9-17T09:17:18Z</dcterms:modified>
  <cp:revision>183</cp:revision>
  <dc:subject/>
  <dc:title>Organização e Arquitetura de Computadores I</dc:title>
</cp:coreProperties>
</file>