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B592-A308-48DF-A986-CCA214D3A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85D3-9576-4941-8B3D-D54EDA96F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CDDE-2975-48B1-A4F2-8C22D6C07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021D-192C-4282-9BBD-6D0C7E39C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C2934-D767-47B8-B675-A41424E9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CB25B-E028-464B-AA9F-85A32EFF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C3A9C-761D-4B72-87C9-D8C71E47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08B48-11A5-4FA0-B833-48B28B2D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CE52B-5487-4BEC-81EF-4F552829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68524-B7B2-4E17-8CA1-3186828F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28612-E8F0-410C-8C53-F324E6EF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9BB1-42E4-4746-8055-6BA81E9BF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32C2B-823F-4A95-8934-5B2A8CF1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9D825-6CAC-4114-B040-843624A0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6DA54-3C98-400D-A7A4-0DE79D91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C983C-C444-4AD0-8889-0EF757A5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864F2-A2E2-4F0C-899E-34C4A840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D4B9-89A9-4FE0-8FA4-10681EF17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9338-6C25-40A7-8FEE-F64DAE20D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981F-526A-4F6C-A0C5-D1A33B81A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8D6E-B7B6-484A-9862-42E204AF6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F204-4A45-496D-912B-32FAFA281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DBDF-BFC6-4494-9961-43E799F86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C200-682E-4DA2-A904-690E441AE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6631-A040-404B-8B59-1024DB5571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24000" y="6165360"/>
            <a:ext cx="647640" cy="576360"/>
            <a:chOff x="32400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32400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8608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35460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8824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35568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9E96-8BC0-482B-B366-27577938BF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34920" y="3499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Parte II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umas defin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númer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1,10101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10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,10101 = signific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01 = expo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base binária  não precisa ser explicitad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o computador usa sempre e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“1” antes da vírgula, na representação normaliz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 for adotada, também pode ficar implícito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conomizando um bit (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t escondi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nto Flutuan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B17B-41B9-4F67-BF02-5EBBFBB024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mazenamento de Fl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 organização/arquitetura do computador, deve-se defini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 de bits do significando (precisão,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 de bits do expoente 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bit (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para + e 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para -) de sinal (tipicamente o primeiro, da esquer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nto Flutuan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E016-C129-4604-BD5C-91970716FC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416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592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adrão IEEE 754 para ponto (vírgula) flutuante é a representação mais comum para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úmeros re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m computadores de hoje, incluindo PC's compatíveis com Intel, Macintosh, e a maioria das plataformas Unix/Lin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O padrão IEEE 754 define três formatos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cisão simpl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32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cisão dupl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64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cisão estendida (80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formatos de precisão simples e precisão dupla usam a base 2 para o significando e a notação em excesso para o expo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1D2F-8246-4755-9D8E-0955DA81C3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3933720"/>
            <a:ext cx="75931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0 = + e 1 =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açõ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nal + Expoente + Signific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ação 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sso de 12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it de polarização): precisão si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ação 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sso de 102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it de polarização): precisão dup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47640" y="2205000"/>
          <a:ext cx="6934320" cy="1523880"/>
        </p:xfrm>
        <a:graphic>
          <a:graphicData uri="http://schemas.openxmlformats.org/drawingml/2006/table">
            <a:tbl>
              <a:tblPr/>
              <a:tblGrid>
                <a:gridCol w="2133720"/>
                <a:gridCol w="1143000"/>
                <a:gridCol w="1828800"/>
                <a:gridCol w="1828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ente(+/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2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3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30-23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22-0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4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63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62-5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51-0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1B23-8779-44A2-B19B-AEAF52183D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oentes na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recisão simpl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/256 combin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20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111111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127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= expoente zer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polariz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20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000000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menor expoente = –126 (abaixo de 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20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11111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maior expoente = +127 (acima de 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6318-527B-4E73-917A-1A0E4E1CB5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71240" y="1988640"/>
            <a:ext cx="7304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: Realize as conversões abaix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0,875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   ?   )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IEEE 754, com 32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1000001110100000000000000000000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IEEE 754, com 32 bits) =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   ?   )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6320-3BBF-4287-8BA9-8381055289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,875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10,11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010111 x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al: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ente: 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127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x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3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do: 0101110000000000000000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EEE 754, com 32 bits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100000100101110000000000000000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7303-C129-4E3B-85E4-9DECEFB63E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32000" y="181296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1000001110100000000000000000000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IEEE 754, com 32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al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oente: 10000011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131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127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= 131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gnificando: 10100000000000000000000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(negativo) 1,101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x 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11010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26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EBDA-0755-4443-A958-087A62461E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32000" y="2571840"/>
            <a:ext cx="7543800" cy="380988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40796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numéricos IEEE 7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32000" y="2800440"/>
            <a:ext cx="7390800" cy="2821680"/>
            <a:chOff x="1332000" y="2800440"/>
            <a:chExt cx="7390800" cy="2821680"/>
          </a:xfrm>
        </p:grpSpPr>
        <p:grpSp>
          <p:nvGrpSpPr>
            <p:cNvPr id="139" name=""/>
            <p:cNvGrpSpPr/>
            <p:nvPr/>
          </p:nvGrpSpPr>
          <p:grpSpPr>
            <a:xfrm>
              <a:off x="1712880" y="2800440"/>
              <a:ext cx="7009560" cy="383040"/>
              <a:chOff x="1712880" y="2800440"/>
              <a:chExt cx="7009560" cy="383040"/>
            </a:xfrm>
          </p:grpSpPr>
          <p:sp>
            <p:nvSpPr>
              <p:cNvPr id="140" name=""/>
              <p:cNvSpPr/>
              <p:nvPr/>
            </p:nvSpPr>
            <p:spPr>
              <a:xfrm>
                <a:off x="2931480" y="2800440"/>
                <a:ext cx="38088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07800" y="287640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12720" y="2800440"/>
                <a:ext cx="159984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88680" y="2876400"/>
                <a:ext cx="144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0 &lt; Exp &lt; 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12920" y="2800440"/>
                <a:ext cx="380952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12920" y="2876400"/>
                <a:ext cx="373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Qualquer configuração de b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12880" y="2876400"/>
                <a:ext cx="121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ormaliza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931840" y="3409920"/>
              <a:ext cx="38088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08160" y="3486240"/>
              <a:ext cx="38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13080" y="3409920"/>
              <a:ext cx="159984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89040" y="348624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00 ...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13280" y="3409920"/>
              <a:ext cx="380952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13280" y="3486240"/>
              <a:ext cx="37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quer configuração de bits diferente de ze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2000" y="3486240"/>
              <a:ext cx="15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ão-Normaliz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712880" y="4019400"/>
              <a:ext cx="7009560" cy="383040"/>
              <a:chOff x="1712880" y="4019400"/>
              <a:chExt cx="7009560" cy="383040"/>
            </a:xfrm>
          </p:grpSpPr>
          <p:sp>
            <p:nvSpPr>
              <p:cNvPr id="155" name=""/>
              <p:cNvSpPr/>
              <p:nvPr/>
            </p:nvSpPr>
            <p:spPr>
              <a:xfrm>
                <a:off x="2931480" y="4019400"/>
                <a:ext cx="38088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007800" y="409536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12720" y="4019400"/>
                <a:ext cx="159984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88680" y="4095360"/>
                <a:ext cx="144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00 ...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12920" y="4019400"/>
                <a:ext cx="380952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12920" y="4095360"/>
                <a:ext cx="373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00 ...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712880" y="4095360"/>
                <a:ext cx="121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Zer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712880" y="4629240"/>
              <a:ext cx="7009560" cy="383040"/>
              <a:chOff x="1712880" y="4629240"/>
              <a:chExt cx="7009560" cy="383040"/>
            </a:xfrm>
          </p:grpSpPr>
          <p:sp>
            <p:nvSpPr>
              <p:cNvPr id="163" name=""/>
              <p:cNvSpPr/>
              <p:nvPr/>
            </p:nvSpPr>
            <p:spPr>
              <a:xfrm>
                <a:off x="2931480" y="4629240"/>
                <a:ext cx="38088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007800" y="470520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12720" y="4629240"/>
                <a:ext cx="159984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88680" y="4705200"/>
                <a:ext cx="144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11 ...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912920" y="4629240"/>
                <a:ext cx="380952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912920" y="4705200"/>
                <a:ext cx="373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00 ..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12880" y="4705200"/>
                <a:ext cx="121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fini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931840" y="5238720"/>
              <a:ext cx="38088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08160" y="5315040"/>
              <a:ext cx="38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13080" y="5238720"/>
              <a:ext cx="159984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89040" y="531504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11 ...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13280" y="5238720"/>
              <a:ext cx="380952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13280" y="5315040"/>
              <a:ext cx="37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quer configuração de bits diferente de ze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07960" y="5315040"/>
              <a:ext cx="152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Not a 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703600" y="60008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t de s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160800" y="569556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9E66-67B3-4D97-B265-A38B8DED8B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oentes na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recisão simpl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/256 combin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al=1 e significando = 0...0 : -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al=0 e significando = 0...0 : +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al=1 e significando = 0...0 : -infin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al=0 e significando = 0...0 : +infin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al=1 e significando =10...0:  indeter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/outras combinações: 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AABC-E476-4998-9D72-451CF91983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ção da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s Inteiros (Complemento de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s Reais (Ponto Flutua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s em B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9219-536E-48AD-8988-9FE4ABA5FBF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or número posi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mbre do bit escondido e não normaliz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00000000 00….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2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1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or número posi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mbre do bit escond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11111110 11...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 (2-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AE683-EDE2-4C09-9D1E-D7ADCB054C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74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oentes na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recisão du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1111111111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1023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= expoente zer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polariz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0000000001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 menor expoente = –1022 (abaixo de 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1111111110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 maior expoente = +1023 (acima de 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nor número posi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lembre do bit escondido e não normaliz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08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 00000000000 00…0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102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5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-10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ior número posi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lembre do bit escond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08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 11111111110 11...1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102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x (2-2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-5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D9A4-F264-4765-9DA6-D5C0F8128C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71240" y="1989000"/>
            <a:ext cx="7521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o Resumo - IEEE 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92360" y="2781360"/>
          <a:ext cx="6933960" cy="2303280"/>
        </p:xfrm>
        <a:graphic>
          <a:graphicData uri="http://schemas.openxmlformats.org/drawingml/2006/table">
            <a:tbl>
              <a:tblPr/>
              <a:tblGrid>
                <a:gridCol w="1371600"/>
                <a:gridCol w="2133360"/>
                <a:gridCol w="2057400"/>
                <a:gridCol w="137160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1-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x 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2-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x 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~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4.8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~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0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1-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x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2-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x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~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23.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~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A191-E494-489A-AEB2-26561ADD69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403280" y="2133720"/>
            <a:ext cx="73389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presentação em ponto flutuante tem limit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c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s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c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 limitado pelo número de bits 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e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s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 determinada pelo número de bits 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Padrão IEEE 754 para Números em Ponto Flutu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7BD9-F8B9-425F-AAA1-799FC0EB03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258560" y="2060640"/>
            <a:ext cx="758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se método consiste na determinação de uma posição fixa para a vírgul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u ponto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os valores representados em ponto fixo para uma determinada operação possuem a mesma quantidade de algarismos inteiros, bem como a mesma quantidade de algarismos fracioná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1101,10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110,00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011,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nto Fix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7109D-A9A4-4A5F-8539-DB07A13E37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627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s posições mais adotadas para a vírgula s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extremidade esquerda do número – nesse caso, o número é totalmente fracionár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extremidade mais a direita do número – nesse caso, o número é inte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ualquer desses casos, no entanto, a vírgula fracionária não estará fisicamente representada na memória; sua posição é determinada na definição da variável, realizada pelo programador (ou pelo compilador), e o sistema memoriza essa posição, mas não a representa fis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nto Fix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665D-30D2-4035-B69F-5675D08C38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371600" y="177336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representação de números reais em ponto flutuante é perfeitamente adequada para fazer cálculos matemáticos, científico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representação em ponto flutuante pode-se ter perda de precisão do número representado ou mesmo haverá números que não podem ser representados p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 representação de números em que é necessário manter precisão até o último algarismo, não é admissível erro por aproxim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Solu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usar a representaçã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inary Coded Decim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Decimal Representado em Binári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BC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23F6-3D27-49DB-9CFA-24E9324FB0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331640" y="1700280"/>
            <a:ext cx="758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idéia do BCD é representar, em binário, cada algarismo de forma  que o número original seja integralmente preserv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dificação BCD não possui extensão fixa, possibilitando representar números com precisão variável - quanto maior o número de bits, maior será a precis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BC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65FF-75CA-42B1-B93D-A548C2F26D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496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ela de Representação dos Números Decimais em B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981080" y="2246400"/>
          <a:ext cx="6096240" cy="4030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6553080" y="6477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a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BC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F7DB-5799-4A69-84BA-8F0D2B0C3D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920" y="170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ela de Representação dos Números Decimais em B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981080" y="2093760"/>
          <a:ext cx="6096240" cy="25527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619280" y="4869000"/>
            <a:ext cx="701028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(  ?   ) B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= 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= 001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= 10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    logo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= 001000111001 (BCD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BC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CA72-9496-4897-83B9-553BE420702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Números Inteir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1640" y="1701360"/>
            <a:ext cx="756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presentação em Complemento d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presentação de números inteiros posi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gual à forma aprendida na conversão decimal/bin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presentação de números inteiros neg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lemento de 1 +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tra forma de obtenção: mantém-se os bits menos significativos da direita para a esquerda até à ocorrência do primeiro bit igual a 1 (inclusive), sendo os bits restantes complementados de 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empl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(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000011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  = +1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   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001010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  = +4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111101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2 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= -1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110101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2 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= -4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F236-5489-427E-8D9E-5A054AC00F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19232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dificação de um dígito em BCD requer 4 b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a utilização de apenas 4 bits por byte não é eficiente, normalmente são armazenados 2 dígitos BCD em um só byte. Esta representação é chamada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BCD comprimido ou compactado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("</a:t>
            </a:r>
            <a:r>
              <a:rPr b="1" i="1" lang="pt-BR" sz="2000" spc="-1" strike="noStrike">
                <a:solidFill>
                  <a:srgbClr val="000099"/>
                </a:solidFill>
                <a:latin typeface="Arial"/>
              </a:rPr>
              <a:t>packed BCD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"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4239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(  ?   ) B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19280" y="4724280"/>
          <a:ext cx="6781680" cy="1569960"/>
        </p:xfrm>
        <a:graphic>
          <a:graphicData uri="http://schemas.openxmlformats.org/drawingml/2006/table">
            <a:tbl>
              <a:tblPr/>
              <a:tblGrid>
                <a:gridCol w="1525680"/>
                <a:gridCol w="1611000"/>
                <a:gridCol w="1525680"/>
                <a:gridCol w="2119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ção BCD comprim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2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ereç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BC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5C28-90A1-4E05-BDE8-EB38957EF2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e os algarismos sem código válido em decimal (códigos representativos dos valores decimais de 10 a 15), é comum utilizar alguns deles para indicar o sinal do núm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á sistemas que adotam a seguinte convenção para o sinal dos números representados em BC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10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 o sinal positivo (“+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 o sinal negativo (“-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BC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C713-8416-4560-9CC0-A7A5849D59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70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 nesta representação ainda há um desperdício de códigos; como BCD usa 4 bits (16 representações possíveis) para representar 10 algarismos, 6 (ou 4) códigos não são utiliz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nto, essa representação é menos eficiente em relação à utilização dos recursos do computador que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presentação em ponto flutua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BC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D0F5-F239-4396-8282-13EF5FABAA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3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 maioria das linguagens de programação e nos sistemas de computação (e os compiladores da maior parte das linguagens de programação) emprega-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representação de números em ponto fixo para indicar valores inteiros (a vírgula fracionária é assumida na posição mais à direita do número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s fracionários s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dos apenas em ponto flutu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Representação da Inform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0204-2F02-42C8-8BB0-4257C6251B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58920" y="191628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s inteiros codificados 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ário de 8 b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um sistema que utiliza complemento d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128, -127, ...,  -2. -1,  0,  +1,  +2,...,  +1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10000000, 10000001, ..., 11111110, 11111111,  00000000, 00000001, 00000010, ..., 0111111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mais significativo       informação de si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 = positivo e 1 = neg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6610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Complemento de 2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5988-9907-4795-ABCB-C9AED697BF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5280" y="1600200"/>
            <a:ext cx="76201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 só circui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mador) para fazer a adição e a subtr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á apenas uma representação para o val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isponibilidade par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s uma representaçã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mais um número negativo pode ser representado (para 8 bits, pode-se representar o número –12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0000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antidade de números positivos 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er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 quantidade de números neg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Complemento de 2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C9B3-FAD9-4AB7-8813-569ED24B1F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71280" y="1844280"/>
            <a:ext cx="7848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úmeros negativos de 8 bits expressos em Complemento de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56000" y="2276640"/>
          <a:ext cx="4464000" cy="4216320"/>
        </p:xfrm>
        <a:graphic>
          <a:graphicData uri="http://schemas.openxmlformats.org/drawingml/2006/table">
            <a:tbl>
              <a:tblPr/>
              <a:tblGrid>
                <a:gridCol w="1179360"/>
                <a:gridCol w="1363680"/>
                <a:gridCol w="19209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cim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inár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mplemento de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1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0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0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0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Complemento de 2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F40C3-BD23-4F6E-96E6-952FB841C1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40360" y="3141720"/>
            <a:ext cx="1944360" cy="60948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presentação em Ponto Flutua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maneira de separar a faixa de variação dos números de sua precisão consiste em representá-lo na notação científ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fração ou significando (ou mantis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expoente (inteiro positivo ou neg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número (inteiro ou fracionário) pode ser expresso no format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úmero x base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expo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odendo-se variar a posição da vírgula  e o expo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nominação (computacional)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presentação em ponto flutua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(o ponto varia sua posição, modificando, em conseqüência, o valor representad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Números Re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E990-2AB1-45C6-B022-7C6D1EF7E6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pode variar (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lutu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) a posição da vírgula, ajustando a potência da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,14 = 0,314 x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3,14 x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,000001= 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 x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 x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41 = 0,1941 x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941 x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ixa de vari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s números é determinada pela quantidade de dígitos do expoente e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ci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determinada pela quantidade de dígitos do significa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nto Flutuan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EB9C-AB7D-4097-9D6A-E4632088CE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18960" y="1699920"/>
            <a:ext cx="79246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 normalizad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a um único dígito antes da vírgula, diferente de zero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representação computacional de números em ponto flutuante, a representação normalizada é, em geral, melhor que a não-normaliz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 normaliz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ó existe uma forma de representar um núm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 não normaliz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m mesmo número pode ser representado de diversas manei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73320" y="4992840"/>
            <a:ext cx="7619760" cy="166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drão IEEE 754 para números em ponto flutuante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ificando normaliz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eça com um bit 1, seguido de um ponto (vírgula) binário e pelo resto do significando (número = ± 1,_ _  ... x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ti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começa com o ponto (vírgula) binário seguido por um bit 1 e pelo resto da mantissa (bit antes da vírgula igual a zer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em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nto Flutuan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BB73-496A-436C-A443-8FCDF84DA4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5-02T11:44:00Z</dcterms:modified>
  <cp:revision>158</cp:revision>
  <dc:subject/>
  <dc:title>Organização e Arquitetura de Computadores I</dc:title>
</cp:coreProperties>
</file>