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B4154-D44A-40D4-9BFE-781DE805D1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12E10-9363-4ABA-A74E-C28D32AAE6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1B61E-118F-4DE6-9DC3-AFF576B3CF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40D57-8584-4B60-8E48-30FB646C9E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3CE3B-8F60-45DA-9284-BB45364BF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AA14F-83F8-4C01-A9FE-C405607B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AECD9-5F46-452D-B632-02288A8C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6222E-BF30-4141-B4E2-43FC9740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14359-3D08-4DD1-ADB2-E530BF15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6254C-B06C-4154-90CE-93917636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316AC-BEFD-4C89-80E2-AA8CC52D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3D319-B97C-4E45-BB61-6C796225F0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5DFFC-61FF-4E78-A047-2D912104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4A8B5-DF94-417D-8EFF-2B444120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9A02E-58E5-4F3F-B4D1-5D45E6C1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60114-48B2-4325-9980-A33A1E40A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174C1A-1B97-4CDB-B8A8-A8E84A85F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BC5E2-0653-4CDB-B410-03BC92BD37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06AFC-A24E-43AE-93AB-ECC0EC5589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34664-4128-42F1-A262-9C60A5DF39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65225-361B-44FE-B924-3581645B5B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F4784-312E-4639-AA4F-E4EA4E3E25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420A8-5E4F-40C0-B6F9-3D26A3BFA1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EEC93-C61E-4AA4-B689-EFBC3013D8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52037" t="20435" r="18811" b="50994"/>
          <a:stretch/>
        </p:blipFill>
        <p:spPr>
          <a:xfrm>
            <a:off x="0" y="0"/>
            <a:ext cx="1116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6224-864D-478F-BDC4-8348F8B15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143000" y="155736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24000" y="6165360"/>
            <a:ext cx="647640" cy="576360"/>
            <a:chOff x="324000" y="6165360"/>
            <a:chExt cx="647640" cy="576360"/>
          </a:xfrm>
        </p:grpSpPr>
        <p:sp>
          <p:nvSpPr>
            <p:cNvPr id="6" name=""/>
            <p:cNvSpPr/>
            <p:nvPr/>
          </p:nvSpPr>
          <p:spPr>
            <a:xfrm>
              <a:off x="32400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8608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35460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8824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35568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>
            <a:lum bright="70000" contrast="-70000"/>
          </a:blip>
          <a:srcRect l="52027" t="20435" r="18790" b="50994"/>
          <a:stretch/>
        </p:blipFill>
        <p:spPr>
          <a:xfrm>
            <a:off x="2843280" y="1268280"/>
            <a:ext cx="3389400" cy="4751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7DA9-1DE6-4253-9814-64044FDA0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79280" y="6165360"/>
            <a:ext cx="647640" cy="576360"/>
            <a:chOff x="179280" y="6165360"/>
            <a:chExt cx="647640" cy="576360"/>
          </a:xfrm>
        </p:grpSpPr>
        <p:sp>
          <p:nvSpPr>
            <p:cNvPr id="53" name=""/>
            <p:cNvSpPr/>
            <p:nvPr/>
          </p:nvSpPr>
          <p:spPr>
            <a:xfrm>
              <a:off x="17928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4136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flipV="1">
              <a:off x="20988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352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>
              <a:off x="21096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611280" y="314172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47636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PRESENTAÇÃO DA DISCIPLI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rof.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Joseana Macêdo Fech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41440" y="189000"/>
            <a:ext cx="7991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908000" y="1773360"/>
            <a:ext cx="5257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Organização e Arquitetura de Computadore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3b"/>
                  </a:gs>
                  <a:gs pos="100000">
                    <a:srgbClr val="00008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nteúdo Programátic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1240" y="1844640"/>
            <a:ext cx="7521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8760" indent="-518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istemas Digitais e Inform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8760" indent="-518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icuitos Combinacionais (Decodificadores, Multiplexadores, Demultiplexadores, dentre outr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8760" indent="-518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jeto Lógico de Circuitos Combinacion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8760" indent="-518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Linguagens de Descrição de Hardware (HD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8760" indent="-518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ircuitos Seqüenciais (Registradores, Contadores e Memóri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8760" indent="-518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ceitos Básicos de um Projeto de Comput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8760" indent="-518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trodução ao Conjunto da Arquitetura de um Comput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8760" indent="-518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nidades de Processamento - RISC e CIS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8760" indent="-518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istemas de Memó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8760" indent="-518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ntrada e Saída e Barramentos de um Comput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8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F106F-F67F-4A2E-BAEA-7E6BCAC612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371240" y="2209680"/>
            <a:ext cx="74674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las exposi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ividades individuais e em gru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todologia, Técnicas de Ensin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06945-DE1A-4040-B8AC-75AFCC085D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cursos Didá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02920" y="2349360"/>
            <a:ext cx="71564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dro branc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oprojetor, Datashow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s de Simulação de domíni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7548E-5BCE-41DF-AA28-2C22E8E262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115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vali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03280" y="1916280"/>
            <a:ext cx="7315200" cy="3746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Contínua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-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ções individuais e trabalhos em laboratór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Trabalhos interativos de pesquisa extra-class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-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is e em grup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Trabalhos de pesquisa em sala de aula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-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is e em grup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8FACB-1D74-404D-BC92-ECFC85D913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ibliograf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1781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marL="137160" indent="-137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O, M. Morris and KIME, Charles R.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gic and Computer Design Fundament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4th edition; Pearson Prentice Hall. 2008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37160" indent="-137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ONTEIRO, M. A.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Introdução à Organização de Computador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LTC. 199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37160" indent="-137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ANENBAUM, A. S.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Computer Arquitectur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4 Edition, Prentice Hall., 199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37160" indent="-137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ANENBAUM, A. S.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Organização Estruturada de Computador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Quarta Edição. LTC. 200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37160" indent="-137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TALLINGS, W.,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Computer Organization and Arquitectur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4 Edition, Prentice Hall, 1996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37160" indent="-137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TALLINGS, W.,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Arquitetura e Organização de Computador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5a Edição, Prentice Hall, 2002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37160" indent="-137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DOETA, I. V. e CAPUANO, F. G.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Elementos de Eletrônica Digita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Editora Ér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37160" indent="-137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ostilas e Manuais Técnicos de Autores/Fabricantes Divers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0E136-0A4C-47CD-B4FD-D780CE9187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59000" y="2516040"/>
            <a:ext cx="7334280" cy="236232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187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que significa Organização 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quitetura de um Computad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Visão Ger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D1E98-176C-4CE6-AAC5-BE338F2B4B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03560" y="3079800"/>
            <a:ext cx="3657600" cy="2895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65120" y="2622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quite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27440" y="1860480"/>
            <a:ext cx="4343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ributos de um sistema visíveis ao program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ributos que têm impacto direto sobre a execução lógica de um progra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92360" y="1851120"/>
            <a:ext cx="358920" cy="2225520"/>
          </a:xfrm>
          <a:custGeom>
            <a:avLst/>
            <a:gdLst>
              <a:gd name="textAreaLeft" fmla="*/ 229320 w 358920"/>
              <a:gd name="textAreaRight" fmla="*/ 359280 w 358920"/>
              <a:gd name="textAreaTop" fmla="*/ 57960 h 2225520"/>
              <a:gd name="textAreaBottom" fmla="*/ 2167560 h 222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36520" y="490860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zação de um compu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27440" y="4603680"/>
            <a:ext cx="48769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dades operacionais e suas interconexõ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m as especificações da su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quitetu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92360" y="4508640"/>
            <a:ext cx="358920" cy="2146320"/>
          </a:xfrm>
          <a:custGeom>
            <a:avLst/>
            <a:gdLst>
              <a:gd name="textAreaLeft" fmla="*/ 229320 w 358920"/>
              <a:gd name="textAreaRight" fmla="*/ 359280 w 358920"/>
              <a:gd name="textAreaTop" fmla="*/ 55800 h 2146320"/>
              <a:gd name="textAreaBottom" fmla="*/ 2090520 h 2146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Visão Ger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DA62C-BB5A-4E77-8B65-64B7B4C4E0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59000" y="349236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ribut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quite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02200" y="2577960"/>
            <a:ext cx="43434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JUNTO DE INSTRU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ÚMERO DE BITS USADOS PARA REPRESENTAR OS VÁRIOS                                                                                                                                                                                                                TIPOS DE DADOS (NÚMEROS , CARACTE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S MECANISMOS DE E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 TÉCNICAS DE ENDEREÇAMENTO DE MEMÓ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92360" y="2349360"/>
            <a:ext cx="457200" cy="3276720"/>
          </a:xfrm>
          <a:custGeom>
            <a:avLst/>
            <a:gdLst>
              <a:gd name="textAreaLeft" fmla="*/ 292320 w 457200"/>
              <a:gd name="textAreaRight" fmla="*/ 457560 w 45720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Visão Ger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0C4E0-C5EF-4214-9D59-F078A2FE00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30280" y="341964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ribut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64000" y="2276640"/>
            <a:ext cx="457200" cy="3276360"/>
          </a:xfrm>
          <a:custGeom>
            <a:avLst/>
            <a:gdLst>
              <a:gd name="textAreaLeft" fmla="*/ 292320 w 457200"/>
              <a:gd name="textAreaRight" fmla="*/ 457560 w 457200"/>
              <a:gd name="textAreaTop" fmla="*/ 85320 h 3276360"/>
              <a:gd name="textAreaBottom" fmla="*/ 3191040 h 32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97160" y="2505240"/>
            <a:ext cx="4572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DETALHES DE HARDWARE TRANSPARENTES AO PROGRAM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NAIS DE CONTR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FACES ENTRE O COMPUTADOR E PERIFÉR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CNOLOGIA DE MEMÓRIA UTILI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Visão Ger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A107D-70A3-4398-A3E6-BA38C6938B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352520" y="2463840"/>
            <a:ext cx="7524720" cy="238104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275840" y="2997360"/>
            <a:ext cx="78678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Penguin"/>
              </a:rPr>
              <a:t>Por que estudar Organização 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Penguin"/>
              </a:rPr>
              <a:t>Arquitetura de Computadore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Visão Ger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7B994-7BBA-4948-A18D-75510858CC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lano de Ensin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údo Program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odologia, Técnicas de Ens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os Didá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i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4CBC8-BF25-4DE3-89C1-6E51E130B7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Objetiv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4678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nder o funcionamento do hardware de um sistema computacio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nder o funcionamento dos vários módulos que compõem um sistema computacio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uma visão crítica sobre os requisitos de desempenho associados a um sistema computacio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C694E-6D5A-4BA7-A141-E654A9DFCC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ment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4674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Informação e sua representação (revisão), Tecnologia CMOS, Circuitos Combinacionais (análise e otimização, projeto, simulação e síntese), Circuitos Seqüenciais (elementos de memória e análise, projetos, máquinas de estado, fluxo de controle), Projeto Básico de um Computador, Dispositivos Embarca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3693C-E5D4-4878-954A-5E492FD0CA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/DSC/UFCG</dc:creator>
  <dc:description/>
  <dc:language>en-US</dc:language>
  <cp:lastModifiedBy> </cp:lastModifiedBy>
  <dcterms:modified xsi:type="dcterms:W3CDTF">2008-09-10T10:04:23Z</dcterms:modified>
  <cp:revision>149</cp:revision>
  <dc:subject/>
  <dc:title>Organização e Arquitetura de Computadores</dc:title>
</cp:coreProperties>
</file>