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B968-7035-4551-821D-A6ACE77D0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0657-A6CB-476A-B4D8-1F83487FA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DCA0-6C78-4120-A569-6FED04D25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7733-7E3A-44A4-A2B1-5011DD548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FCF42-758F-4812-9EAD-93848BA2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B1E45-AF5A-4048-AC83-F84CDFB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1B80-EE9F-4439-8914-0208980D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87301-95BD-4103-BA88-D4813FC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721F-5759-474E-81FB-55105BB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A6C9A-D838-4962-B95A-D720DF6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63E1-5C9E-4FD1-BC09-BF486C4E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7BC9-A4AF-4A84-9D3B-34123B003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1D9E6-94FB-45FA-B6E1-5A1AF742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F667-194C-4032-87C9-27EB44B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84D2E-5FBE-4D54-9C8A-5158E64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F21A3-F69D-4C10-A0F8-AAD4669E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0C341-DB4B-4E49-938F-0EA62842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65E1-DB6F-4107-A501-1743ABCB8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B128-D0EE-4F75-AB86-39D75AE20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0B50-6E81-4FA8-8ADA-4750A136A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FC18-7CEE-42F0-B325-55CDB74DC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C041-5B7E-4DE0-BF84-DB6E43780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F76E-52A1-4766-9650-7B5997141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C62A-B512-4505-B9D0-78F3601DC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6853-E447-4133-B138-D342E50668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35E-6DA3-49B4-986A-48CD7933317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0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I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8960" y="22093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abo Coax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dois fios condutores em um cabo coaxial. Um deles é um fio simples no centro do cabo; o outro é uma blindagem que envolve o primeiro cabo com um isolante no meio. Existe o cabo grosso, em desuso, e o fino.  Capacidade aproximada de 10 Mbits/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cabo%20coaxial%20fino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3540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377720" y="144792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D54C-55F3-491F-9946-8C1DCE5A55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erta época, cabo coaxial era o tipo de cabeamento de rede mais amplamente utiliz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abo coaxial tem uma imunidade a ruído bem melhor que o par traçado, mas seu custo é mais elevad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5560" y="137160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Coax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6B24-BB46-4017-9E37-21B2D6E3094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de fibra ó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um fino fio  que transmite vibrações de raios de luz em vez de freqüências elétricas. Quando uma extremidade é exposta à luz, o fio transporta a luz para a outra extremidade. Imune a interferências eletromagnétic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fibra%20otica1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3623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4040" y="137160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E89D-A0FC-46C3-A428-95E65AC9A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abo de fibra óptica é apropriado para transmissão de dados a grande velocidade e alta capacidade, devido a ausência de atenuação e à pureza do si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É o mais caro de todos, atinge taxas de quase centenas de Gbits/s, transmitindo dados, voz e image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4160" y="1447920"/>
            <a:ext cx="3381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de fibra ó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07F0-E457-4665-A570-B7C7F583FE8D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exões sem f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 a popularização da comunicação de dados, houve um impulso na direção de meios mais flexíveis e de meios que alcancem distâncias maiores. Vários tipos de conexões para comunicação sem fio oferecem essas vantage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s redes permanentes sem fio são usadas especialmente em situações nas quais é difícil a passagem física dos da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: ondas de rádio, microondas, infravermelho,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7720" y="137160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B8D9-811B-44B4-82CD-0860F0B3D8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assificação das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L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Local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Metropolitana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Metropolitan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Geograficamente Distribuídas ou Redes de Longa Distância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W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Wide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sem Fio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WL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Wireless Loc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Pesso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Person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Virtu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LANs 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Virtual Loc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Privadas Virtu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P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Virtual Private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AE62-89E2-4D1E-80B3-791BCE98CC0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1828800"/>
            <a:ext cx="6629400" cy="41911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assificação das 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280" y="658332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seana M. Fech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7400" y="2057400"/>
          <a:ext cx="588168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8816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1FF6-18F5-4EF4-BDCB-7C920D3EC33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finem a forma como as estações (Computadores) estão fisicamente distribuí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topologia física é a descrição da rota utilizada pelos cabos da rede para interligar os nó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pologia de rede é 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layou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ísico dos fios que conectam nos nós d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pologias comuns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arramento line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strel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ne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vários fatores que devem ser considerados para determinar-se qual a melhor topologia para uma certa situação, tais como: tipos de computadores, tipo de fiação, custo e desempenh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s de 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89F5-7F98-4613-8CDA-0170139B2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 em Estrel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480" y="1676520"/>
            <a:ext cx="6248160" cy="4723920"/>
            <a:chOff x="1752480" y="1676520"/>
            <a:chExt cx="6248160" cy="4723920"/>
          </a:xfrm>
        </p:grpSpPr>
        <p:sp>
          <p:nvSpPr>
            <p:cNvPr id="155" name=""/>
            <p:cNvSpPr/>
            <p:nvPr/>
          </p:nvSpPr>
          <p:spPr>
            <a:xfrm>
              <a:off x="4965120" y="2904120"/>
              <a:ext cx="0" cy="2393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69000" y="4008600"/>
              <a:ext cx="42660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752480" y="2965320"/>
            <a:ext cx="1631160" cy="13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6532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4210200" y="5028840"/>
            <a:ext cx="163116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10200" y="5028840"/>
                      <a:ext cx="16311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6369480" y="3333240"/>
            <a:ext cx="1631160" cy="137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69480" y="333324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157280" y="1676520"/>
            <a:ext cx="1631160" cy="137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57280" y="167652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4051080" y="3332160"/>
            <a:ext cx="1588680" cy="147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51080" y="3332160"/>
                      <a:ext cx="1588680" cy="147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5433-5A21-4150-8760-E804583987B2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 em Ane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95280" y="1752480"/>
            <a:ext cx="7188120" cy="4294440"/>
            <a:chOff x="1295280" y="1752480"/>
            <a:chExt cx="7188120" cy="4294440"/>
          </a:xfrm>
        </p:grpSpPr>
        <p:sp>
          <p:nvSpPr>
            <p:cNvPr id="169" name=""/>
            <p:cNvSpPr/>
            <p:nvPr/>
          </p:nvSpPr>
          <p:spPr>
            <a:xfrm>
              <a:off x="2878920" y="2405520"/>
              <a:ext cx="4813920" cy="344232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1295280" y="3176640"/>
            <a:ext cx="1936440" cy="132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317664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2920680" y="4720320"/>
            <a:ext cx="1936440" cy="132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0680" y="472032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234040" y="4720320"/>
            <a:ext cx="1936440" cy="132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34040" y="472032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546960" y="3354840"/>
            <a:ext cx="1936440" cy="132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46960" y="335484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2795760" y="1752480"/>
            <a:ext cx="1936440" cy="132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95760" y="175248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5358960" y="1871280"/>
            <a:ext cx="1936440" cy="1326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8960" y="187128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0421-DD25-4A4F-8737-62BB1154E793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des de Computador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03E3-7C3A-4DC1-A0D7-DE36D0BCBF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Topologia em Barrament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3880" y="1905120"/>
            <a:ext cx="6730920" cy="3988800"/>
            <a:chOff x="1523880" y="1905120"/>
            <a:chExt cx="6730920" cy="3988800"/>
          </a:xfrm>
        </p:grpSpPr>
        <p:graphicFrame>
          <p:nvGraphicFramePr>
            <p:cNvPr id="184" name=""/>
            <p:cNvGraphicFramePr/>
            <p:nvPr/>
          </p:nvGraphicFramePr>
          <p:xfrm>
            <a:off x="1638360" y="1905120"/>
            <a:ext cx="1745280" cy="1465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8360" y="1905120"/>
                      <a:ext cx="1745280" cy="146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5188320" y="2211480"/>
            <a:ext cx="2260440" cy="157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8320" y="2211480"/>
                      <a:ext cx="2260440" cy="157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1523880" y="4469040"/>
            <a:ext cx="1792440" cy="136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46904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3895920" y="4529880"/>
            <a:ext cx="1792440" cy="1364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95920" y="452988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6384240" y="4469040"/>
            <a:ext cx="1792440" cy="1364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84240" y="446904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2121480" y="4042080"/>
              <a:ext cx="6133320" cy="0"/>
            </a:xfrm>
            <a:prstGeom prst="line">
              <a:avLst/>
            </a:prstGeom>
            <a:ln w="1015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220920" y="4042080"/>
              <a:ext cx="0" cy="10980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77760" y="4042080"/>
              <a:ext cx="0" cy="10980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907760" y="4041720"/>
              <a:ext cx="0" cy="97596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57960" y="3370320"/>
              <a:ext cx="0" cy="6714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981840" y="3248280"/>
              <a:ext cx="0" cy="79308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1831-7D52-4976-95A9-8E6FBFB34BC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ocolo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regras e procedimentos para comunic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uando diversos computadores estão interligados em rede, as regras e procedimentos técnicos que administram sua comunicação e interação são chamados de protocol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8CB1-B685-42E8-99BF-4630C8664807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de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 de re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modelo abstrato que permite descrever a organização e o comportamento dos sistemas que constituem 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odelos adotad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organização das funções em módulos e  estruturação hierárquica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s em Camad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Layered Architectures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4D6E-1817-44BF-90C0-F44A5C03410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2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Baseiam-se em três princípio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dependência entre camad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uma camada encapsula as funções que realiza, é visível apenas o serviço que ofere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madas adjacentes comunicam-se através de uma interfa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a camada inferior oferece um serviço à camada superior através da interfa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alorização dos serviç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o serviço oferecido por uma camada à camada superior acrescenta valor ao serviço recebido da camada inferi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8D3A-ED4E-4B9C-848F-AE10F5C0A07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984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09760"/>
            <a:ext cx="784872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ntage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dução da complexidade de concepção, desenvolvimento e manuten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ilidade de desenvolvimento independente das várias camad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lexibilidade de implemen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ilidade de suportar diferentes aplicações com um número reduzido de interfaces (serviços) comu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oçã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adrõ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permite a produção em massa e o suporte de produtos por diferentes fabrican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AD13-BCA3-4066-9814-1F66A1E3ED5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71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s de Arquitetu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odelo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 RM-OS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Reference Model - Open System Interconnection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80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B52D-657D-417F-9711-7793232CB10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Ênfase - ligação de redes heterogêne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s padrões nesta arquitetura são definidos por um comitê denominado IAB (I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ternet Activity Boar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ituída de 4 camadas: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Aplicação, Transporte, Inter-Rede e Acesso ao me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aseia-se, principalmente, em dois serviç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serviço de transporte orientado à conexão - fornecido pelo TCP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serviço de rede não orientado à conexão - fornecido pelo I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2B7C-F205-4A46-8BBE-7D4AEE6B2F5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508880" cy="372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24080" y="2863800"/>
            <a:ext cx="1143000" cy="87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B438-9C4E-4604-8C10-EBF62341AC6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600200" y="2057400"/>
            <a:ext cx="6876720" cy="4114440"/>
            <a:chOff x="1600200" y="2057400"/>
            <a:chExt cx="6876720" cy="41144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052760" y="205740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600200" y="205740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1661040" y="482976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7175160" y="4890960"/>
              <a:ext cx="1301760" cy="12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825640" y="2549520"/>
            <a:ext cx="4593960" cy="2895120"/>
            <a:chOff x="2825640" y="2549520"/>
            <a:chExt cx="4593960" cy="2895120"/>
          </a:xfrm>
        </p:grpSpPr>
        <p:sp>
          <p:nvSpPr>
            <p:cNvPr id="222" name=""/>
            <p:cNvSpPr/>
            <p:nvPr/>
          </p:nvSpPr>
          <p:spPr>
            <a:xfrm flipV="1">
              <a:off x="6072120" y="2549520"/>
              <a:ext cx="1225080" cy="9856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886840" y="4089600"/>
              <a:ext cx="1163520" cy="13550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25640" y="2672640"/>
              <a:ext cx="1224720" cy="862560"/>
            </a:xfrm>
            <a:prstGeom prst="line">
              <a:avLst/>
            </a:prstGeom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2120" y="4089600"/>
              <a:ext cx="1347480" cy="12319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50360" y="3535200"/>
              <a:ext cx="2021400" cy="64260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TCP/IP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19350600">
            <a:off x="5486760" y="243792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TELNE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121600">
            <a:off x="2848680" y="28461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633600">
            <a:off x="2853360" y="44571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SMT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472000">
            <a:off x="5479200" y="46285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POP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2840" y="142092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amada de Aplic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495C-0762-4B97-B6B7-CF12163AB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colos – Camada de Aplic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ELNET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etwork Terminal Protoco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execução remota de aplicaçõ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M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imple Mail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o envio e recebimento de correio eletrôn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TP/TF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ile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/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vial File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FTP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inclui senhas de segurança, capaz de conectar-se a um sistema remoto (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logon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), acessar diretórios e executar a transferência de arquivos entre sistema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TFTP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não pode acessar diretórios nem incluir senhas de seguranç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04CE-2F16-44C3-B18D-5706B51A5E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possibilidade de conectar vários computadores resulta em tantos benefícios que se tornou uma das áreas de maior crescimento no mercado de micro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s computadores se comunicam de duas maneiras importantes: por meio de modem e de red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em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ermite que os computadores usem linhas telefônicas para trocar d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d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conectam os computadores diretamente, seja por intermédio de fios especiais ou de alguma maneira de transmissão sem f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278A-E06D-4095-A0C8-C1D25E3794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colos – Camada de Aplic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T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yperText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transferência de documentos, arquivos e aplicações entre sistem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st Office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leitura de correio eletrôn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NS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omain Name Servic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ornece o serviço de tradução de nomes de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ost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m endereços I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15E2-830E-4ECB-9188-81268AFAC3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iderações Fina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Quando a tecnologia dos computadores chegar ao ponto em que a maioria dos computadores terá vários processadores, as redes poderão assumir também uma nova dimens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Talvez, no futuro, a rede consista em um cabo de extensão do barramento. Talvez todos os computadores virão com a porta já incorporada à sua estrutura básica. Você só precisará ligar o computador novo ao antigo para ter instantaneamente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ede "inteligente" capaz de dividir o tempo do processador e também de compartilhar dispositivos, memória e dado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91520" y="6064200"/>
            <a:ext cx="137160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F9AB-DE60-4D60-81AB-2B4B545783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6530" t="9184" r="0" b="0"/>
          <a:stretch/>
        </p:blipFill>
        <p:spPr>
          <a:xfrm>
            <a:off x="1523880" y="1600200"/>
            <a:ext cx="7010640" cy="4842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909A-CBB3-48AE-BF13-B296907C20E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49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de de Computador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é formada por um conjunto de dispositivos capazes de trocar informações e compartilhar recursos, interligados por um sistema de comunic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istema de Comunicação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arranjo topológico interligando os vários módulos processadores através de enlaces físicos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eios de transmiss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 e de um conjunto de regras com o fim de organizar a comunicação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rotoco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C2CE-1E56-4411-8FAF-E3C0FD810CE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mpartilhamento de Recurs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nfiabi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Escalabi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ução de Cus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Meio de Comunicação efi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3080" y="1546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17A2-AE21-4D7A-82BC-A92B3204662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fere-se aos fios, cabos e outros recursos usados pelos dados para viajar de sua origem para seu destino. São el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o de Par Tranç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bo Coax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bo de Fibra Ó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exões sem F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C675-2BBC-453B-B279-61455504A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95280" y="25142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Fio de Par Tranç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iste de dois fios entrelaçados um em torno do outro. Capacidade de 100 Mbits/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ar%20trançado%20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5905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377720" y="152388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6A14-C81F-4FB1-AA16-F17176742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par traçado é bastante susceptível a ruídos e interferência, mas é o meio que tem menor custo por comprimen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ligação de nós é extremamente simples, reduzindo ainda mais o custo da utiliz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8560" y="1447920"/>
            <a:ext cx="35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o de Par Tranç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0AD8-8660-4F87-A168-4A55DEB998E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5:07Z</dcterms:modified>
  <cp:revision>453</cp:revision>
  <dc:subject/>
  <dc:title>Slide sem título </dc:title>
</cp:coreProperties>
</file>