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7369-9AF8-466C-9AFD-4F3E7474B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579F-7DE3-4C84-ABA2-B8FBB268F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B527-6B28-41D5-BDB5-0B2A30F9B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39BE-950F-484E-8C47-6E42E7294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1BE00-41CD-4304-BC4D-F28FFDAB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6B4FF-5A88-44F0-82C7-21D1220A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33875-4773-454C-9B3E-FF33CA19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53727-0E18-4407-B304-8CB11C80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EF4DA-A293-41CC-83B5-C6F39F82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AE2F9-3AF7-431F-B1CB-29D6144C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EC5F2-22CA-4625-9B44-E3371726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6347-33D0-419E-A5E4-A5DF43AD3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B4B68-1A0E-4238-95A2-7BFC6940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6ED87-D68A-45F1-BFF3-6FCDFB9C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2B3DE-C748-41E8-8573-47076AAC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9FB73-63E3-40B3-A7F2-257C4AD1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36256-6FA2-4F3A-BC2A-178F3241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34F8-14F1-4A0F-81BD-EF91713C4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76CA-84D2-46E6-8BC4-E9C00E699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6EF8-2C11-417E-9DD8-420B3158B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63D5-E8B6-4C7A-94F3-EB240F7C6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AD61-1C40-4239-BA03-63482167D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0F41-4DAE-47B9-A45C-83DE105AA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3102-A5A9-470F-A71F-0C9ADC16F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EE2F-7AB6-425A-8F31-EB24F3D60549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1219320"/>
            <a:ext cx="8001000" cy="0"/>
          </a:xfrm>
          <a:prstGeom prst="line">
            <a:avLst/>
          </a:prstGeom>
          <a:ln cap="sq" w="10152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6019560"/>
            <a:ext cx="914400" cy="838440"/>
            <a:chOff x="0" y="6019560"/>
            <a:chExt cx="914400" cy="838440"/>
          </a:xfrm>
        </p:grpSpPr>
        <p:sp>
          <p:nvSpPr>
            <p:cNvPr id="9" name=""/>
            <p:cNvSpPr/>
            <p:nvPr/>
          </p:nvSpPr>
          <p:spPr>
            <a:xfrm>
              <a:off x="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6936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4392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7224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4500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4" name="comput2" descr=""/>
          <p:cNvPicPr/>
          <p:nvPr/>
        </p:nvPicPr>
        <p:blipFill>
          <a:blip r:embed="rId3"/>
          <a:stretch/>
        </p:blipFill>
        <p:spPr>
          <a:xfrm>
            <a:off x="0" y="533520"/>
            <a:ext cx="1066680" cy="2895480"/>
          </a:xfrm>
          <a:prstGeom prst="rect">
            <a:avLst/>
          </a:prstGeom>
          <a:ln w="25560">
            <a:solidFill>
              <a:srgbClr val="eeb00b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7EB2-DE49-48EC-B122-4DCE98DA8854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0880" y="6019560"/>
            <a:ext cx="914400" cy="838440"/>
            <a:chOff x="380880" y="6019560"/>
            <a:chExt cx="914400" cy="838440"/>
          </a:xfrm>
        </p:grpSpPr>
        <p:sp>
          <p:nvSpPr>
            <p:cNvPr id="60" name=""/>
            <p:cNvSpPr/>
            <p:nvPr/>
          </p:nvSpPr>
          <p:spPr>
            <a:xfrm>
              <a:off x="38088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024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42516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312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2624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1752480"/>
            <a:ext cx="1828800" cy="1981440"/>
          </a:xfrm>
          <a:prstGeom prst="rect">
            <a:avLst/>
          </a:pr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6" name="comput2" descr=""/>
          <p:cNvPicPr/>
          <p:nvPr/>
        </p:nvPicPr>
        <p:blipFill>
          <a:blip r:embed="rId3"/>
          <a:stretch/>
        </p:blipFill>
        <p:spPr>
          <a:xfrm>
            <a:off x="0" y="1752480"/>
            <a:ext cx="1828800" cy="1981440"/>
          </a:xfrm>
          <a:prstGeom prst="rect">
            <a:avLst/>
          </a:prstGeom>
          <a:ln w="25560">
            <a:solidFill>
              <a:srgbClr val="eeb00b"/>
            </a:solidFill>
            <a:miter/>
          </a:ln>
        </p:spPr>
      </p:pic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b00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Tahoma"/>
              </a:rPr>
              <a:t>TÓPICOS COMPLEMENTARES (Parte I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eaeaea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eaeaea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eaeaea"/>
                </a:solidFill>
                <a:latin typeface="Tahoma"/>
              </a:rPr>
              <a:t>joseana@dsc.ufpb.b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295280" y="1447920"/>
            <a:ext cx="7543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Manua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Informatiz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Programas de aplic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Sistema de Gerência de Banco de Dados (SGBD) ou </a:t>
            </a:r>
            <a:r>
              <a:rPr b="0" i="1" lang="pt-BR" sz="2400" spc="-1" strike="noStrike">
                <a:solidFill>
                  <a:srgbClr val="ffffcc"/>
                </a:solidFill>
                <a:latin typeface="Arial"/>
              </a:rPr>
              <a:t>Database Management System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ffffcc"/>
                </a:solidFill>
                <a:latin typeface="Arial"/>
              </a:rPr>
              <a:t>DBMS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94160" y="4411800"/>
            <a:ext cx="497160" cy="576000"/>
          </a:xfrm>
          <a:prstGeom prst="downArrow">
            <a:avLst>
              <a:gd name="adj1" fmla="val 50000"/>
              <a:gd name="adj2" fmla="val 28965"/>
            </a:avLst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6800" y="5097600"/>
            <a:ext cx="646236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GBD – É o conjunto de programas (software) que permite a criação e manutenção de um B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354A-97A9-4C80-B3B0-C1F0B74BFD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tapas da Modelagem de B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25760" y="2921040"/>
            <a:ext cx="4003560" cy="2841480"/>
          </a:xfrm>
          <a:prstGeom prst="rect">
            <a:avLst/>
          </a:prstGeom>
          <a:solidFill>
            <a:srgbClr val="ff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55280" y="4124160"/>
            <a:ext cx="2242800" cy="459720"/>
          </a:xfrm>
          <a:prstGeom prst="rect">
            <a:avLst/>
          </a:prstGeom>
          <a:gradFill rotWithShape="0">
            <a:gsLst>
              <a:gs pos="0">
                <a:srgbClr val="eeb00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Projeto Lóg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70520" y="3260880"/>
            <a:ext cx="2812680" cy="459720"/>
          </a:xfrm>
          <a:prstGeom prst="rect">
            <a:avLst/>
          </a:prstGeom>
          <a:gradFill rotWithShape="0">
            <a:gsLst>
              <a:gs pos="0">
                <a:srgbClr val="6600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Projeto Conceitu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5878440"/>
            <a:ext cx="1511280" cy="93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dddddd"/>
              </a:gs>
              <a:gs pos="100000">
                <a:srgbClr val="4f4f4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56000" y="2349360"/>
            <a:ext cx="395928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álise de Requisit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28360" y="5013360"/>
            <a:ext cx="2094840" cy="459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Projeto Fís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27640" y="2852640"/>
            <a:ext cx="0" cy="36036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27640" y="3718080"/>
            <a:ext cx="0" cy="36036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7640" y="4581360"/>
            <a:ext cx="0" cy="36036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7640" y="5518080"/>
            <a:ext cx="0" cy="5508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69160" y="616572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A8EB-9E2B-4E2C-836D-D252E2B4FF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Linguagens envolvidas em um SGB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DDL – “</a:t>
            </a:r>
            <a:r>
              <a:rPr b="1" i="1" lang="pt-BR" sz="2800" spc="-1" strike="noStrike">
                <a:solidFill>
                  <a:srgbClr val="ffffcc"/>
                </a:solidFill>
                <a:latin typeface="Arial"/>
              </a:rPr>
              <a:t>Data Definition Language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DML – “</a:t>
            </a:r>
            <a:r>
              <a:rPr b="1" i="1" lang="pt-BR" sz="2800" spc="-1" strike="noStrike">
                <a:solidFill>
                  <a:srgbClr val="ffffcc"/>
                </a:solidFill>
                <a:latin typeface="Arial"/>
              </a:rPr>
              <a:t>Data Manipulation Language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342900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Linguagem usada para descrever o modelo lógic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5029200"/>
            <a:ext cx="63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Linguagem usada para escrever instruções que operam sobre a base de dados (acesso e alteração de dados). Integrada com a DD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5FB9-7A13-43A6-8318-56B0459B38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371240" y="1905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endênci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ossibilitar o acesso rápido e eficiente de uma infinidade de informações (texto, voz, imagem, vídeo - multimídia etc.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10A7-35F2-4861-B625-F8E00B0AB1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ópicos Complementa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0" y="2666880"/>
            <a:ext cx="5415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anco de Dado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7DA3-754F-4424-8891-D15B94481D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stemas de Arquivos Convenciona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09680" y="3851280"/>
            <a:ext cx="1697040" cy="48420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23800" y="38527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70080" y="2481120"/>
            <a:ext cx="1820880" cy="868680"/>
          </a:xfrm>
          <a:prstGeom prst="roundRect">
            <a:avLst>
              <a:gd name="adj" fmla="val 37995"/>
            </a:avLst>
          </a:prstGeom>
          <a:gradFill rotWithShape="0">
            <a:gsLst>
              <a:gs pos="0">
                <a:srgbClr val="00ffff"/>
              </a:gs>
              <a:gs pos="100000">
                <a:srgbClr val="6600ff"/>
              </a:gs>
            </a:gsLst>
            <a:lin ang="5400000"/>
          </a:gra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74840" y="2481120"/>
            <a:ext cx="1729080" cy="885960"/>
          </a:xfrm>
          <a:prstGeom prst="roundRect">
            <a:avLst>
              <a:gd name="adj" fmla="val 37995"/>
            </a:avLst>
          </a:prstGeom>
          <a:gradFill rotWithShape="0">
            <a:gsLst>
              <a:gs pos="0">
                <a:srgbClr val="00ffff"/>
              </a:gs>
              <a:gs pos="100000">
                <a:srgbClr val="6600ff"/>
              </a:gs>
            </a:gsLst>
            <a:lin ang="5400000"/>
          </a:gra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2514600"/>
            <a:ext cx="1728720" cy="822240"/>
          </a:xfrm>
          <a:prstGeom prst="roundRect">
            <a:avLst>
              <a:gd name="adj" fmla="val 37995"/>
            </a:avLst>
          </a:prstGeom>
          <a:gradFill rotWithShape="0">
            <a:gsLst>
              <a:gs pos="0">
                <a:srgbClr val="00ffff"/>
              </a:gs>
              <a:gs pos="100000">
                <a:srgbClr val="6600ff"/>
              </a:gs>
            </a:gsLst>
            <a:lin ang="5400000"/>
          </a:gra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84480" y="331956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280" y="33670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69160" y="3373560"/>
            <a:ext cx="1440" cy="466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74840" y="3852720"/>
            <a:ext cx="1697040" cy="48420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28560" y="38527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30720" y="3844800"/>
            <a:ext cx="1697040" cy="44928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60760" y="384336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3532320"/>
            <a:ext cx="802800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25920" y="2443320"/>
            <a:ext cx="15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Nível d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Aplicaçã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84280" y="3681360"/>
            <a:ext cx="216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Arquivo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Convencionai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5084640"/>
            <a:ext cx="561492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dos não estão integr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AABC-42C4-46D5-A5D0-03246D128C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1896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blemas da falta de integração de d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esmo objeto representado múltiplas vez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dundância não controlada de d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3200400"/>
            <a:ext cx="374400" cy="576360"/>
          </a:xfrm>
          <a:prstGeom prst="downArrow">
            <a:avLst>
              <a:gd name="adj1" fmla="val 50000"/>
              <a:gd name="adj2" fmla="val 38486"/>
            </a:avLst>
          </a:prstGeom>
          <a:gradFill rotWithShape="0">
            <a:gsLst>
              <a:gs pos="0">
                <a:srgbClr val="6d5105"/>
              </a:gs>
              <a:gs pos="100000">
                <a:srgbClr val="eeb00b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2975040" y="2129400"/>
            <a:ext cx="216000" cy="1747800"/>
          </a:xfrm>
          <a:custGeom>
            <a:avLst/>
            <a:gdLst>
              <a:gd name="textAreaLeft" fmla="*/ 0 w 216000"/>
              <a:gd name="textAreaRight" fmla="*/ 78120 w 216000"/>
              <a:gd name="textAreaTop" fmla="*/ 45360 h 1747800"/>
              <a:gd name="textAreaBottom" fmla="*/ 1702440 h 17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87400" y="3860640"/>
            <a:ext cx="71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Inconsistência de dado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: dados não representam corretamente a realida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Re-digitação de informaçõe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: trabalho repetitivo que pode levar a err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C7FF-98B4-441E-B0AD-4FF89AE21D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19320" y="1447560"/>
            <a:ext cx="76960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olução para evitar redundância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artilhamento de d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da informação armazenada uma única ve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33680" y="4508640"/>
            <a:ext cx="1174680" cy="617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1040" y="3645000"/>
            <a:ext cx="1671480" cy="814320"/>
          </a:xfrm>
          <a:prstGeom prst="roundRect">
            <a:avLst>
              <a:gd name="adj" fmla="val 37995"/>
            </a:avLst>
          </a:prstGeom>
          <a:gradFill rotWithShape="0">
            <a:gsLst>
              <a:gs pos="0">
                <a:srgbClr val="00ccff"/>
              </a:gs>
              <a:gs pos="100000">
                <a:srgbClr val="6600ff"/>
              </a:gs>
            </a:gsLst>
            <a:lin ang="5400000"/>
          </a:gra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3645000"/>
            <a:ext cx="1549440" cy="814320"/>
          </a:xfrm>
          <a:prstGeom prst="roundRect">
            <a:avLst>
              <a:gd name="adj" fmla="val 37995"/>
            </a:avLst>
          </a:prstGeom>
          <a:gradFill rotWithShape="0">
            <a:gsLst>
              <a:gs pos="0">
                <a:srgbClr val="00ccff"/>
              </a:gs>
              <a:gs pos="100000">
                <a:srgbClr val="6600ff"/>
              </a:gs>
            </a:gsLst>
            <a:lin ang="5400000"/>
          </a:gra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59520" y="3645000"/>
            <a:ext cx="1608120" cy="814320"/>
          </a:xfrm>
          <a:prstGeom prst="roundRect">
            <a:avLst>
              <a:gd name="adj" fmla="val 37995"/>
            </a:avLst>
          </a:prstGeom>
          <a:gradFill rotWithShape="0">
            <a:gsLst>
              <a:gs pos="0">
                <a:srgbClr val="00ccff"/>
              </a:gs>
              <a:gs pos="100000">
                <a:srgbClr val="6600ff"/>
              </a:gs>
            </a:gsLst>
            <a:lin ang="5400000"/>
          </a:gra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0560" y="4508640"/>
            <a:ext cx="1440" cy="502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619600" y="4508640"/>
            <a:ext cx="1113120" cy="57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0720" y="5013360"/>
            <a:ext cx="154620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79800" y="5494320"/>
            <a:ext cx="1410840" cy="496800"/>
            <a:chOff x="3979800" y="5494320"/>
            <a:chExt cx="1410840" cy="496800"/>
          </a:xfrm>
        </p:grpSpPr>
        <p:sp>
          <p:nvSpPr>
            <p:cNvPr id="141" name=""/>
            <p:cNvSpPr/>
            <p:nvPr/>
          </p:nvSpPr>
          <p:spPr>
            <a:xfrm>
              <a:off x="3979800" y="5506920"/>
              <a:ext cx="105048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42440" y="54943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t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031840" y="4724280"/>
            <a:ext cx="5996160" cy="180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911E-6648-44D4-A8D7-49ECF9CA6A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219320" y="137124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anco de Dados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057400"/>
            <a:ext cx="72388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i="1" lang="pt-BR" sz="2600" spc="-1" strike="noStrike">
                <a:solidFill>
                  <a:srgbClr val="ffffcc"/>
                </a:solidFill>
                <a:latin typeface="Arial"/>
              </a:rPr>
              <a:t>Conjunto de dados integrados que visa a   atender  um conjunto de aplicações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” [Heuser, 2001]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“ </a:t>
            </a:r>
            <a:r>
              <a:rPr b="1" i="1" lang="pt-BR" sz="2600" spc="-1" strike="noStrike">
                <a:solidFill>
                  <a:srgbClr val="ffffcc"/>
                </a:solidFill>
                <a:latin typeface="Arial"/>
              </a:rPr>
              <a:t>É uma coleção de dados integrados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” [Navathe, 2002]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i="1" lang="pt-BR" sz="2600" spc="-1" strike="noStrike">
                <a:solidFill>
                  <a:srgbClr val="ffffcc"/>
                </a:solidFill>
                <a:latin typeface="Arial"/>
              </a:rPr>
              <a:t>Sistema de manutenção de registros por computador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” [Date, 1990]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76BE-61C4-4508-820A-2A9F49613D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447920" y="15235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00"/>
                </a:solidFill>
                <a:latin typeface="Arial"/>
              </a:rPr>
              <a:t>Vantagens na utilização de Banco de Da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Pode reduzir a redundânci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A inconsistência pode ser evitada (até certo ponto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Permite compartilhar os dado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Pode reforçar os padrõ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Pode aplicar restrições de seguranç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Pode manter a integridad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BB52-7EAA-46E0-A16A-8BF603BB17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447560" y="1483920"/>
            <a:ext cx="710244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esenvolvimento de aplicações de BD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rquivos devem ser projetados para atender diferentes aplicaçõ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ados devem estar corretos -  Manutenção d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strições de integrida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D acessado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oncorrentement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por múltiplos usuários –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ontrole de Concorrênc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23CD-D8F6-463C-B406-3FA8FCD69B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371240" y="15235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esenvolvimento de aplicações de B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em todo o usuário pode acessar qualquer informação –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ontrole de Acess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dos são de importância vital e não podem ser perdidos –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Tolerância a Falh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Arial"/>
              </a:rPr>
              <a:t>Banco de Dad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A4E4-46C3-4269-BEF3-E8017B2EAE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Particular</cp:lastModifiedBy>
  <dcterms:modified xsi:type="dcterms:W3CDTF">2004-04-28T10:41:14Z</dcterms:modified>
  <cp:revision>453</cp:revision>
  <dc:subject/>
  <dc:title>Slide sem título </dc:title>
</cp:coreProperties>
</file>