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CE4A-5A29-4667-B7C4-FB44E9172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A52A-E2FA-404E-B9C7-22E2D2DDF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BD0C-E845-4F86-8BB5-A4A860D35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4315-8D47-48E0-BFE4-A06466931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5E76-EF11-4F60-A21B-724823D6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C97D9-7E03-49C8-8BAB-C88F5043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450F-3F19-4073-B12C-748E6948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571DC-0EEA-4A2E-8207-9DD8651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2A6B0-FF3C-428D-87EA-B56A975C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FBBF-E881-4308-9B18-8DAE323D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E2AAC-6B9D-4907-9F6E-4D1B456B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91DB-272B-4C14-9CB2-F5D98361F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A58BA-758C-4DD5-A99B-F6D9A4C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B349E-5A68-4437-9A27-BF622A92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F4652-915C-40BD-AAA3-328DC20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88139-40F3-4BE9-93A1-AF2A314D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71F0F-B1DE-4877-9A70-6DBBA4F4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FD78-12B3-4B79-ADA4-204E16101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2960-159F-4DCD-9B04-785E3C08D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BE3A-6037-47A4-B0FB-19EC7860D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C676-7D79-492A-9A62-F2E1EA0A7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4CE8-F9EC-4B72-8E82-FED89E250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9C0E-35C5-4BFE-A8DF-7225FA3D3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89B3-76CC-43AE-9DC5-3B1B82662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07C8-D5FE-4E35-AA6E-7451B9258A0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comput2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grpSp>
        <p:nvGrpSpPr>
          <p:cNvPr id="9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10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64FC-1F91-439F-9AF7-B960BD8BCE63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comput2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grpSp>
        <p:nvGrpSpPr>
          <p:cNvPr id="60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1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TÓPICOS COMPLEMENTARES (Parte 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eaeaea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é o estabelecimento e uso de sólidos princípios de engenharia para que se possa obter economicamente um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software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que seja confiável e que funcione eficientemente em máquinas reais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É UMA METODOLOGIA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9031-2447-4EDE-8B3D-C2A91F4E1F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.S. possui 3 elementos fundamenta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étodos: “como faze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erramentas: apoio automatizado aos mé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cedimentos: elo de ligação entre os métodos e os procedimen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xistem diversos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aradigmas de Engenharia de 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bordagens que envolvem estes métodos, ferramentas e procedimen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B9A8-6328-4E72-BB0C-C8860FA023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55600" y="1752120"/>
            <a:ext cx="3416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41400" indent="0" algn="r">
              <a:lnSpc>
                <a:spcPct val="12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ces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r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rrament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ases genéric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1905120"/>
            <a:ext cx="584280" cy="1955520"/>
          </a:xfrm>
          <a:custGeom>
            <a:avLst/>
            <a:gdLst>
              <a:gd name="textAreaLeft" fmla="*/ 0 w 584280"/>
              <a:gd name="textAreaRight" fmla="*/ 210960 w 584280"/>
              <a:gd name="textAreaTop" fmla="*/ 50760 h 1955520"/>
              <a:gd name="textAreaBottom" fmla="*/ 1904760 h 195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055600"/>
            <a:ext cx="37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vem incorporar uma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tratégi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de desenvolvimen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508280"/>
            <a:ext cx="73202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odelo de Proces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aradigma de Engenharia d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iclo de Vi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50240" y="3162240"/>
            <a:ext cx="901800" cy="1575000"/>
          </a:xfrm>
          <a:custGeom>
            <a:avLst/>
            <a:gdLst>
              <a:gd name="textAreaLeft" fmla="*/ 120600 w 901800"/>
              <a:gd name="textAreaRight" fmla="*/ 781200 w 901800"/>
              <a:gd name="textAreaTop" fmla="*/ 275400 h 1575000"/>
              <a:gd name="textAreaBottom" fmla="*/ 1141920 h 15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58672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- o Process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7065-49F2-4C36-B5C5-5711DAD0D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3152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elo de Processo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i="1" lang="en-US" sz="44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51040"/>
            <a:ext cx="75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odo desenvolvimento d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de ser caracterizado como um loop de soluçã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474920" y="3130560"/>
            <a:ext cx="7331040" cy="3060720"/>
            <a:chOff x="1474920" y="3130560"/>
            <a:chExt cx="7331040" cy="3060720"/>
          </a:xfrm>
        </p:grpSpPr>
        <p:sp>
          <p:nvSpPr>
            <p:cNvPr id="138" name=""/>
            <p:cNvSpPr/>
            <p:nvPr/>
          </p:nvSpPr>
          <p:spPr>
            <a:xfrm>
              <a:off x="3468600" y="3130560"/>
              <a:ext cx="202248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Arial"/>
                </a:rPr>
                <a:t>definição do problem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46920" y="4184640"/>
              <a:ext cx="27590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Arial"/>
                </a:rPr>
                <a:t>desenvolvimento técn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32320" y="5365800"/>
              <a:ext cx="202248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Arial"/>
                </a:rPr>
                <a:t>integração da soluçã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474920" y="3873600"/>
              <a:ext cx="1666800" cy="1218960"/>
              <a:chOff x="1474920" y="3873600"/>
              <a:chExt cx="1666800" cy="1218960"/>
            </a:xfrm>
          </p:grpSpPr>
          <p:sp>
            <p:nvSpPr>
              <p:cNvPr id="142" name=""/>
              <p:cNvSpPr/>
              <p:nvPr/>
            </p:nvSpPr>
            <p:spPr>
              <a:xfrm>
                <a:off x="1587600" y="3873600"/>
                <a:ext cx="1371600" cy="121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74920" y="4057920"/>
                <a:ext cx="166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Arial"/>
                  </a:rPr>
                  <a:t>estado atu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489040" y="3422520"/>
              <a:ext cx="952560" cy="451080"/>
            </a:xfrm>
            <a:custGeom>
              <a:avLst/>
              <a:gdLst/>
              <a:ahLst/>
              <a:rect l="l" t="t" r="r" b="b"/>
              <a:pathLst>
                <a:path w="600" h="284">
                  <a:moveTo>
                    <a:pt x="0" y="284"/>
                  </a:moveTo>
                  <a:cubicBezTo>
                    <a:pt x="20" y="257"/>
                    <a:pt x="65" y="168"/>
                    <a:pt x="120" y="124"/>
                  </a:cubicBezTo>
                  <a:cubicBezTo>
                    <a:pt x="175" y="80"/>
                    <a:pt x="248" y="40"/>
                    <a:pt x="328" y="20"/>
                  </a:cubicBezTo>
                  <a:cubicBezTo>
                    <a:pt x="408" y="0"/>
                    <a:pt x="543" y="7"/>
                    <a:pt x="600" y="4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00880" y="3386160"/>
              <a:ext cx="1244520" cy="728640"/>
            </a:xfrm>
            <a:custGeom>
              <a:avLst/>
              <a:gdLst/>
              <a:ahLst/>
              <a:rect l="l" t="t" r="r" b="b"/>
              <a:pathLst>
                <a:path w="784" h="459">
                  <a:moveTo>
                    <a:pt x="0" y="11"/>
                  </a:moveTo>
                  <a:cubicBezTo>
                    <a:pt x="48" y="11"/>
                    <a:pt x="195" y="0"/>
                    <a:pt x="288" y="11"/>
                  </a:cubicBezTo>
                  <a:cubicBezTo>
                    <a:pt x="381" y="22"/>
                    <a:pt x="485" y="36"/>
                    <a:pt x="560" y="75"/>
                  </a:cubicBezTo>
                  <a:cubicBezTo>
                    <a:pt x="635" y="114"/>
                    <a:pt x="699" y="179"/>
                    <a:pt x="736" y="243"/>
                  </a:cubicBezTo>
                  <a:cubicBezTo>
                    <a:pt x="773" y="307"/>
                    <a:pt x="774" y="414"/>
                    <a:pt x="784" y="459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76840" y="5118120"/>
              <a:ext cx="1257480" cy="774720"/>
            </a:xfrm>
            <a:custGeom>
              <a:avLst/>
              <a:gdLst/>
              <a:ahLst/>
              <a:rect l="l" t="t" r="r" b="b"/>
              <a:pathLst>
                <a:path w="792" h="488">
                  <a:moveTo>
                    <a:pt x="792" y="0"/>
                  </a:moveTo>
                  <a:cubicBezTo>
                    <a:pt x="785" y="40"/>
                    <a:pt x="792" y="168"/>
                    <a:pt x="752" y="240"/>
                  </a:cubicBezTo>
                  <a:cubicBezTo>
                    <a:pt x="712" y="312"/>
                    <a:pt x="627" y="393"/>
                    <a:pt x="552" y="432"/>
                  </a:cubicBezTo>
                  <a:cubicBezTo>
                    <a:pt x="477" y="471"/>
                    <a:pt x="396" y="463"/>
                    <a:pt x="304" y="472"/>
                  </a:cubicBezTo>
                  <a:cubicBezTo>
                    <a:pt x="212" y="481"/>
                    <a:pt x="63" y="485"/>
                    <a:pt x="0" y="488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0480" y="5232240"/>
              <a:ext cx="1104840" cy="649440"/>
            </a:xfrm>
            <a:custGeom>
              <a:avLst/>
              <a:gdLst/>
              <a:ahLst/>
              <a:rect l="l" t="t" r="r" b="b"/>
              <a:pathLst>
                <a:path w="696" h="409">
                  <a:moveTo>
                    <a:pt x="696" y="408"/>
                  </a:moveTo>
                  <a:cubicBezTo>
                    <a:pt x="659" y="409"/>
                    <a:pt x="537" y="405"/>
                    <a:pt x="464" y="400"/>
                  </a:cubicBezTo>
                  <a:cubicBezTo>
                    <a:pt x="391" y="395"/>
                    <a:pt x="320" y="405"/>
                    <a:pt x="256" y="376"/>
                  </a:cubicBezTo>
                  <a:cubicBezTo>
                    <a:pt x="192" y="347"/>
                    <a:pt x="123" y="287"/>
                    <a:pt x="80" y="224"/>
                  </a:cubicBezTo>
                  <a:cubicBezTo>
                    <a:pt x="37" y="161"/>
                    <a:pt x="17" y="47"/>
                    <a:pt x="0" y="0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2983-4CF8-45A9-828A-C2BD2480DA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digmas de Desenvolvimento d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xistem dezen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4 principai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iclo de Vida Clássico (modelo Cascat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totip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spi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Técnicas de Quarta Ger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73152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esenvolvimento de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44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6F92-909F-4213-B7DB-DAD0320011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00200" y="1752480"/>
            <a:ext cx="6629400" cy="3962520"/>
            <a:chOff x="1600200" y="1752480"/>
            <a:chExt cx="6629400" cy="3962520"/>
          </a:xfrm>
        </p:grpSpPr>
        <p:sp>
          <p:nvSpPr>
            <p:cNvPr id="151" name=""/>
            <p:cNvSpPr/>
            <p:nvPr/>
          </p:nvSpPr>
          <p:spPr>
            <a:xfrm>
              <a:off x="1600200" y="175248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Engenharia de Sistema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67040" y="230328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Análise  de Requisitos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7040" y="285264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Projeto 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19600" y="340344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Codificação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99000" y="3954240"/>
              <a:ext cx="18525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Testes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77040" y="4394160"/>
              <a:ext cx="185256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Narrow"/>
                </a:rPr>
                <a:t>Manutenção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52760" y="208260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9600" y="25225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89600" y="30733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2160" y="36241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51560" y="41734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40200" y="208260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11560" y="25225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81560" y="30733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64120" y="362412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42160" y="4173480"/>
              <a:ext cx="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54720" y="5384520"/>
              <a:ext cx="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2760" y="5715000"/>
              <a:ext cx="497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2760" y="274320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9600" y="3294000"/>
              <a:ext cx="0" cy="242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24120" y="3843360"/>
              <a:ext cx="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07040" y="4394160"/>
              <a:ext cx="0" cy="132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87880" y="4944960"/>
              <a:ext cx="0" cy="77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elo Cascat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48160" y="5866560"/>
            <a:ext cx="66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odelo original, proposto por Royce, prevê feedba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DC18-E0DF-48BA-B88D-A88C49A6FF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tip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675880" y="1869120"/>
            <a:ext cx="4368240" cy="4150440"/>
            <a:chOff x="2675880" y="1869120"/>
            <a:chExt cx="4368240" cy="4150440"/>
          </a:xfrm>
        </p:grpSpPr>
        <p:sp>
          <p:nvSpPr>
            <p:cNvPr id="178" name=""/>
            <p:cNvSpPr/>
            <p:nvPr/>
          </p:nvSpPr>
          <p:spPr>
            <a:xfrm>
              <a:off x="3051000" y="2187360"/>
              <a:ext cx="3670200" cy="3416400"/>
            </a:xfrm>
            <a:prstGeom prst="ellipse">
              <a:avLst/>
            </a:prstGeom>
            <a:noFill/>
            <a:ln cap="sq" w="5079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4751000">
              <a:off x="5180760" y="199368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1722200">
              <a:off x="3657240" y="2069640"/>
              <a:ext cx="72684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932800">
              <a:off x="6197760" y="2806200"/>
              <a:ext cx="72684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477400">
              <a:off x="6146640" y="427932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26200">
              <a:off x="5181120" y="513036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4200600">
              <a:off x="3733200" y="520668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6667200">
              <a:off x="2831400" y="4343040"/>
              <a:ext cx="72720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051200">
              <a:off x="2742840" y="2996640"/>
              <a:ext cx="726840" cy="701640"/>
            </a:xfrm>
            <a:prstGeom prst="rtTriangle">
              <a:avLst/>
            </a:prstGeom>
            <a:solidFill>
              <a:srgbClr val="66cc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41720" y="5235480"/>
              <a:ext cx="203040" cy="45720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476680" y="5235480"/>
              <a:ext cx="139680" cy="48240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6302160" y="4523760"/>
              <a:ext cx="470160" cy="228600"/>
            </a:xfrm>
            <a:prstGeom prst="line">
              <a:avLst/>
            </a:prstGeom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6327360" y="4537080"/>
              <a:ext cx="190440" cy="101520"/>
            </a:xfrm>
            <a:prstGeom prst="line">
              <a:avLst/>
            </a:prstGeom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302160" y="3089160"/>
              <a:ext cx="482760" cy="164880"/>
            </a:xfrm>
            <a:prstGeom prst="line">
              <a:avLst/>
            </a:prstGeom>
            <a:ln cap="sq"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489640" y="2059920"/>
              <a:ext cx="164880" cy="482760"/>
            </a:xfrm>
            <a:prstGeom prst="line">
              <a:avLst/>
            </a:prstGeom>
            <a:ln cap="sq"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3876480" y="2174400"/>
              <a:ext cx="254160" cy="43164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923920" y="3241080"/>
              <a:ext cx="432000" cy="26676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012480" y="4562280"/>
              <a:ext cx="444600" cy="216000"/>
            </a:xfrm>
            <a:prstGeom prst="line">
              <a:avLst/>
            </a:prstGeom>
            <a:ln cap="sq"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65080" y="2409840"/>
            <a:ext cx="24332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a/rev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ó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94120" y="4260240"/>
            <a:ext cx="17683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e 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ótipo pelo cl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5960" y="2562480"/>
            <a:ext cx="16099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ça o cl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11EA-2B24-494A-BD80-02D46AF2B7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05120" y="1523880"/>
            <a:ext cx="6202080" cy="508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22080" y="1636560"/>
            <a:ext cx="5207040" cy="4637160"/>
            <a:chOff x="2422080" y="1636560"/>
            <a:chExt cx="5207040" cy="4637160"/>
          </a:xfrm>
        </p:grpSpPr>
        <p:sp>
          <p:nvSpPr>
            <p:cNvPr id="201" name=""/>
            <p:cNvSpPr/>
            <p:nvPr/>
          </p:nvSpPr>
          <p:spPr>
            <a:xfrm>
              <a:off x="2422440" y="2201760"/>
              <a:ext cx="1136520" cy="56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cc"/>
                  </a:solidFill>
                  <a:latin typeface="Comic Sans MS"/>
                </a:rPr>
                <a:t>fi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62280" y="1636560"/>
              <a:ext cx="113652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cc"/>
                  </a:solidFill>
                  <a:latin typeface="Comic Sans MS"/>
                </a:rPr>
                <a:t>iníci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14600" y="3241440"/>
              <a:ext cx="186048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ru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dut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8720" y="4576680"/>
              <a:ext cx="1757520" cy="90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efinament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tótip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86240" y="5256000"/>
              <a:ext cx="1654200" cy="90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valia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tótip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26080" y="4463640"/>
              <a:ext cx="165420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ru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tótip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2360" y="3219120"/>
              <a:ext cx="144792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jet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ápid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79600" y="2428560"/>
              <a:ext cx="1652760" cy="11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btenção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os</a:t>
              </a: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equisito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22440" y="2314440"/>
              <a:ext cx="4960800" cy="3959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79600" y="3558960"/>
              <a:ext cx="1652760" cy="1357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5600" y="2541240"/>
              <a:ext cx="826920" cy="113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22400" y="2653920"/>
              <a:ext cx="723960" cy="101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32360" y="4238280"/>
              <a:ext cx="15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22760" y="4803480"/>
              <a:ext cx="827280" cy="113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868560" y="4916160"/>
              <a:ext cx="827280" cy="113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22080" y="4238280"/>
              <a:ext cx="175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966800">
              <a:off x="4592160" y="4011120"/>
              <a:ext cx="826920" cy="565200"/>
            </a:xfrm>
            <a:custGeom>
              <a:avLst/>
              <a:gdLst>
                <a:gd name="textAreaLeft" fmla="*/ 129240 w 826920"/>
                <a:gd name="textAreaRight" fmla="*/ 723600 w 826920"/>
                <a:gd name="textAreaTop" fmla="*/ 141120 h 565200"/>
                <a:gd name="textAreaBottom" fmla="*/ 42408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179600" y="3671640"/>
              <a:ext cx="1343160" cy="566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5840" y="4237920"/>
              <a:ext cx="1136520" cy="677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042720" y="2428200"/>
              <a:ext cx="206280" cy="33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8560" y="1976040"/>
              <a:ext cx="208080" cy="3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76880" y="2431080"/>
              <a:ext cx="2352240" cy="271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21" y="8"/>
                  </a:moveTo>
                  <a:arcTo wR="10800" hR="10800" stAng="-5265829" swAng="4371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21" y="8"/>
                  </a:moveTo>
                  <a:arcTo wR="10800" hR="10800" stAng="-5265829" swAng="437194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tip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E869-8B3B-4E13-B6CB-DA0316F622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delo Espir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987640" y="2252520"/>
            <a:ext cx="3632040" cy="3543120"/>
            <a:chOff x="2987640" y="2252520"/>
            <a:chExt cx="3632040" cy="3543120"/>
          </a:xfrm>
        </p:grpSpPr>
        <p:sp>
          <p:nvSpPr>
            <p:cNvPr id="226" name=""/>
            <p:cNvSpPr/>
            <p:nvPr/>
          </p:nvSpPr>
          <p:spPr>
            <a:xfrm rot="4255200">
              <a:off x="4380480" y="2995560"/>
              <a:ext cx="1162080" cy="2951280"/>
            </a:xfrm>
            <a:prstGeom prst="flowChartDelay">
              <a:avLst/>
            </a:prstGeom>
            <a:solidFill>
              <a:srgbClr val="99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5054600">
              <a:off x="4303440" y="2099880"/>
              <a:ext cx="990720" cy="2565360"/>
            </a:xfrm>
            <a:prstGeom prst="flowChartDelay">
              <a:avLst/>
            </a:prstGeom>
            <a:solidFill>
              <a:srgbClr val="99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4241400">
              <a:off x="4542480" y="3164400"/>
              <a:ext cx="804960" cy="2247840"/>
            </a:xfrm>
            <a:prstGeom prst="flowChartDelay">
              <a:avLst/>
            </a:prstGeom>
            <a:solidFill>
              <a:srgbClr val="33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020400">
              <a:off x="4483440" y="2541960"/>
              <a:ext cx="743040" cy="1865160"/>
            </a:xfrm>
            <a:prstGeom prst="flowChartDelay">
              <a:avLst/>
            </a:prstGeom>
            <a:solidFill>
              <a:srgbClr val="33cc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4248000">
              <a:off x="4625640" y="3420720"/>
              <a:ext cx="584280" cy="1498320"/>
            </a:xfrm>
            <a:prstGeom prst="flowChartDelay">
              <a:avLst/>
            </a:prstGeom>
            <a:solidFill>
              <a:srgbClr val="0099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100200">
              <a:off x="4574880" y="2950560"/>
              <a:ext cx="558720" cy="1231560"/>
            </a:xfrm>
            <a:prstGeom prst="flowChartDelay">
              <a:avLst/>
            </a:prstGeom>
            <a:solidFill>
              <a:srgbClr val="0099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064800">
              <a:off x="4651200" y="3306600"/>
              <a:ext cx="380880" cy="698400"/>
            </a:xfrm>
            <a:prstGeom prst="flowChartDelay">
              <a:avLst/>
            </a:prstGeom>
            <a:solidFill>
              <a:srgbClr val="0066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4300200">
              <a:off x="4671360" y="3619080"/>
              <a:ext cx="396720" cy="927000"/>
            </a:xfrm>
            <a:prstGeom prst="flowChartDelay">
              <a:avLst/>
            </a:prstGeom>
            <a:solidFill>
              <a:srgbClr val="0066ff"/>
            </a:solidFill>
            <a:ln cap="sq" w="1260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987640" y="3255480"/>
              <a:ext cx="3632040" cy="1270080"/>
            </a:xfrm>
            <a:prstGeom prst="line">
              <a:avLst/>
            </a:prstGeom>
            <a:ln cap="sq" w="5724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473000" y="2252520"/>
              <a:ext cx="723960" cy="3543120"/>
            </a:xfrm>
            <a:prstGeom prst="line">
              <a:avLst/>
            </a:prstGeom>
            <a:ln cap="sq"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54400" y="2734920"/>
              <a:ext cx="3238200" cy="2247840"/>
            </a:xfrm>
            <a:prstGeom prst="line">
              <a:avLst/>
            </a:prstGeom>
            <a:ln cap="sq"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0000" y="3763800"/>
              <a:ext cx="38160" cy="177480"/>
            </a:xfrm>
            <a:custGeom>
              <a:avLst/>
              <a:gdLst/>
              <a:ahLst/>
              <a:rect l="l" t="t" r="r" b="b"/>
              <a:pathLst>
                <a:path w="24" h="112">
                  <a:moveTo>
                    <a:pt x="24" y="112"/>
                  </a:moveTo>
                  <a:lnTo>
                    <a:pt x="0" y="8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3240" y="3801600"/>
              <a:ext cx="88920" cy="266760"/>
            </a:xfrm>
            <a:custGeom>
              <a:avLst/>
              <a:gdLst/>
              <a:ahLst/>
              <a:rect l="l" t="t" r="r" b="b"/>
              <a:pathLst>
                <a:path w="56" h="168">
                  <a:moveTo>
                    <a:pt x="56" y="168"/>
                  </a:moveTo>
                  <a:lnTo>
                    <a:pt x="16" y="96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7560" y="3789000"/>
              <a:ext cx="101520" cy="380880"/>
            </a:xfrm>
            <a:custGeom>
              <a:avLst/>
              <a:gdLst/>
              <a:ahLst/>
              <a:rect l="l" t="t" r="r" b="b"/>
              <a:pathLst>
                <a:path w="64" h="240">
                  <a:moveTo>
                    <a:pt x="64" y="240"/>
                  </a:moveTo>
                  <a:lnTo>
                    <a:pt x="16" y="12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30360" y="3839760"/>
              <a:ext cx="165240" cy="470160"/>
            </a:xfrm>
            <a:custGeom>
              <a:avLst/>
              <a:gdLst/>
              <a:ahLst/>
              <a:rect l="l" t="t" r="r" b="b"/>
              <a:pathLst>
                <a:path w="104" h="296">
                  <a:moveTo>
                    <a:pt x="104" y="296"/>
                  </a:moveTo>
                  <a:lnTo>
                    <a:pt x="48" y="232"/>
                  </a:lnTo>
                  <a:lnTo>
                    <a:pt x="16" y="112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200b5b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255840" y="22471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lanejamen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9600" y="2285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nálise de R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3520" y="3745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ngenhar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28880" y="520632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nstrução e Releas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19080" y="52570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valiação do Clien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4600" y="30999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unicação 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 Clien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6467-D1F1-4BE0-9190-272917A50C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600200" y="1752480"/>
            <a:ext cx="6721200" cy="4678200"/>
            <a:chOff x="1600200" y="1752480"/>
            <a:chExt cx="6721200" cy="4678200"/>
          </a:xfrm>
        </p:grpSpPr>
        <p:sp>
          <p:nvSpPr>
            <p:cNvPr id="248" name="">
              <a:hlinkClick r:id="rId1" action="ppaction://hlinksldjump"/>
            </p:cNvPr>
            <p:cNvSpPr/>
            <p:nvPr/>
          </p:nvSpPr>
          <p:spPr>
            <a:xfrm>
              <a:off x="4572000" y="3200040"/>
              <a:ext cx="1523880" cy="762120"/>
            </a:xfrm>
            <a:custGeom>
              <a:avLst/>
              <a:gdLst>
                <a:gd name="textAreaLeft" fmla="*/ 49320 w 1523880"/>
                <a:gd name="textAreaRight" fmla="*/ 1474560 w 1523880"/>
                <a:gd name="textAreaTop" fmla="*/ 49320 h 762120"/>
                <a:gd name="textAreaBottom" fmla="*/ 712800 h 762120"/>
              </a:gdLst>
              <a:ahLst/>
              <a:rect l="textAreaLeft" t="textAreaTop" r="textAreaRight" b="textAreaBottom"/>
              <a:pathLst>
                <a:path w="43180" h="21600">
                  <a:moveTo>
                    <a:pt x="0" y="0"/>
                  </a:moveTo>
                  <a:lnTo>
                    <a:pt x="43180" y="0"/>
                  </a:lnTo>
                  <a:lnTo>
                    <a:pt x="43180" y="21600"/>
                  </a:lnTo>
                  <a:lnTo>
                    <a:pt x="0" y="21600"/>
                  </a:lnTo>
                  <a:close/>
                </a:path>
                <a:path fill="lightenLess" w="43180" h="21600">
                  <a:moveTo>
                    <a:pt x="0" y="0"/>
                  </a:moveTo>
                  <a:lnTo>
                    <a:pt x="43180" y="0"/>
                  </a:lnTo>
                  <a:lnTo>
                    <a:pt x="41780" y="1400"/>
                  </a:lnTo>
                  <a:lnTo>
                    <a:pt x="1400" y="1400"/>
                  </a:lnTo>
                  <a:close/>
                </a:path>
                <a:path fill="darken" w="43180" h="21600">
                  <a:moveTo>
                    <a:pt x="43180" y="0"/>
                  </a:moveTo>
                  <a:lnTo>
                    <a:pt x="43180" y="21600"/>
                  </a:lnTo>
                  <a:lnTo>
                    <a:pt x="41780" y="20200"/>
                  </a:lnTo>
                  <a:lnTo>
                    <a:pt x="41780" y="1400"/>
                  </a:lnTo>
                  <a:close/>
                </a:path>
                <a:path fill="darkenLess" w="43180" h="21600">
                  <a:moveTo>
                    <a:pt x="431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780" y="20200"/>
                  </a:lnTo>
                  <a:close/>
                </a:path>
                <a:path fill="lighten" w="431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>
              <a:hlinkClick r:id="rId2" action="ppaction://hlinksldjump"/>
            </p:cNvPr>
            <p:cNvSpPr/>
            <p:nvPr/>
          </p:nvSpPr>
          <p:spPr>
            <a:xfrm>
              <a:off x="1752480" y="1981080"/>
              <a:ext cx="1752480" cy="1371600"/>
            </a:xfrm>
            <a:custGeom>
              <a:avLst/>
              <a:gdLst>
                <a:gd name="textAreaLeft" fmla="*/ 88560 w 1752480"/>
                <a:gd name="textAreaRight" fmla="*/ 1663920 w 1752480"/>
                <a:gd name="textAreaTop" fmla="*/ 88560 h 1371600"/>
                <a:gd name="textAreaBottom" fmla="*/ 1283040 h 1371600"/>
              </a:gdLst>
              <a:ahLst/>
              <a:rect l="textAreaLeft" t="textAreaTop" r="textAreaRight" b="textAreaBottom"/>
              <a:pathLst>
                <a:path w="27597" h="21600">
                  <a:moveTo>
                    <a:pt x="0" y="0"/>
                  </a:moveTo>
                  <a:lnTo>
                    <a:pt x="27597" y="0"/>
                  </a:lnTo>
                  <a:lnTo>
                    <a:pt x="27597" y="21600"/>
                  </a:lnTo>
                  <a:lnTo>
                    <a:pt x="0" y="21600"/>
                  </a:lnTo>
                  <a:close/>
                </a:path>
                <a:path fill="lightenLess" w="27597" h="21600">
                  <a:moveTo>
                    <a:pt x="0" y="0"/>
                  </a:moveTo>
                  <a:lnTo>
                    <a:pt x="27597" y="0"/>
                  </a:lnTo>
                  <a:lnTo>
                    <a:pt x="26197" y="1400"/>
                  </a:lnTo>
                  <a:lnTo>
                    <a:pt x="1400" y="1400"/>
                  </a:lnTo>
                  <a:close/>
                </a:path>
                <a:path fill="darken" w="27597" h="21600">
                  <a:moveTo>
                    <a:pt x="27597" y="0"/>
                  </a:moveTo>
                  <a:lnTo>
                    <a:pt x="27597" y="21600"/>
                  </a:lnTo>
                  <a:lnTo>
                    <a:pt x="26197" y="20200"/>
                  </a:lnTo>
                  <a:lnTo>
                    <a:pt x="26197" y="1400"/>
                  </a:lnTo>
                  <a:close/>
                </a:path>
                <a:path fill="darkenLess" w="27597" h="21600">
                  <a:moveTo>
                    <a:pt x="275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197" y="20200"/>
                  </a:lnTo>
                  <a:close/>
                </a:path>
                <a:path fill="lighten" w="275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>
              <a:hlinkClick r:id="rId3" action="ppaction://hlinksldjump"/>
            </p:cNvPr>
            <p:cNvSpPr/>
            <p:nvPr/>
          </p:nvSpPr>
          <p:spPr>
            <a:xfrm>
              <a:off x="3276360" y="2742840"/>
              <a:ext cx="1600200" cy="762120"/>
            </a:xfrm>
            <a:custGeom>
              <a:avLst/>
              <a:gdLst>
                <a:gd name="textAreaLeft" fmla="*/ 49320 w 1600200"/>
                <a:gd name="textAreaRight" fmla="*/ 1550880 w 1600200"/>
                <a:gd name="textAreaTop" fmla="*/ 49320 h 762120"/>
                <a:gd name="textAreaBottom" fmla="*/ 712800 h 762120"/>
              </a:gdLst>
              <a:ahLst/>
              <a:rect l="textAreaLeft" t="textAreaTop" r="textAreaRight" b="textAreaBottom"/>
              <a:pathLst>
                <a:path w="45342" h="21600">
                  <a:moveTo>
                    <a:pt x="0" y="0"/>
                  </a:moveTo>
                  <a:lnTo>
                    <a:pt x="45342" y="0"/>
                  </a:lnTo>
                  <a:lnTo>
                    <a:pt x="45342" y="21600"/>
                  </a:lnTo>
                  <a:lnTo>
                    <a:pt x="0" y="21600"/>
                  </a:lnTo>
                  <a:close/>
                </a:path>
                <a:path fill="lightenLess" w="45342" h="21600">
                  <a:moveTo>
                    <a:pt x="0" y="0"/>
                  </a:moveTo>
                  <a:lnTo>
                    <a:pt x="45342" y="0"/>
                  </a:lnTo>
                  <a:lnTo>
                    <a:pt x="43942" y="1400"/>
                  </a:lnTo>
                  <a:lnTo>
                    <a:pt x="1400" y="1400"/>
                  </a:lnTo>
                  <a:close/>
                </a:path>
                <a:path fill="darken" w="45342" h="21600">
                  <a:moveTo>
                    <a:pt x="45342" y="0"/>
                  </a:moveTo>
                  <a:lnTo>
                    <a:pt x="45342" y="21600"/>
                  </a:lnTo>
                  <a:lnTo>
                    <a:pt x="43942" y="20200"/>
                  </a:lnTo>
                  <a:lnTo>
                    <a:pt x="43942" y="1400"/>
                  </a:lnTo>
                  <a:close/>
                </a:path>
                <a:path fill="darkenLess" w="45342" h="21600">
                  <a:moveTo>
                    <a:pt x="453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942" y="20200"/>
                  </a:lnTo>
                  <a:close/>
                </a:path>
                <a:path fill="lighten" w="453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00200" y="1752480"/>
              <a:ext cx="6721200" cy="4678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9800" y="2158920"/>
              <a:ext cx="1965240" cy="915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Obtenção dos Requisit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54400" y="2668320"/>
              <a:ext cx="19652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Estratégia do “Projeto”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5680" y="3176280"/>
              <a:ext cx="1965240" cy="91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Implementação usando 4GL  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3600" y="3684240"/>
              <a:ext cx="1963440" cy="91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Testes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5040" y="2463480"/>
              <a:ext cx="51732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19640" y="2871720"/>
              <a:ext cx="30960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60920" y="3379680"/>
              <a:ext cx="30960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92360" y="2463480"/>
              <a:ext cx="0" cy="20484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29240" y="2871720"/>
              <a:ext cx="0" cy="30456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70520" y="3379680"/>
              <a:ext cx="0" cy="30456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33400" y="5821200"/>
              <a:ext cx="3930840" cy="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33400" y="3074760"/>
              <a:ext cx="0" cy="274644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78000" y="3582720"/>
              <a:ext cx="0" cy="223848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3360" y="4092480"/>
              <a:ext cx="0" cy="172872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4240" y="4600440"/>
              <a:ext cx="0" cy="1220760"/>
            </a:xfrm>
            <a:prstGeom prst="line">
              <a:avLst/>
            </a:prstGeom>
            <a:ln w="38160">
              <a:solidFill>
                <a:srgbClr val="200b5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écnicas de 4</a:t>
            </a:r>
            <a:r>
              <a:rPr b="1" lang="en-US" sz="3600" spc="-1" strike="noStrike" u="sng" baseline="30000">
                <a:solidFill>
                  <a:srgbClr val="ffcc00"/>
                </a:solidFill>
                <a:uFillTx/>
                <a:latin typeface="Arial"/>
              </a:rPr>
              <a:t>a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Ger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9348-C6D2-4A8A-8EDA-C461A314FB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0" y="2666880"/>
            <a:ext cx="541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genharia de Softwar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2926-BD69-46CF-848E-6C75CE7769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siderações Finai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GENHARIA D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ctr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ode ser vista como uma abordagem de desenvolvimento de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elaborada com disciplina e métodos bem definid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3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3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.....“a construção por múltiplas pessoas de um software de múltiplas versões”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[Parnas 1987]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2208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0F42-4EDD-4AE0-9112-FC7E8C9ABB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950 - 196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sofreu contínuas mudanç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ra uma arte "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undária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" para a qual havia poucos métodos sistemát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ra de propósito ge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ra específico para cada aplicaçã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havia documen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789B-3587-4AAE-9D5D-5CBC0C6E07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5480" indent="0" algn="just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1965 - 197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0" algn="just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ulti-programação e sistemas multi-usuári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écnicas inter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istemas de tempo re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duto d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s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oftware ho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Bibliotecas de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resce n</a:t>
            </a:r>
            <a:r>
              <a:rPr b="1" lang="pt-BR" sz="2400" spc="-1" strike="noStrike" u="sng" baseline="30000">
                <a:solidFill>
                  <a:srgbClr val="ffffcc"/>
                </a:solidFill>
                <a:uFillTx/>
                <a:latin typeface="Arial"/>
              </a:rPr>
              <a:t>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 sistemas baseado em comput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-26280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anutenção quase impossí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0" algn="ctr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45480" indent="0" algn="ctr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.....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RISE DE SOFTWARE</a:t>
            </a: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7728-6E13-4B0B-93DF-B8872CE93E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4140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1975 -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hoj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stemas distribuí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des locais e glob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o generalizado de microprocessadores - produtos intelig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de baixo cus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41400" indent="-484200" algn="just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pacto de consum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S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6CFE-0477-4EBF-A071-E2028C2B05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316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Quarta era do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: atualidad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ecnologias orientadas o obje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stemas especialistas 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para inteligência artificial usados na prá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de rede neural artific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putação Paral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31680" indent="-479160" algn="just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Evolução do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5FED-24A7-441C-A849-247C816C0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- Perspectiva Industr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470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oje, é 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que custa mais do que o hardwa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0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Já há algum tempo, gerentes e técnicos se perguntam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é preciso tanto tempo para terminar os progra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os custos são tão alto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não se consegue encontrar todos os erros antes que o 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seja liberado para os cliente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47080" indent="-435600">
              <a:lnSpc>
                <a:spcPct val="110000"/>
              </a:lnSpc>
              <a:spcBef>
                <a:spcPts val="901"/>
              </a:spcBef>
              <a:spcAft>
                <a:spcPts val="300"/>
              </a:spcAft>
              <a:buClr>
                <a:srgbClr val="ffff99"/>
              </a:buClr>
              <a:buFont typeface="Wingdings" charset="2"/>
              <a:buChar char="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orque existe uma dificuldade em medir o progresso à medida que o </a:t>
            </a:r>
            <a:r>
              <a:rPr b="1" i="1" lang="en-US" sz="2000" spc="-1" strike="noStrike">
                <a:solidFill>
                  <a:srgbClr val="ffffcc"/>
                </a:solidFill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está sendo construíd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2CD9-A8E0-466E-A9C7-ED708AE475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19810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Denver International Airpor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6483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rros no sistema automático de transporte de bagagens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sloaded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srouted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jamme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traso na abertura do aeroporto com custo total estimado em US$360 Milh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86 milhões para consertar o siste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apr_denver_airport_h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343400" cy="312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71600" y="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emplos de problem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6F00-EFB6-47A1-A352-7755D1A827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8960" y="11430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ARIANE 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Projeto da Agência Espacial Européia que custou: 10 anos, US$ 8 Bilhõ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Explosão 40 segundos após a decolage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Os computadores principal 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back-up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deram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shut-down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ao mesmo temp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Por que o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shut-down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? Ocorrera um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un time error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out of range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overflow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, ou outr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launch.explode.lrg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5410440" cy="2551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71600" y="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Softwar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emplos de problem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1C77-2BC3-44D7-B593-C2FA300552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Particular</cp:lastModifiedBy>
  <dcterms:modified xsi:type="dcterms:W3CDTF">2004-04-28T10:40:01Z</dcterms:modified>
  <cp:revision>111</cp:revision>
  <dc:subject/>
  <dc:title>Slide sem título </dc:title>
</cp:coreProperties>
</file>