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D75F-8EF8-48C1-961C-9820CBD77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CC3A-F472-45E5-A895-9FBC17C4D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AD13-D308-4793-A763-C7BCF5111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7198-C74B-4CE9-9A79-FDAF3296F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23CDB-C1E0-45F0-A880-F73DC2D3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A2843-3C4A-4295-B4DB-3DF268EC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3382A-7052-429B-94AC-904967B3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C254E-BE4D-4C92-9691-1D46CD2C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61D82-A33E-4AD9-B7B2-0AE7BC5B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241AB-C2B0-4225-963E-FE3A5B59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35894-D7AE-4E7F-93A0-F4214DB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D5E3-8115-40D3-94B0-4856C0955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DDECE-59F1-4DDA-8488-9113057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9DC4E-9ECF-4924-A962-36E3C0BF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B80BE-73AD-4558-9135-099F553E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735AD-4B74-4C9F-A840-4C7AA75F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1CC8C-A05C-429B-8C7F-85BD5874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884C-5283-4C35-88BE-4D08AFE65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E203-270C-46F9-B297-CD08D5C19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F970-5DAB-440E-AECE-1FB11C780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9F50-3F4E-4D47-944D-E174885E4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76C6-94C2-4223-B3CC-63B293550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04E8-4EFE-4764-8477-F6661FEA1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7CC4-A2D8-4756-9301-564E940E3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<Relationship Id="rId24" Type="http://schemas.openxmlformats.org/officeDocument/2006/relationships/slideLayout" Target="../slideLayouts/slideLayout2.xml"/><Relationship Id="rId25" Type="http://schemas.openxmlformats.org/officeDocument/2006/relationships/slideLayout" Target="../slideLayouts/slideLayout3.xml"/><Relationship Id="rId26" Type="http://schemas.openxmlformats.org/officeDocument/2006/relationships/slideLayout" Target="../slideLayouts/slideLayout4.xml"/><Relationship Id="rId27" Type="http://schemas.openxmlformats.org/officeDocument/2006/relationships/slideLayout" Target="../slideLayouts/slideLayout5.xml"/><Relationship Id="rId28" Type="http://schemas.openxmlformats.org/officeDocument/2006/relationships/slideLayout" Target="../slideLayouts/slideLayout6.xml"/><Relationship Id="rId29" Type="http://schemas.openxmlformats.org/officeDocument/2006/relationships/slideLayout" Target="../slideLayouts/slideLayout7.xml"/><Relationship Id="rId30" Type="http://schemas.openxmlformats.org/officeDocument/2006/relationships/slideLayout" Target="../slideLayouts/slideLayout8.xml"/><Relationship Id="rId31" Type="http://schemas.openxmlformats.org/officeDocument/2006/relationships/slideLayout" Target="../slideLayouts/slideLayout9.xml"/><Relationship Id="rId32" Type="http://schemas.openxmlformats.org/officeDocument/2006/relationships/slideLayout" Target="../slideLayouts/slideLayout10.xml"/><Relationship Id="rId33" Type="http://schemas.openxmlformats.org/officeDocument/2006/relationships/slideLayout" Target="../slideLayouts/slideLayout11.xml"/><Relationship Id="rId3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CA50-0CEA-443D-A161-F88AEBFF7C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4920" y="952560"/>
            <a:ext cx="1116000" cy="863280"/>
            <a:chOff x="34920" y="952560"/>
            <a:chExt cx="1116000" cy="86328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34920" y="112536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374040" y="95256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616680" y="112536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"/>
          <p:cNvGrpSpPr/>
          <p:nvPr/>
        </p:nvGrpSpPr>
        <p:grpSpPr>
          <a:xfrm>
            <a:off x="34920" y="1889280"/>
            <a:ext cx="1116000" cy="863280"/>
            <a:chOff x="34920" y="1889280"/>
            <a:chExt cx="1116000" cy="86328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34920" y="2062080"/>
              <a:ext cx="52596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374040" y="188928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rcRect l="3110" t="0" r="7992" b="309"/>
            <a:stretch/>
          </p:blipFill>
          <p:spPr>
            <a:xfrm>
              <a:off x="616680" y="206208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34920" y="44280"/>
            <a:ext cx="1116000" cy="863280"/>
            <a:chOff x="34920" y="44280"/>
            <a:chExt cx="1116000" cy="863280"/>
          </a:xfrm>
        </p:grpSpPr>
        <p:pic>
          <p:nvPicPr>
            <p:cNvPr id="12" name="" descr=""/>
            <p:cNvPicPr/>
            <p:nvPr/>
          </p:nvPicPr>
          <p:blipFill>
            <a:blip r:embed="rId8"/>
            <a:stretch/>
          </p:blipFill>
          <p:spPr>
            <a:xfrm>
              <a:off x="34920" y="21708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9"/>
            <a:stretch/>
          </p:blipFill>
          <p:spPr>
            <a:xfrm>
              <a:off x="374040" y="4428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10"/>
            <a:srcRect l="3110" t="0" r="7992" b="309"/>
            <a:stretch/>
          </p:blipFill>
          <p:spPr>
            <a:xfrm>
              <a:off x="616680" y="21708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" name=""/>
          <p:cNvGrpSpPr/>
          <p:nvPr/>
        </p:nvGrpSpPr>
        <p:grpSpPr>
          <a:xfrm>
            <a:off x="34920" y="2825640"/>
            <a:ext cx="1116000" cy="863280"/>
            <a:chOff x="34920" y="2825640"/>
            <a:chExt cx="1116000" cy="863280"/>
          </a:xfrm>
        </p:grpSpPr>
        <p:pic>
          <p:nvPicPr>
            <p:cNvPr id="16" name="" descr=""/>
            <p:cNvPicPr/>
            <p:nvPr/>
          </p:nvPicPr>
          <p:blipFill>
            <a:blip r:embed="rId11"/>
            <a:stretch/>
          </p:blipFill>
          <p:spPr>
            <a:xfrm>
              <a:off x="34920" y="299844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" descr=""/>
            <p:cNvPicPr/>
            <p:nvPr/>
          </p:nvPicPr>
          <p:blipFill>
            <a:blip r:embed="rId12"/>
            <a:stretch/>
          </p:blipFill>
          <p:spPr>
            <a:xfrm>
              <a:off x="374040" y="282564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" name="" descr=""/>
            <p:cNvPicPr/>
            <p:nvPr/>
          </p:nvPicPr>
          <p:blipFill>
            <a:blip r:embed="rId13"/>
            <a:srcRect l="3110" t="0" r="7992" b="309"/>
            <a:stretch/>
          </p:blipFill>
          <p:spPr>
            <a:xfrm>
              <a:off x="616680" y="299844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" name=""/>
          <p:cNvGrpSpPr/>
          <p:nvPr/>
        </p:nvGrpSpPr>
        <p:grpSpPr>
          <a:xfrm>
            <a:off x="34920" y="4697280"/>
            <a:ext cx="1116000" cy="863280"/>
            <a:chOff x="34920" y="4697280"/>
            <a:chExt cx="1116000" cy="863280"/>
          </a:xfrm>
        </p:grpSpPr>
        <p:pic>
          <p:nvPicPr>
            <p:cNvPr id="20" name="" descr=""/>
            <p:cNvPicPr/>
            <p:nvPr/>
          </p:nvPicPr>
          <p:blipFill>
            <a:blip r:embed="rId14"/>
            <a:stretch/>
          </p:blipFill>
          <p:spPr>
            <a:xfrm>
              <a:off x="34920" y="487008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15"/>
            <a:stretch/>
          </p:blipFill>
          <p:spPr>
            <a:xfrm>
              <a:off x="374040" y="469728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16"/>
            <a:srcRect l="3110" t="0" r="7992" b="309"/>
            <a:stretch/>
          </p:blipFill>
          <p:spPr>
            <a:xfrm>
              <a:off x="616680" y="487008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" name=""/>
          <p:cNvGrpSpPr/>
          <p:nvPr/>
        </p:nvGrpSpPr>
        <p:grpSpPr>
          <a:xfrm>
            <a:off x="34920" y="3760920"/>
            <a:ext cx="1116000" cy="863280"/>
            <a:chOff x="34920" y="3760920"/>
            <a:chExt cx="1116000" cy="863280"/>
          </a:xfrm>
        </p:grpSpPr>
        <p:pic>
          <p:nvPicPr>
            <p:cNvPr id="24" name="" descr=""/>
            <p:cNvPicPr/>
            <p:nvPr/>
          </p:nvPicPr>
          <p:blipFill>
            <a:blip r:embed="rId17"/>
            <a:stretch/>
          </p:blipFill>
          <p:spPr>
            <a:xfrm>
              <a:off x="34920" y="393372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" name="" descr=""/>
            <p:cNvPicPr/>
            <p:nvPr/>
          </p:nvPicPr>
          <p:blipFill>
            <a:blip r:embed="rId18"/>
            <a:stretch/>
          </p:blipFill>
          <p:spPr>
            <a:xfrm>
              <a:off x="374040" y="376092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" descr=""/>
            <p:cNvPicPr/>
            <p:nvPr/>
          </p:nvPicPr>
          <p:blipFill>
            <a:blip r:embed="rId19"/>
            <a:srcRect l="3110" t="0" r="7992" b="309"/>
            <a:stretch/>
          </p:blipFill>
          <p:spPr>
            <a:xfrm>
              <a:off x="616680" y="393372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" name=""/>
          <p:cNvGrpSpPr/>
          <p:nvPr/>
        </p:nvGrpSpPr>
        <p:grpSpPr>
          <a:xfrm>
            <a:off x="34920" y="5560920"/>
            <a:ext cx="1116000" cy="863280"/>
            <a:chOff x="34920" y="5560920"/>
            <a:chExt cx="1116000" cy="863280"/>
          </a:xfrm>
        </p:grpSpPr>
        <p:pic>
          <p:nvPicPr>
            <p:cNvPr id="28" name="" descr=""/>
            <p:cNvPicPr/>
            <p:nvPr/>
          </p:nvPicPr>
          <p:blipFill>
            <a:blip r:embed="rId20"/>
            <a:stretch/>
          </p:blipFill>
          <p:spPr>
            <a:xfrm>
              <a:off x="34920" y="5733720"/>
              <a:ext cx="525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" descr=""/>
            <p:cNvPicPr/>
            <p:nvPr/>
          </p:nvPicPr>
          <p:blipFill>
            <a:blip r:embed="rId21"/>
            <a:stretch/>
          </p:blipFill>
          <p:spPr>
            <a:xfrm>
              <a:off x="374040" y="5560920"/>
              <a:ext cx="474840" cy="6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" descr=""/>
            <p:cNvPicPr/>
            <p:nvPr/>
          </p:nvPicPr>
          <p:blipFill>
            <a:blip r:embed="rId22"/>
            <a:srcRect l="3110" t="0" r="7992" b="309"/>
            <a:stretch/>
          </p:blipFill>
          <p:spPr>
            <a:xfrm>
              <a:off x="616680" y="5733720"/>
              <a:ext cx="53424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" name=""/>
          <p:cNvGrpSpPr/>
          <p:nvPr/>
        </p:nvGrpSpPr>
        <p:grpSpPr>
          <a:xfrm>
            <a:off x="214200" y="6066000"/>
            <a:ext cx="863640" cy="764640"/>
            <a:chOff x="214200" y="6066000"/>
            <a:chExt cx="863640" cy="764640"/>
          </a:xfrm>
        </p:grpSpPr>
        <p:sp>
          <p:nvSpPr>
            <p:cNvPr id="32" name=""/>
            <p:cNvSpPr/>
            <p:nvPr/>
          </p:nvSpPr>
          <p:spPr>
            <a:xfrm>
              <a:off x="214200" y="6678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63040" y="6308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255600" y="6066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65560" y="6319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flipV="1">
              <a:off x="255960" y="6077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" name=""/>
          <p:cNvSpPr/>
          <p:nvPr/>
        </p:nvSpPr>
        <p:spPr>
          <a:xfrm>
            <a:off x="1222200" y="4428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258920" y="1557360"/>
            <a:ext cx="788508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3"/>
    <p:sldLayoutId id="2147483650" r:id="rId24"/>
    <p:sldLayoutId id="2147483651" r:id="rId25"/>
    <p:sldLayoutId id="2147483652" r:id="rId26"/>
    <p:sldLayoutId id="2147483653" r:id="rId27"/>
    <p:sldLayoutId id="2147483654" r:id="rId28"/>
    <p:sldLayoutId id="2147483655" r:id="rId29"/>
    <p:sldLayoutId id="2147483656" r:id="rId30"/>
    <p:sldLayoutId id="2147483657" r:id="rId31"/>
    <p:sldLayoutId id="2147483658" r:id="rId32"/>
    <p:sldLayoutId id="2147483659" r:id="rId33"/>
    <p:sldLayoutId id="2147483660" r:id="rId3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AAFA-14B0-446C-9028-179A1E46806D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1546200"/>
            <a:ext cx="1753920" cy="1522440"/>
            <a:chOff x="0" y="1546200"/>
            <a:chExt cx="1753920" cy="15224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185112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533160" y="154620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rcRect l="3110" t="0" r="7992" b="309"/>
            <a:stretch/>
          </p:blipFill>
          <p:spPr>
            <a:xfrm>
              <a:off x="914400" y="185112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0" y="3068640"/>
            <a:ext cx="1753920" cy="1522440"/>
            <a:chOff x="0" y="3068640"/>
            <a:chExt cx="1753920" cy="1522440"/>
          </a:xfrm>
        </p:grpSpPr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0" y="337356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533160" y="306864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rcRect l="3110" t="0" r="7992" b="309"/>
            <a:stretch/>
          </p:blipFill>
          <p:spPr>
            <a:xfrm>
              <a:off x="914400" y="337356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0" y="0"/>
            <a:ext cx="1753920" cy="1522440"/>
            <a:chOff x="0" y="0"/>
            <a:chExt cx="1753920" cy="1522440"/>
          </a:xfrm>
        </p:grpSpPr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0" y="30492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tretch/>
          </p:blipFill>
          <p:spPr>
            <a:xfrm>
              <a:off x="533160" y="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0"/>
            <a:srcRect l="3110" t="0" r="7992" b="309"/>
            <a:stretch/>
          </p:blipFill>
          <p:spPr>
            <a:xfrm>
              <a:off x="914400" y="30492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6165360"/>
            <a:ext cx="865080" cy="692640"/>
            <a:chOff x="468360" y="6165360"/>
            <a:chExt cx="865080" cy="692640"/>
          </a:xfrm>
        </p:grpSpPr>
        <p:sp>
          <p:nvSpPr>
            <p:cNvPr id="93" name=""/>
            <p:cNvSpPr/>
            <p:nvPr/>
          </p:nvSpPr>
          <p:spPr>
            <a:xfrm>
              <a:off x="468360" y="671976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7560" y="638496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10120" y="616500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0440" y="639540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10480" y="617580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4581360"/>
            <a:ext cx="1753920" cy="1522440"/>
            <a:chOff x="0" y="4581360"/>
            <a:chExt cx="1753920" cy="1522440"/>
          </a:xfrm>
        </p:grpSpPr>
        <p:pic>
          <p:nvPicPr>
            <p:cNvPr id="99" name="" descr=""/>
            <p:cNvPicPr/>
            <p:nvPr/>
          </p:nvPicPr>
          <p:blipFill>
            <a:blip r:embed="rId11"/>
            <a:stretch/>
          </p:blipFill>
          <p:spPr>
            <a:xfrm>
              <a:off x="0" y="4886280"/>
              <a:ext cx="82692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2"/>
            <a:stretch/>
          </p:blipFill>
          <p:spPr>
            <a:xfrm>
              <a:off x="533160" y="4581360"/>
              <a:ext cx="74628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3"/>
            <a:srcRect l="3110" t="0" r="7992" b="309"/>
            <a:stretch/>
          </p:blipFill>
          <p:spPr>
            <a:xfrm>
              <a:off x="914400" y="4886280"/>
              <a:ext cx="839520" cy="12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1908000" y="3213000"/>
            <a:ext cx="7236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96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Software (Parte 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15880" y="2041560"/>
            <a:ext cx="746784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ftware Li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s que mantém 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 ainda assim permi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vre distribuição (cóp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cesso ao código-font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ireito de alterar 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9920" y="549360"/>
            <a:ext cx="7696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0A2E-0815-4424-BC62-9906693A2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07960" y="1752480"/>
          <a:ext cx="7315200" cy="4326120"/>
        </p:xfrm>
        <a:graphic>
          <a:graphicData uri="http://schemas.openxmlformats.org/drawingml/2006/table">
            <a:tbl>
              <a:tblPr/>
              <a:tblGrid>
                <a:gridCol w="2827440"/>
                <a:gridCol w="1279440"/>
                <a:gridCol w="1101960"/>
                <a:gridCol w="1096920"/>
                <a:gridCol w="100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alidad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wa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wa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vr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. Públic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00b5b"/>
                      </a:solidFill>
                    </a:lnL>
                    <a:lnR w="5760">
                      <a:solidFill>
                        <a:srgbClr val="200b5b"/>
                      </a:solidFill>
                    </a:lnR>
                    <a:lnT w="5760">
                      <a:solidFill>
                        <a:srgbClr val="200b5b"/>
                      </a:solidFill>
                    </a:lnT>
                    <a:lnB w="5760">
                      <a:solidFill>
                        <a:srgbClr val="200b5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332000" y="6172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.R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Copyright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.F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Código fonte disponível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programa pode ser distribuído livremente,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Al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= programa pode ser alterad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07960" y="488880"/>
            <a:ext cx="7696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6B4D-F3A8-4BC1-A4BB-7B941047AF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23520" y="184428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ftware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har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re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5. Demo ou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7. Domíni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8. Software Li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4287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– Modalidades (Adiciona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DDFA-CA0F-4D14-9335-1A988D970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12640" y="173664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oftware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são revelados detalhes de funcionamento, não se pode copiá-los para outros usuários e alterações (muito difíceis, dada a forma binária) s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rminantemente proibi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istribuídos na sua maioria somente na forma binária (executáveis) com direitos específicos (um ou alguns usuários, um ou alguns computadores, CPUs etc.) e quase sempre com um preço assoc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13000" y="5493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C942-2DC6-4B6E-8D18-FE2F23AC4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447920" y="1700280"/>
            <a:ext cx="7162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har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stumam ser distribuídos na forma binária e ter características semelhantes aos comerciais,  mas com uma diferença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dem ser distribuídas cópias para outras pessoas experimentarem o progra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 se gostarem registrarem-se com o autor, pagando uma certa tax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512640"/>
            <a:ext cx="7696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B410-8C9D-4540-AD74-772AE80968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447920" y="19159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re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os programas gratuitos, exatamente como 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hare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mas não exigem registro e não têm taxa de  uso.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 é permitida sua alte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347760"/>
            <a:ext cx="76960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C368-2728-4F04-AB07-9FAB0AD5E6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12640" y="196992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rsões ainda em desenvolv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Muitas vezes com aspect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ee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utras vez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hare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cede a versão oficial. Ex.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m a versão 0.x ou RC1, RC2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C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lease Candida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geralmente as últimas versões antes do lançamento oficial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3000" y="477720"/>
            <a:ext cx="7696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F5AF-E0EA-4A0F-8143-A6DC491C8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39560" y="1936800"/>
            <a:ext cx="7543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mo ou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versões Demo são basicamente relacionadas a jogos. Apenas alguns níve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rial funciona quase da mesma maneira, se aplica a programas, mas com uma pequena diferença: algumas não salvam nem exportam os trabalhos re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9920" y="520560"/>
            <a:ext cx="7696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0883-E374-4343-B43F-B91D646E46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12640" y="1744560"/>
            <a:ext cx="7543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programas suportados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ssim com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gratuitos enquanto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iver rodando no programa, mas há a possibilidade de adquirir um registro e retirar o sistem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ter todas as vantagens de ser um usuário cadastrado, assim como acontece com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harew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13000" y="404640"/>
            <a:ext cx="769608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861B-2BC1-4E48-9308-88734FDE12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402920" y="1860120"/>
            <a:ext cx="7543800" cy="42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íni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utor abre mão dos direitos, perdendo inclusive o direito de cópia - 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m todos os casos, o código fonte acompanha o progr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grama pode ser embutido em outro programa e v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20560"/>
            <a:ext cx="769644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- Modalid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22C5-B0A2-4A5F-A775-956AFA47F7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USE</cp:lastModifiedBy>
  <dcterms:modified xsi:type="dcterms:W3CDTF">2007-09-24T02:02:11Z</dcterms:modified>
  <cp:revision>375</cp:revision>
  <dc:subject/>
  <dc:title>Introdução à Computação</dc:title>
</cp:coreProperties>
</file>