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CD5A-B49B-443D-BC33-BC7060464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EF6B-7B2B-4C01-A9FB-C49BD07C7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1347-8369-4EE1-8F19-10592DC8F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A2EB-0C1C-492E-AD37-C74B46201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E362-0AAD-4B45-A33D-7FB5045C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CC730-0427-4F56-94A8-BDAACF3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6B327-0CF0-4DFD-9433-5310ED96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CD2E2-C773-4162-919C-EF224AEC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4C8DD-5E19-4F01-9E4D-1DA859DA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6AA8-B31A-4B50-8D43-832894F3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973B8-D0C8-4005-9D5B-38446B1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7E3D-7903-4B23-8E64-F82D95838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13FE4-2A31-4E9F-BDA4-9B46FD8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C66D6-A7E9-4DA6-9325-728C6B3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FF074-E1CD-4359-A3E7-0B9ADF2F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544D5-6904-4FA9-AE58-6356E494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A77FD-2637-4105-8D15-CBCC21E5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EF9A-542C-4AF2-8393-F82AB16C1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584F-B55D-4BB6-9B05-946F2A55C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DE7B-CDB1-401B-95F8-88698C5A8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8FCE-758D-4112-BA68-D84432559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2571-A90B-4E9A-AE9F-FC4397D46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52E1-1798-47C0-8CA9-ABEBCF979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4286-6FD0-42BD-BDD6-EFD563D0C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slideLayout" Target="../slideLayouts/slideLayout2.xml"/><Relationship Id="rId25" Type="http://schemas.openxmlformats.org/officeDocument/2006/relationships/slideLayout" Target="../slideLayouts/slideLayout3.xml"/><Relationship Id="rId26" Type="http://schemas.openxmlformats.org/officeDocument/2006/relationships/slideLayout" Target="../slideLayouts/slideLayout4.xml"/><Relationship Id="rId27" Type="http://schemas.openxmlformats.org/officeDocument/2006/relationships/slideLayout" Target="../slideLayouts/slideLayout5.xml"/><Relationship Id="rId28" Type="http://schemas.openxmlformats.org/officeDocument/2006/relationships/slideLayout" Target="../slideLayouts/slideLayout6.xml"/><Relationship Id="rId29" Type="http://schemas.openxmlformats.org/officeDocument/2006/relationships/slideLayout" Target="../slideLayouts/slideLayout7.xml"/><Relationship Id="rId30" Type="http://schemas.openxmlformats.org/officeDocument/2006/relationships/slideLayout" Target="../slideLayouts/slideLayout8.xml"/><Relationship Id="rId31" Type="http://schemas.openxmlformats.org/officeDocument/2006/relationships/slideLayout" Target="../slideLayouts/slideLayout9.xml"/><Relationship Id="rId32" Type="http://schemas.openxmlformats.org/officeDocument/2006/relationships/slideLayout" Target="../slideLayouts/slideLayout10.xml"/><Relationship Id="rId33" Type="http://schemas.openxmlformats.org/officeDocument/2006/relationships/slideLayout" Target="../slideLayouts/slideLayout11.xml"/><Relationship Id="rId3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B8A4-DCAD-4E7A-922F-091F2AA75C3E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4920" y="934920"/>
            <a:ext cx="1116000" cy="863280"/>
            <a:chOff x="34920" y="934920"/>
            <a:chExt cx="1116000" cy="86328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34920" y="110772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374040" y="93492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616680" y="110772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34920" y="1871640"/>
            <a:ext cx="1116000" cy="863280"/>
            <a:chOff x="34920" y="1871640"/>
            <a:chExt cx="1116000" cy="8632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34920" y="204444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374040" y="187164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616680" y="204444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34920" y="27000"/>
            <a:ext cx="1116000" cy="863280"/>
            <a:chOff x="34920" y="27000"/>
            <a:chExt cx="1116000" cy="863280"/>
          </a:xfrm>
        </p:grpSpPr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34920" y="19980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374040" y="2700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616680" y="19980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"/>
          <p:cNvGrpSpPr/>
          <p:nvPr/>
        </p:nvGrpSpPr>
        <p:grpSpPr>
          <a:xfrm>
            <a:off x="34920" y="2808360"/>
            <a:ext cx="1116000" cy="863280"/>
            <a:chOff x="34920" y="2808360"/>
            <a:chExt cx="1116000" cy="863280"/>
          </a:xfrm>
        </p:grpSpPr>
        <p:pic>
          <p:nvPicPr>
            <p:cNvPr id="16" name="" descr=""/>
            <p:cNvPicPr/>
            <p:nvPr/>
          </p:nvPicPr>
          <p:blipFill>
            <a:blip r:embed="rId11"/>
            <a:stretch/>
          </p:blipFill>
          <p:spPr>
            <a:xfrm>
              <a:off x="34920" y="298116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" descr=""/>
            <p:cNvPicPr/>
            <p:nvPr/>
          </p:nvPicPr>
          <p:blipFill>
            <a:blip r:embed="rId12"/>
            <a:stretch/>
          </p:blipFill>
          <p:spPr>
            <a:xfrm>
              <a:off x="374040" y="280836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616680" y="298116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" name=""/>
          <p:cNvGrpSpPr/>
          <p:nvPr/>
        </p:nvGrpSpPr>
        <p:grpSpPr>
          <a:xfrm>
            <a:off x="34920" y="4680000"/>
            <a:ext cx="1116000" cy="863280"/>
            <a:chOff x="34920" y="4680000"/>
            <a:chExt cx="1116000" cy="863280"/>
          </a:xfrm>
        </p:grpSpPr>
        <p:pic>
          <p:nvPicPr>
            <p:cNvPr id="20" name="" descr=""/>
            <p:cNvPicPr/>
            <p:nvPr/>
          </p:nvPicPr>
          <p:blipFill>
            <a:blip r:embed="rId14"/>
            <a:stretch/>
          </p:blipFill>
          <p:spPr>
            <a:xfrm>
              <a:off x="34920" y="485280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5"/>
            <a:stretch/>
          </p:blipFill>
          <p:spPr>
            <a:xfrm>
              <a:off x="374040" y="468000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16"/>
            <a:srcRect l="3110" t="0" r="7992" b="309"/>
            <a:stretch/>
          </p:blipFill>
          <p:spPr>
            <a:xfrm>
              <a:off x="616680" y="485280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"/>
          <p:cNvGrpSpPr/>
          <p:nvPr/>
        </p:nvGrpSpPr>
        <p:grpSpPr>
          <a:xfrm>
            <a:off x="34920" y="3743280"/>
            <a:ext cx="1116000" cy="863280"/>
            <a:chOff x="34920" y="3743280"/>
            <a:chExt cx="1116000" cy="863280"/>
          </a:xfrm>
        </p:grpSpPr>
        <p:pic>
          <p:nvPicPr>
            <p:cNvPr id="24" name="" descr=""/>
            <p:cNvPicPr/>
            <p:nvPr/>
          </p:nvPicPr>
          <p:blipFill>
            <a:blip r:embed="rId17"/>
            <a:stretch/>
          </p:blipFill>
          <p:spPr>
            <a:xfrm>
              <a:off x="34920" y="391608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" descr=""/>
            <p:cNvPicPr/>
            <p:nvPr/>
          </p:nvPicPr>
          <p:blipFill>
            <a:blip r:embed="rId18"/>
            <a:stretch/>
          </p:blipFill>
          <p:spPr>
            <a:xfrm>
              <a:off x="374040" y="3743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" descr=""/>
            <p:cNvPicPr/>
            <p:nvPr/>
          </p:nvPicPr>
          <p:blipFill>
            <a:blip r:embed="rId19"/>
            <a:srcRect l="3110" t="0" r="7992" b="309"/>
            <a:stretch/>
          </p:blipFill>
          <p:spPr>
            <a:xfrm>
              <a:off x="616680" y="3916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" name=""/>
          <p:cNvGrpSpPr/>
          <p:nvPr/>
        </p:nvGrpSpPr>
        <p:grpSpPr>
          <a:xfrm>
            <a:off x="34920" y="5543640"/>
            <a:ext cx="1116000" cy="863280"/>
            <a:chOff x="34920" y="5543640"/>
            <a:chExt cx="1116000" cy="863280"/>
          </a:xfrm>
        </p:grpSpPr>
        <p:pic>
          <p:nvPicPr>
            <p:cNvPr id="28" name="" descr=""/>
            <p:cNvPicPr/>
            <p:nvPr/>
          </p:nvPicPr>
          <p:blipFill>
            <a:blip r:embed="rId20"/>
            <a:stretch/>
          </p:blipFill>
          <p:spPr>
            <a:xfrm>
              <a:off x="34920" y="571644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" descr=""/>
            <p:cNvPicPr/>
            <p:nvPr/>
          </p:nvPicPr>
          <p:blipFill>
            <a:blip r:embed="rId21"/>
            <a:stretch/>
          </p:blipFill>
          <p:spPr>
            <a:xfrm>
              <a:off x="374040" y="554364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" descr=""/>
            <p:cNvPicPr/>
            <p:nvPr/>
          </p:nvPicPr>
          <p:blipFill>
            <a:blip r:embed="rId22"/>
            <a:srcRect l="3110" t="0" r="7992" b="309"/>
            <a:stretch/>
          </p:blipFill>
          <p:spPr>
            <a:xfrm>
              <a:off x="616680" y="571644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" name=""/>
          <p:cNvGrpSpPr/>
          <p:nvPr/>
        </p:nvGrpSpPr>
        <p:grpSpPr>
          <a:xfrm>
            <a:off x="214200" y="6048360"/>
            <a:ext cx="863640" cy="765000"/>
            <a:chOff x="214200" y="6048360"/>
            <a:chExt cx="863640" cy="765000"/>
          </a:xfrm>
        </p:grpSpPr>
        <p:sp>
          <p:nvSpPr>
            <p:cNvPr id="32" name=""/>
            <p:cNvSpPr/>
            <p:nvPr/>
          </p:nvSpPr>
          <p:spPr>
            <a:xfrm>
              <a:off x="214200" y="666072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3040" y="6290640"/>
              <a:ext cx="47160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255600" y="604836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65560" y="6302520"/>
              <a:ext cx="47124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255960" y="6058800"/>
              <a:ext cx="472680" cy="3366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1222200" y="2700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258920" y="1557360"/>
            <a:ext cx="788508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3"/>
    <p:sldLayoutId id="2147483650" r:id="rId24"/>
    <p:sldLayoutId id="2147483651" r:id="rId25"/>
    <p:sldLayoutId id="2147483652" r:id="rId26"/>
    <p:sldLayoutId id="2147483653" r:id="rId27"/>
    <p:sldLayoutId id="2147483654" r:id="rId28"/>
    <p:sldLayoutId id="2147483655" r:id="rId29"/>
    <p:sldLayoutId id="2147483656" r:id="rId30"/>
    <p:sldLayoutId id="2147483657" r:id="rId31"/>
    <p:sldLayoutId id="2147483658" r:id="rId32"/>
    <p:sldLayoutId id="2147483659" r:id="rId33"/>
    <p:sldLayoutId id="2147483660" r:id="rId3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928-D652-48A5-86C7-DA72E2653552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1546200"/>
            <a:ext cx="1753920" cy="1522440"/>
            <a:chOff x="0" y="1546200"/>
            <a:chExt cx="1753920" cy="15224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18511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533160" y="154620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914400" y="18511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0" y="3068640"/>
            <a:ext cx="1753920" cy="1522440"/>
            <a:chOff x="0" y="3068640"/>
            <a:chExt cx="1753920" cy="1522440"/>
          </a:xfrm>
        </p:grpSpPr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0" y="337356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533160" y="306864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914400" y="337356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0" y="0"/>
            <a:ext cx="1753920" cy="1522440"/>
            <a:chOff x="0" y="0"/>
            <a:chExt cx="1753920" cy="1522440"/>
          </a:xfrm>
        </p:grpSpPr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0" y="3049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533160" y="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914400" y="3049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6165360"/>
            <a:ext cx="865080" cy="692640"/>
            <a:chOff x="468360" y="6165360"/>
            <a:chExt cx="865080" cy="692640"/>
          </a:xfrm>
        </p:grpSpPr>
        <p:sp>
          <p:nvSpPr>
            <p:cNvPr id="93" name=""/>
            <p:cNvSpPr/>
            <p:nvPr/>
          </p:nvSpPr>
          <p:spPr>
            <a:xfrm>
              <a:off x="468360" y="671976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7560" y="638496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10120" y="616500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0440" y="639540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10480" y="617580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4581360"/>
            <a:ext cx="1753920" cy="1522440"/>
            <a:chOff x="0" y="4581360"/>
            <a:chExt cx="1753920" cy="1522440"/>
          </a:xfrm>
        </p:grpSpPr>
        <p:pic>
          <p:nvPicPr>
            <p:cNvPr id="99" name="" descr=""/>
            <p:cNvPicPr/>
            <p:nvPr/>
          </p:nvPicPr>
          <p:blipFill>
            <a:blip r:embed="rId11"/>
            <a:stretch/>
          </p:blipFill>
          <p:spPr>
            <a:xfrm>
              <a:off x="0" y="488628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533160" y="458136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914400" y="488628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908000" y="3213000"/>
            <a:ext cx="7236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Software (Parte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15880" y="173952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atuais avanços em pesquisa e o projeto de novas tecnologias para os computadores possibilitam o surgimento d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inta ger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 Dois avanços que configuram um divisor de águas são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cessamento paralel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que quebrou o paradigma de von Neumann, e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 dos supercondut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Computação – Ev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9920" y="47628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Considerações Fi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872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92400" y="6019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87680" y="5257800"/>
            <a:ext cx="685800" cy="762120"/>
          </a:xfrm>
          <a:prstGeom prst="upDownArrow">
            <a:avLst>
              <a:gd name="adj1" fmla="val 50000"/>
              <a:gd name="adj2" fmla="val 22123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D449-B36E-4261-B864-25B990618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07600" y="173628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s utilitários são programas que preenchem a lacuna entre a funcionalidade de um sistema operacional e as necessidades dos usu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a muitos usuários, um computador com um sistema operacional e aplicações apenas básicas é inconveniente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ogramas utilitários introduzem ao sistema operacional funcionalidade que ele não poss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dministram 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necem ao usuário ferramentas para organizar os discos, verificar disponibilidade de memória, corrigir falhas de process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orton Ut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84280" y="5493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Utilitár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5F15-A3A8-4758-9372-E3A031964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88960" y="188604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comuns de utilit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desfragmentação de arquivo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peed Disk, Compress, Defra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tários antivírus (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rton, McAfe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ctadores de arquivos ou discos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KZIP, ARJ, Stacker, Double Sp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para gerenciamento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.:PC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oo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13000" y="54612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Utilitár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2650-1FCE-4495-939E-7810F8648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7960" y="217440"/>
            <a:ext cx="74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711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junto de procedimentos humanos que, baseados no computador, têm por objetivo realizar determinada tare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licativ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junto de programas de computador desenvolvidos para realizar, em combinação com a atividade humana, tarefas ou processos específicos, relacionados com o processamento de in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etuam tarefas que sirvam diretamente ao usuá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ritos através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guagens de Progra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04A8-A630-4BF2-AC5D-FBCDFFDF9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66560" y="1825560"/>
            <a:ext cx="766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acordo com as tarefas que execut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faturamento, contas a pagar, folha de pagamento, controle de estoque, controle da produção, contabilidade e 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-Cient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álculo de estruturas, simulação, planejamento e controle de projetos, pesquisa operacional, problemas de engenharia, desenvolvimento de projetos, CAD e outros relacionados com atividades científicas ou de engenh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maçã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processos, telemetria, controle de fabricação, CAM e outros relacionados com atividades industr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71600" y="225360"/>
            <a:ext cx="759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4F67-3005-47EB-8CC5-5B909D2D89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44240" y="17730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acordo com as tarefas que executam (cont...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mação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 de passagens, contas correntes, pontos de venda e outros relacionados com atividades comerc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oio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stência à instrução, ensino auxiliado pelo computador e outras atividades relacionadas ao ens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iais e Cient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processamento, comunicações militares, pesquisas espaciais, previsões meteorológicas e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20D3-81D6-4B82-B630-802452A819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26960" y="1812960"/>
            <a:ext cx="749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rangem diversas áreas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dor (ou editor) de text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ilha eletrônic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 de apresentaçõ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 de Image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ação Eletrônic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mátic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hc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genharia e Arquitetur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AutoCAD, 3D Stu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79600" y="212400"/>
            <a:ext cx="73483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493E-0817-4380-8C5A-9A4D828587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1753920"/>
            <a:ext cx="762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s computadores (década de 1940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is níveis de linguagem de progra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uagem de máqui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no qual toda a programação era feita) 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da lógica digit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s programas eram efetivamente executad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ício da década de 195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déia de se projetar um computador co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ês níve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ara simplificar o hardware. Esta máquina tinha um programa denominado interpretador armazenado permanentemente, cuja função era executar os programas em linguagem de máquina. O hardware assim poderia ser simplificado: teria apenas que executar um pequeno conjunto de micro-instruções armazenadas, ao invés de todo o programa em linguagem de máquina, o que exigia menos circuitos eletrônicos. A partir daí começam a evoluir as linguagens e as arquiteturas das máquinas, impulsionadas, principalmente, pelo aparecimento de um novo conceito na História da Computação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 Sistemas Operacion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9920" y="5493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Considerações Fi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0659-6BD4-4BE4-AADF-F601B786A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7960" y="1825560"/>
            <a:ext cx="7467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unda ger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56 - 1963) - impulsionada pela invenção d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s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48) e em 1956 já se produziam computadores com esta tecnologia. Apareceram também os modernos dispositivos, tais como as impressoras, as fitas magnéticas, os discos para armazenamento, etc. Os computadores passaram a ter um desenvolvimento rápido, impulsionados principalmente por dois fatores essenciai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sistemas operacionais e as linguagens de program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ircuitos integrados propiciaram um novo avanço e com eles surgiram os computador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ceira ger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64 - 197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ecnologias LSI, VLSI e ULSI abrigam milhões de componentes eletrônicos em um pequeno espaço 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iciand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a ger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8564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Considerações Fi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EA05-DF63-4140-BA13-D5A95A87CD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</dc:creator>
  <dc:description/>
  <dc:language>en-US</dc:language>
  <cp:lastModifiedBy>USE</cp:lastModifiedBy>
  <dcterms:modified xsi:type="dcterms:W3CDTF">2007-09-24T02:02:49Z</dcterms:modified>
  <cp:revision>377</cp:revision>
  <dc:subject/>
  <dc:title>Introdução à Computação</dc:title>
</cp:coreProperties>
</file>