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F6F3-14DE-4A00-ACF5-A6A37C8EC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516C-8879-4B26-AAB6-A0E537462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141C-BF12-419B-8F69-53C117B5A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B948-2F5D-4C39-B5B3-341EDD1A2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E0AB-F9EE-4EAA-89B6-B3FF4F8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A0BA-5F35-4955-B0B4-D69E173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FF6A-60F2-41A4-8B9F-0CC34F9C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175B-414F-4E16-A42D-47AF7CD4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A843-AA74-4974-9181-15FD12B9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633A-ED86-44E9-9B4A-82F94B8C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55417-DE29-4E57-88F8-F31048C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DCAE-EE7B-4E47-A2CC-76C37BA8D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07D1-4439-445E-9989-6A0E59C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0914-8044-47A3-BA82-C7A45B6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951BF-E26B-4350-801B-42FFD82B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7056C-FEDA-48BD-A8F9-DB6B338E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EF3A3-D0D1-4BB8-958D-C9FC1BDA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F88D-0570-4978-B4D0-3CF9128D7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F83A-F88E-43B3-BCDF-887A54A9C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8F05-76F3-4F21-9611-FAF9F129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7161-57AE-49F7-A845-DFEED9B88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8CFF-CEF5-4A9D-A1DC-4E647CC32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2514-630C-4C45-92AF-F4AF635FC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08BE-FC2D-41E6-AF5E-C35980032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B4F8-1936-4FEE-B5AB-865B3E5E5F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5E5-B8BA-48FA-B7E9-C1F51AFF6138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0640" y="1555920"/>
            <a:ext cx="771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unicação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bits são transferidos um a um, através de um único par condutor.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serem transmitidos são serializados ("desmontados" bit a bit) e individualmente transmitidos. Na outra extremidade, os bits são contados e quando formam 8 bits, são remontados, reconstituindo 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rig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mais simples e  implementação mais bar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da para dispositivos mais lentos: mouse, teclado ou para transmissão à longa distância: mod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65400" y="4869000"/>
            <a:ext cx="5943600" cy="18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16BF-B4AA-49FF-A9F6-621BA257BC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4920" y="17125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 os bytes em uma seqüência de bits, que são transmitidos em uma única linha de comunicação (saída ser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 também uma seqüência de bits recebid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podem existir várias portas do tipo s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OS/Windows - COM1, COM2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4360" y="5157720"/>
            <a:ext cx="10288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71600" y="26496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1081-B322-4294-AD42-590A591BCE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60000" y="17082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a USB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 conexão de vários periféricos a uma única porta US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máximo de conexões: 127 ligados seqüencialmente em um único cone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a velocidade de transmiss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mpenho é, em média, dez vezes superior a uma porta serial comum, podendo também suprir a alimentação requerida pelo perifé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os periféricos ali ligados utilizarão uma única interrupção e um único endereç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04000" y="3860640"/>
            <a:ext cx="2057400" cy="8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366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CC80-5A3B-443D-8EF3-57F241910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17924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s para transmissão de caracteres através de uma linha de comunica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nsmissão S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o de tempo entre dois caracteres subseqüentes-f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ransmissão Ass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valo de tempo entre os caracteres não é fix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é conhecida com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"start-stop"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5830920"/>
            <a:ext cx="746748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eficiência de uma transmissão de dados: relação de número de bits úteis dividido pelo total de bits transmitidos. Método assíncrono: eficiência é menor que a no método síncrono (necessidade dos bits d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sto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71600" y="191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D9D5-EC46-456D-BCC5-8B20623D7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5320" y="169344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transmissã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407960" y="245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36640" y="2475000"/>
            <a:ext cx="6529320" cy="3978360"/>
            <a:chOff x="1736640" y="2475000"/>
            <a:chExt cx="6529320" cy="3978360"/>
          </a:xfrm>
        </p:grpSpPr>
        <p:graphicFrame>
          <p:nvGraphicFramePr>
            <p:cNvPr id="154" name=""/>
            <p:cNvGraphicFramePr/>
            <p:nvPr/>
          </p:nvGraphicFramePr>
          <p:xfrm>
            <a:off x="1736640" y="2475000"/>
            <a:ext cx="6529320" cy="106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2475000"/>
                      <a:ext cx="6529320" cy="106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3726000" y="2478240"/>
              <a:ext cx="2476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nsmissão sim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736640" y="3846600"/>
            <a:ext cx="6529320" cy="110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6640" y="3846600"/>
                      <a:ext cx="6529320" cy="11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3763800" y="3868920"/>
              <a:ext cx="247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ansmissão half-du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1736640" y="5370840"/>
            <a:ext cx="6529320" cy="108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36640" y="5370840"/>
                      <a:ext cx="6529320" cy="10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763800" y="5373720"/>
              <a:ext cx="247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ransmissão full-duplex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18C4-0A1E-4353-91FD-47580A20A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920" y="1916280"/>
            <a:ext cx="5113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ca interna que faz a conexão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i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xpansão onde são encaixadas placas de controle de dispositivos, tipo placa de vídeo, de som, modem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26280" y="2494080"/>
            <a:ext cx="263844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0B08-41E4-4D41-A98F-A7852C247B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331640" y="169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40796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5111640" cy="390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346040" y="6392880"/>
            <a:ext cx="478008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http://www.infowester.com/motherboard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010E-BC61-475A-9CA5-967B0000D9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29840" y="170028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local onde o processador deve ser conectado (sock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ncaixes para a memória Principal. Esse conector varia conforme o tipo (Padrão mais usado atualmente - DDR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uble Data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que também recebe a denominação de SDRAM II (termo pouco us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Slots de expansão (permitem a conexão de vários tipos de dispositivos. Placas de vídeo, placas de som, placas de redes, modems, etc, são conectados nesses encaix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1: PCI (Peripheral Component Interconn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2: AGP (Accelerated Graphics 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em C3: CNR (Communications Network Ri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o PCI Express (PCI-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lacas-mãe mais antigas apresentavam ainda o slot ISA (Industry Standard Architectu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E80C-6321-459E-8157-D93ECE362D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29840" y="162828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lug de alimentação (Existem, atualmente, dois padrões para isso: o ATX e o AT, este último saiu de linha, mas ainda é utiliz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laca-mãe sozinha consegue alimentar o processador, as memórias e a grande maioria dos dispositivos encaixados nos slots. No entanto, HD, unidades de CD e DVD, drive de disquete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ole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m receber conectores individuais de ener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nectores IDE e drive de disquete. Existe também, um tipo de HD que não segue o padrão IDE, mas sim o SATA (Serial 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BIOS e ba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em F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aponta para o chip Flash-ROM 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em F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a bateria que o alimen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avés de uma interface denomina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também presente na Flash-ROM, é possível alterar configurações de hardware, como velocidade do processador, detecção de discos rígidos, desativação de portas USB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969B-E9A1-4EC7-A4D2-FB6C2A5B59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29840" y="164736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ponta para a parte onde ficam localizadas as entradas para a conexão do mouse (tanto serial, quanto PS/2), teclado, portas USB, porta paralela, além de outros que são disponibilizados conforme o modelo da placa-mã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uros de encai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em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hips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responsável pelo controle de vários itens da placa-mãe, como acesso à memória, barramentos e ou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e Sul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outh Brid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 de dispositivos de entrada e saída, como as interfaces IDE ou SATA. Placas-mãe que possuem so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nboar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podem incluir o controle desse dispositivo também na Ponte Su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e Norte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orth Brid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 do FSB (Front Side Bus - velocidade na qual o processador se comunica com a memória e com componentes da placa-mãe), da freqüência de operação da memória, do barramento AGP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e chip realiza um trabalho "mais pesado" e, por isso, geralmente requer um dissipador de calor para não esquentar mu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D3AD-09BD-4D3D-A9DB-FFBD97BCD2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362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se comunica com o núcleo do computador (composto por UCP e memória principal) através de dispositivos de entrada e saíd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positivos de E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/O device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ifé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básicas dos dispositivos de E/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municação do usuário com o computad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municação do computador com o meio ambiente (dispositivos externos a serem monitorados ou controlad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(gravação) de d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6284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m a comunicação homem-máqui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8585-66CC-4FDD-BCC0-A52B5BE9E8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58560" y="191592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o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s-mãe "onboard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lacas-mãe que possuem um ou mais dispositivos de expansão integ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ca-mãe "offboard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m nenhum item integrado, ou no máximo, com placa de som ou rede on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46E7-2212-4615-B356-F401641FF1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129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s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paral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do mouse tipo P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 do teclado tipo PS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es 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6600" y="6237360"/>
            <a:ext cx="7032600" cy="337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http://support.dell.com/support/edocs/systems/ws340/bp/ug/back.ht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FFDA-399C-41D7-AE74-AE233A340A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1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&gt; slot da placa A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&gt; slots da placa de expansão PCI 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&gt; conectores do painel traseiro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&gt; interruptor de tensão d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&gt; adaptador d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4244" t="3105" r="18790" b="0"/>
          <a:stretch/>
        </p:blipFill>
        <p:spPr>
          <a:xfrm>
            <a:off x="5796000" y="2276640"/>
            <a:ext cx="2789280" cy="45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41D7-79A6-407F-93A6-28D46C0E2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634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ectore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&gt; conector parale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&gt;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&gt; luz de integridade da conex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&gt; adaptador de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&gt; luz de atividade do víncu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&gt;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-&gt; saída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-&gt; microf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-&gt; USB 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&gt; 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-&gt; luzes de diagnóst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-&gt; conector serial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-&gt; conector serial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407960" y="2682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13981" r="9934" b="10869"/>
          <a:stretch/>
        </p:blipFill>
        <p:spPr>
          <a:xfrm>
            <a:off x="3995640" y="4510080"/>
            <a:ext cx="446400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4AA5-312A-4434-927B-E755C30A67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5240" y="180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7150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258920" y="6048360"/>
            <a:ext cx="784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 - component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abinete, placa mãe, processador, memórias, placa de vídeo, placa de som, CD-ROM, cabos, 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4D3B-801C-4476-AC55-451ADFDB07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171288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ositivos de ENT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letar informações e introduzir as informações na máquina, converter informações do homem para a máquina  e recuperar informações dos dispositivos de armazen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teclad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scann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leitoras óticas, leitoras de cartões magnéticos, câmeras de vídeo, microfones, sensores, transdutores, etc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ositivos de SAÍ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xibir ou imprimir os resultados do processamento, ou ainda controlar dispositivos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impressoras, monitores de víde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otter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tuadores, chaves, etc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BC46-F2B7-4A1C-A9DD-636C0B180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447920" y="2209680"/>
            <a:ext cx="7086600" cy="4267080"/>
            <a:chOff x="1447920" y="2209680"/>
            <a:chExt cx="7086600" cy="4267080"/>
          </a:xfrm>
        </p:grpSpPr>
        <p:sp>
          <p:nvSpPr>
            <p:cNvPr id="112" name=""/>
            <p:cNvSpPr/>
            <p:nvPr/>
          </p:nvSpPr>
          <p:spPr>
            <a:xfrm>
              <a:off x="1447920" y="2209680"/>
              <a:ext cx="7086600" cy="4267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705720" y="266688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905120" y="441936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905120" y="312408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743200" y="23619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3429000" y="358128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5257800" y="373356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6629400" y="480060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3429000" y="4952880"/>
              <a:ext cx="825480" cy="99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447920" y="1600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Dispositivos de Entrada e Saí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419720" y="2438280"/>
            <a:ext cx="750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4648320" y="5257800"/>
            <a:ext cx="1630080" cy="10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E7A6-D633-4FB7-B69E-9259B2E015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5064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CP não se comunica diretamente com cada dispositivo de E/S e sim com 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de forma a compatibilizar as diferentes caracter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cesso de comunicação (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) é feito através de transferência de informações de controle, endereços e dados propriamente di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65400" y="4572000"/>
            <a:ext cx="5638680" cy="209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79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0D9A-F2F4-446D-A0C5-431B95F4C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5320" y="167004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faces de entrada 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ompatibilizar as diferentes características de um periférico e da UCP/MP, permitindo um fluxo correto de dados em uma velocidade adequada a ambos os elementos que estão sendo interconec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idas por diversos nomes, dependendo do fabricante: Interface de E/S = Adaptador de Periférico, Controladora de E/S, Processador de Periférico, Canal de E/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atibilização de velocidad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eita geralmente por programa, usando memória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armazenam as informações conforme vão chegando da UCP e as libera para o dispositivo à medida que este as pode rece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407960" y="2221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9D61-8C34-4DEC-8842-3F5DE8ABD0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71600" y="21013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ma forma geral, a comunicação entre o núcleo do computador e os dispositivos de E/S poderia ser classificada em doi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ção 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1600" y="196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E903-46E6-4420-A43C-C51390B363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560" y="159660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unicação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s de bits são transferidos simultaneamente (em geral, byte a byte) através de diversas linhas condutoras dos sin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xa de transferência de dados ("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) é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kew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 ser usada para curtas distâ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da para dispositivos mais rápidos ou próximos do núcleo do computador: unidades de disco, CD-ROM, DVD, impressora, sc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8280" y="4745160"/>
            <a:ext cx="5562720" cy="199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3851-F4C1-4AEF-A375-CA82222FB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94920" y="163656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 Paral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 paralela é um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comunicação entre o computador e um periférico. Ex: Impressora, Scanner, Câmeras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ém pode-se conectar dois computadores através da porta paral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computador podem existir várias portas do tipo paral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/Windows - LPT1, LPT2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59640" y="5084640"/>
            <a:ext cx="1863720" cy="1481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57600" y="5675400"/>
            <a:ext cx="2492280" cy="879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– Entrada e Sa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990F-2C05-4046-8B05-4532A5502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7-09-20T03:20:21Z</dcterms:modified>
  <cp:revision>277</cp:revision>
  <dc:subject/>
  <dc:title>Slide sem título </dc:title>
</cp:coreProperties>
</file>