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C914F-3923-4A05-B8F9-B35757E03A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01FDD-5098-4805-B613-D30DFE1D38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3A31B-0118-408B-8D57-BC6FB32B82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E8B1B-C54E-4819-AE92-B6D974CA1D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68D07B-DEE8-46B6-B08C-336DE76EC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007E0-4B92-4396-B2D7-A33A1185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88A23E-863A-43CF-A046-8C046E1D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D0FF0-3AB8-4390-870D-4C6B3C20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A27DFA-27D2-4BA6-A2C1-249A2744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371600" y="-3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BC6F4C-9B7D-4854-87B7-B4147C79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07064D-1FD6-4782-97B4-2945D9BD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6C585-00DF-4FF5-ABD7-EAEA417FCC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1A10A8-11DD-46CD-A5BB-714655DE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64DB3-253C-4A78-A7DE-A0CFCF83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B1783-511A-419F-A395-19BBBB1C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C4CB13-23EF-4C2E-9260-138E4201F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014EB-8144-4869-A86E-1AD457D23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A3A23-E563-404D-A0AC-3F0E97B223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2425D-51E4-4DE2-AFD8-94383532D4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EF4DF-0752-4234-A51C-77CF56FAFC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71600" y="-3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14C13-1D16-4AFC-B888-B942060269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E5CA0-1186-4DD6-BAB1-FB8E4CA3C9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DE577-374C-4C22-AFC7-7B3FA6E5CF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EA82B-3B7B-4BE4-9525-5B98509B5A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00000" y="1557360"/>
            <a:ext cx="8244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CA39-9F71-4C39-A37F-B30F5D4ACD9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1143000" cy="134460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3213000"/>
            <a:ext cx="1143000" cy="13446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44280" y="4724280"/>
            <a:ext cx="1143000" cy="1344600"/>
          </a:xfrm>
          <a:prstGeom prst="rect">
            <a:avLst/>
          </a:prstGeom>
          <a:ln w="0">
            <a:noFill/>
          </a:ln>
        </p:spPr>
      </p:pic>
      <p:grpSp>
        <p:nvGrpSpPr>
          <p:cNvPr id="7" name=""/>
          <p:cNvGrpSpPr/>
          <p:nvPr/>
        </p:nvGrpSpPr>
        <p:grpSpPr>
          <a:xfrm>
            <a:off x="250920" y="6093000"/>
            <a:ext cx="863640" cy="764640"/>
            <a:chOff x="250920" y="6093000"/>
            <a:chExt cx="863640" cy="764640"/>
          </a:xfrm>
        </p:grpSpPr>
        <p:sp>
          <p:nvSpPr>
            <p:cNvPr id="8" name=""/>
            <p:cNvSpPr/>
            <p:nvPr/>
          </p:nvSpPr>
          <p:spPr>
            <a:xfrm>
              <a:off x="250920" y="6705000"/>
              <a:ext cx="863640" cy="1526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9760" y="6335280"/>
              <a:ext cx="471600" cy="334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292320" y="6093000"/>
              <a:ext cx="470160" cy="336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02280" y="6346800"/>
              <a:ext cx="471240" cy="334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292680" y="6104160"/>
              <a:ext cx="472680" cy="336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3" name="" descr=""/>
          <p:cNvPicPr/>
          <p:nvPr/>
        </p:nvPicPr>
        <p:blipFill>
          <a:blip r:embed="rId5"/>
          <a:stretch/>
        </p:blipFill>
        <p:spPr>
          <a:xfrm>
            <a:off x="44280" y="257040"/>
            <a:ext cx="1143000" cy="1371600"/>
          </a:xfrm>
          <a:prstGeom prst="rect">
            <a:avLst/>
          </a:prstGeom>
          <a:ln w="0">
            <a:noFill/>
          </a:ln>
        </p:spPr>
      </p:pic>
      <p:sp>
        <p:nvSpPr>
          <p:cNvPr id="14" name=""/>
          <p:cNvSpPr/>
          <p:nvPr/>
        </p:nvSpPr>
        <p:spPr>
          <a:xfrm>
            <a:off x="1187280" y="0"/>
            <a:ext cx="0" cy="685800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43000" y="3213000"/>
            <a:ext cx="8001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F775-FA09-4B9F-808B-58502A86CECF}" type="slidenum"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1989000"/>
            <a:ext cx="1828800" cy="1981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828800" cy="1981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0" y="4005360"/>
            <a:ext cx="1828800" cy="198108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538200" y="6121080"/>
            <a:ext cx="865080" cy="692640"/>
            <a:chOff x="538200" y="6121080"/>
            <a:chExt cx="865080" cy="692640"/>
          </a:xfrm>
        </p:grpSpPr>
        <p:sp>
          <p:nvSpPr>
            <p:cNvPr id="60" name=""/>
            <p:cNvSpPr/>
            <p:nvPr/>
          </p:nvSpPr>
          <p:spPr>
            <a:xfrm>
              <a:off x="538200" y="6675480"/>
              <a:ext cx="865080" cy="1382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7400" y="6340680"/>
              <a:ext cx="472320" cy="303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579960" y="6120720"/>
              <a:ext cx="470880" cy="3042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90280" y="6351120"/>
              <a:ext cx="471960" cy="303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580320" y="6131520"/>
              <a:ext cx="473400" cy="3045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1835280" y="0"/>
            <a:ext cx="0" cy="685800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8000" y="148428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0b5b"/>
                </a:solidFill>
                <a:latin typeface="Tahoma"/>
              </a:rPr>
              <a:t>Introdução à Computa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19564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Hardware (Parte II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formações Adiciona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20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5720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373040" y="191628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mória R/W -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Read and Wri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mória de leitura e escrita, de acesso aleatório e volátil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 ser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átic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RA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ou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nâmic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RA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RA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uso de circuitos transistorizados (mantém a informação enquanto estiver energizada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RA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uso de capacitores, necessita d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refresh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Evolução: FPM DRAM, EDO DRAM, BEDO DRAM, SDRAM, RDRA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1295280" y="260280"/>
            <a:ext cx="78487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16B2C-5846-402B-A6F6-3B9D704CC5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OM -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Read Only Memor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mória apenas de leitura. Uma vez gravada não pode mais ser alterada.  De acesso aleatório, não é volátil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is lenta que a R/W e mais  barat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 ser programada por máscara ("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ask programme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- MROM) em fábrica. Devido ao alto custo da máscara somente se torna econômica em grandes quantidades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295280" y="260280"/>
            <a:ext cx="78487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6360" y="5734080"/>
            <a:ext cx="7391520" cy="10666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ROM- O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firmware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ra gravado durante a fabricação do circuito, com o auxílio de um filme fotográfico - máscara. As máscaras apresentam o inconveniente de serem caras e não permitem regravação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EC560-9A02-4AD2-862C-BA02A72E2E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371600" y="1872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OM -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Read Only Memor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tilizada geralmente para gravar programas que não se deseja permitir que o usuário possa alterar ou apagar (Ex..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I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asic Input Output Syste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icroprogramas de Memórias de Control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utros tip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PROM, EPROM,  EEPROM e Flash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19280" y="5661000"/>
            <a:ext cx="6985080" cy="9144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Boot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(ou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bootstrap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loader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- Este termo vem de uma analogia com um processo (impossível) que seria uma pessoa se levantar puxando-se pelos cordões de suas próprias botas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293840" y="272880"/>
            <a:ext cx="78487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A70EB-DAD1-4EB4-B2D4-3DDAE3EAAA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371600" y="19162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M -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Programmable Read Only Memory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mória apenas de leitura, programável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OM programável com máquinas adequadas (chamadas queimadores de PROM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eralmente é comprada "virgem" (sem nada gravado), sendo muito utilizada no processo de testar programas no lugar da ROM, ou sempre que se queira produzir ROM em quantidades pequena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vez programada (em fábrica ou não), não pode mais ser alterad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295280" y="260280"/>
            <a:ext cx="78487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6CBC7-1DAF-4DC4-B1FA-74EB2CE4AA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220760" y="198864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PROM -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Erasable Programmabl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Read Only Memo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mória apenas de leitura, programável (com queimadores de PROM) e apagável (com máquinas adequadas, à base de raios ultra-violeta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 utilização semelhante à da PROM, para testar programas no lugar da ROM, ou sempre que se queira produzir ROM em quantidades pequenas, com a vantagem de poder ser apagada e reutilizada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295280" y="260280"/>
            <a:ext cx="78487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783480" y="1913040"/>
            <a:ext cx="1828800" cy="1655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9534D-9255-4B8C-BEC2-21FA3D454F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37160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EPROM (ou E2PROM) -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Electrically Erasable Programmable Read Only Memo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mória apenas de leitura, programável e eletronicamente alterável.  Também chamada EAROM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lectrically Alterabl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ROM)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PROM apagável - processo eletrônico, sob controle da UCP (equipamento e programas adequados)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ais cara, geralmente utilizada em dispositivos aos quais se deseja permitir a alteração, via modem (carga de novas versões de programas à distância ou possibilitar a reprogramação dinâmica de funções específicas de um programa, geralmente relativas ao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hardwar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p.ex., reconfiguração de teclado, programação de terminal, etc)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295280" y="260280"/>
            <a:ext cx="78487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D08D7-902A-496B-A741-19634F1883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257480" y="170028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OM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Flas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uncionamento similar ao da EEPROM – conteúdo total ou parcial da memória pode ser apagado normalmente por um processo de escrita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apagamento não pode ser efetuado ao nível de byte como na EEPROM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termo flash foi imaginado devido à elevada velocidade de apagamento dessas memórias em comparação com as antigas EPROM e EEPROM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plicaçõ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deal para várias aplicações portáte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Câmeras digitais, palmtop, assistentes digitais portáteis, aparelhos de música digital ou telefones celulares)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331640" y="252360"/>
            <a:ext cx="78483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88BC3-CC78-422B-B56F-20190D6FD4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328400" y="195696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mória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MOS - (Complementary Metal Oxide Semiconductor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ipo especial de memória para armazenamento das opções essenciais de configuração de 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ializ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ntidade de memória instalada, data, hor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mentação via bateri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quinas Macintosh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M de parâmetro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331640" y="260280"/>
            <a:ext cx="78483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3F627-E715-4452-A78C-484ABABE7BC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332000" y="1612800"/>
            <a:ext cx="7772400" cy="51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7920" indent="-277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órias de meio magnétic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24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0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bricados de modo a armazenar informações sob a forma de campos magnético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0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do à natureza eletromecânica de seus componentes e à tecnologia de construção em comparação com memórias de semicondutores, esse tipo é mais barato, permitindo armazenamento de grande quantidade de informação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0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étodo de acesso às informações 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qüenc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0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isquetes, discos rígidos e fitas magnéticas (de carretel ou de cartucho)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95280" y="260280"/>
            <a:ext cx="78487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9434B-EBB7-4938-BDF4-F8398A91E2C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373040" y="1989000"/>
            <a:ext cx="7239240" cy="38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7920" indent="-277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órias de meio óptic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0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ositivos que utilizam um feixe de luz para “marcar” o valor (0 ou 1) de cada dado em sua superfíci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0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68360">
              <a:lnSpc>
                <a:spcPct val="100000"/>
              </a:lnSpc>
              <a:spcBef>
                <a:spcPts val="1500"/>
              </a:spcBef>
              <a:buClr>
                <a:srgbClr val="200b5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-ROM (leitura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68360">
              <a:lnSpc>
                <a:spcPct val="100000"/>
              </a:lnSpc>
              <a:spcBef>
                <a:spcPts val="1500"/>
              </a:spcBef>
              <a:buClr>
                <a:srgbClr val="200b5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-RW (leitura e escrita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95280" y="260280"/>
            <a:ext cx="78487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19D71-2E0E-4C1C-9BF4-398F1C120C0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371600" y="1844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Hierarquia de Memória - Conceitos Importan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mpo de acess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pacida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olatilida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cnologia de fabricaçã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mporarieda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ust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294920" y="260280"/>
            <a:ext cx="75978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E9B51-034B-4B55-995A-2BB6144D3E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403280" y="1773360"/>
            <a:ext cx="7162920" cy="45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7920" indent="-277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emporarieda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0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dica o conceito de tempo de permanência da informação em um dado tipo de memóri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0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lassificação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3920" indent="-385560">
              <a:lnSpc>
                <a:spcPct val="100000"/>
              </a:lnSpc>
              <a:spcBef>
                <a:spcPts val="1500"/>
              </a:spcBef>
              <a:buClr>
                <a:srgbClr val="200b5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rmazenamento “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ermanent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”.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: Discos, disquete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3920" indent="-385560">
              <a:lnSpc>
                <a:spcPct val="100000"/>
              </a:lnSpc>
              <a:spcBef>
                <a:spcPts val="1500"/>
              </a:spcBef>
              <a:buClr>
                <a:srgbClr val="200b5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rmazenament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ransitóri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temporário).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: registradores, memória cache, memória principal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95280" y="260280"/>
            <a:ext cx="78487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5EBC5-B881-448B-B1FE-9DE4ACDF2D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76360" y="1700280"/>
            <a:ext cx="71629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7920" indent="-277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st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0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tante variado em função de diversos fatore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3920" indent="-385560">
              <a:lnSpc>
                <a:spcPct val="100000"/>
              </a:lnSpc>
              <a:spcBef>
                <a:spcPts val="1500"/>
              </a:spcBef>
              <a:buClr>
                <a:srgbClr val="200b5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nologia de fabric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3920" indent="-385560">
              <a:lnSpc>
                <a:spcPct val="100000"/>
              </a:lnSpc>
              <a:spcBef>
                <a:spcPts val="1500"/>
              </a:spcBef>
              <a:buClr>
                <a:srgbClr val="200b5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clo de memóri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3920" indent="-385560">
              <a:lnSpc>
                <a:spcPct val="100000"/>
              </a:lnSpc>
              <a:spcBef>
                <a:spcPts val="1500"/>
              </a:spcBef>
              <a:buClr>
                <a:srgbClr val="200b5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idade de bits em um certo espaço físico, etc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24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0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a boa unidade de medida de custo é o preço por byte armazenado, em vez do custo total da memória em s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95280" y="260280"/>
            <a:ext cx="78487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214C8-8EAC-4B19-8CCA-DC0D0051C1C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371240" y="1916280"/>
            <a:ext cx="7521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empo de acess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dica quanto tempo a memória gasta para colocar uma informação no barramento de dados após uma determinada posição ter sido endereçada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um dos parâmetros que pode medir o desempenho da memória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nomin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tempo de acesso para leitura (ou tempo de leitura).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258920" y="260280"/>
            <a:ext cx="7594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7B642-3677-431F-BF46-EE9C1D7E16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295280" y="191628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mpo de acess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ente do modo como o sistema de memória é construído e da velocidade dos seus circuitos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órias eletrônic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-  igual, independentemente da distância física entre o local de um acesso e o local do próximo acesso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esso aleatório (direto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ositivos eletromecânic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s, fitas, .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- tempo de acesso varia conforme a distância física entre dois acessos consecutivos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esso seqüenc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295280" y="260280"/>
            <a:ext cx="78487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CD4E3-9400-4079-A9F8-9FB9005A6F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331640" y="170028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apacida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tidade de informação que pode ser armazenada em uma memória;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nidade de medida mais comu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byt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podem ser usadas outras unidades como células (no caso de memória principal ou cache),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tores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no caso de discos) 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it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no caso de registradores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pendendo do tamanho da memória, isto é, de sua capacidade, indica-se o valor numérico total de elementos de forma simplificada, através da inclusão d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kilo),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mega),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giga) ou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tera)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295280" y="260280"/>
            <a:ext cx="78487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A6C8A-4D29-4D5B-ADE9-1058C4882F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401480" y="188604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latilida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órias podem ser do tip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láti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ão voláti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ória não voláti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retém a informação armazenada quando a energia elétrica é desligada.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iscos, Fita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ória voláti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perde a informação armazenada na ausência de energia elétrica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Registradores, Memória Principal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 possível manter a energia em  uma memória originalmente não volátil - uso de baterias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295280" y="260280"/>
            <a:ext cx="78487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BE263-E40F-4E45-9A7F-9CE0BF8B4B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73040" y="1916280"/>
            <a:ext cx="7315200" cy="40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nologias de fabricaçã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emórias de semicondutores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emórias de meio magnético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emórias de meio óptico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315720"/>
            <a:ext cx="78487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C9535-D58B-4686-AA22-AB348655F3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295280" y="1646280"/>
            <a:ext cx="7315200" cy="51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7920" indent="-277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órias de semicondutor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0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ositivos fabricados com circuitos eletrônicos e baseados em semicondutores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0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ápidas e relativamente caras, se comparadas com outros tipos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0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á várias tecnologias específicas, cada uma com suas vantagens, desvantagens, velocidade, custo, etc.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0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Registradores, Memória Principal e Memória Cach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188640"/>
            <a:ext cx="78487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05BFB-1C48-4271-9EDC-1E19B916F4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371600" y="1747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ificação de Memórias Semicondutor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372680" y="2205000"/>
            <a:ext cx="7292520" cy="4591800"/>
            <a:chOff x="1372680" y="2205000"/>
            <a:chExt cx="7292520" cy="4591800"/>
          </a:xfrm>
        </p:grpSpPr>
        <p:sp>
          <p:nvSpPr>
            <p:cNvPr id="122" name=""/>
            <p:cNvSpPr/>
            <p:nvPr/>
          </p:nvSpPr>
          <p:spPr>
            <a:xfrm>
              <a:off x="1372680" y="4491000"/>
              <a:ext cx="76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M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16040" y="2966760"/>
              <a:ext cx="2721240" cy="32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L/E - Leitura/Escrita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(R/W - Read/Write)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ROM (Somente Leitura)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(Read Only Memory)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17520" y="2509560"/>
              <a:ext cx="86508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RAM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RAM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241040" y="2966760"/>
              <a:ext cx="1424160" cy="20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PM DRAM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DO DRAM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EDO RAM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DRAM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DRAM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92760" y="5176800"/>
              <a:ext cx="117144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OM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M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PROM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EPROM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33720" y="2585880"/>
              <a:ext cx="228600" cy="41148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07280 h 4114800"/>
                <a:gd name="textAreaBottom" fmla="*/ 4007520 h 411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200b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34120" y="2205000"/>
              <a:ext cx="228600" cy="22860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200b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58000" y="2890800"/>
              <a:ext cx="228600" cy="21333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55440 h 2133360"/>
                <a:gd name="textAreaBottom" fmla="*/ 2077920 h 21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200b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486400" y="5024160"/>
              <a:ext cx="228600" cy="175284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200b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295280" y="134640"/>
            <a:ext cx="78487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EF0B3-109A-4ECE-806A-43252E6FC6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</dc:creator>
  <dc:description/>
  <dc:language>en-US</dc:language>
  <cp:lastModifiedBy>USE</cp:lastModifiedBy>
  <dcterms:modified xsi:type="dcterms:W3CDTF">2007-09-20T01:59:48Z</dcterms:modified>
  <cp:revision>224</cp:revision>
  <dc:subject/>
  <dc:title>Slide sem título </dc:title>
</cp:coreProperties>
</file>