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F4C73-8579-40BF-BE1D-93AD69628B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17FB7-2793-40F4-A7AD-46D2EE7993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4C006-1132-4419-8186-2B0D5C93CE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1AE6E-25DC-4B15-9F4E-DA150027FF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9AD78B-4C1D-4929-A7FC-30EB987A3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4C293B-9026-46D1-855E-ABEF5246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FCA144-9D61-4737-9EAB-9002BC98A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A57796-DCC8-43BA-B2BC-DA69299E7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692064-C624-4F1E-94C4-A5B9237C7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9DE375-FED1-43AB-A96D-89311535C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98BD25-F6A0-4A6F-9E4D-F18C105B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35A44-FB44-4C92-900B-298D305562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B7B1E7-CE0B-439E-9320-E56055ED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7E1D6B-5804-4EA2-9E8E-DD9B0911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5E49D4-F450-4A70-A5BE-09D15ADAC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CAA5EC-316C-4238-AFCA-740A51075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DCB35A-1C84-4CD3-A90B-AD4C1D3C0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2E808-3620-4327-9249-5CAD8BBE65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046A4-520F-4DF6-85D4-58F5FD3017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F8F26-4651-46E5-9F88-AD2CECFBE5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CD999-9180-47EE-B561-8493ED4066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A44F0-9DD5-4D13-BA78-FB60DDAE70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0A69E-D2EF-4D70-B1B0-E638ADF984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CFE53-245C-4F11-8D74-67BD5F6F04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00000" y="1557360"/>
            <a:ext cx="8244000" cy="0"/>
          </a:xfrm>
          <a:prstGeom prst="line">
            <a:avLst/>
          </a:prstGeom>
          <a:ln cap="sq" w="101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E9872-510E-486C-ABEB-26EB36F8236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-27000"/>
            <a:ext cx="1219320" cy="6885000"/>
            <a:chOff x="0" y="-27000"/>
            <a:chExt cx="1219320" cy="6885000"/>
          </a:xfrm>
        </p:grpSpPr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0" y="-27000"/>
              <a:ext cx="121932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" descr=""/>
            <p:cNvPicPr/>
            <p:nvPr/>
          </p:nvPicPr>
          <p:blipFill>
            <a:blip r:embed="rId3"/>
            <a:stretch/>
          </p:blipFill>
          <p:spPr>
            <a:xfrm>
              <a:off x="0" y="1197000"/>
              <a:ext cx="121932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" descr=""/>
            <p:cNvPicPr/>
            <p:nvPr/>
          </p:nvPicPr>
          <p:blipFill>
            <a:blip r:embed="rId4"/>
            <a:stretch/>
          </p:blipFill>
          <p:spPr>
            <a:xfrm>
              <a:off x="0" y="2421000"/>
              <a:ext cx="121932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" descr=""/>
            <p:cNvPicPr/>
            <p:nvPr/>
          </p:nvPicPr>
          <p:blipFill>
            <a:blip r:embed="rId5"/>
            <a:stretch/>
          </p:blipFill>
          <p:spPr>
            <a:xfrm>
              <a:off x="0" y="3500280"/>
              <a:ext cx="1219320" cy="115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" descr=""/>
            <p:cNvPicPr/>
            <p:nvPr/>
          </p:nvPicPr>
          <p:blipFill>
            <a:blip r:embed="rId6"/>
            <a:stretch/>
          </p:blipFill>
          <p:spPr>
            <a:xfrm>
              <a:off x="0" y="4581360"/>
              <a:ext cx="1219320" cy="115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" descr=""/>
            <p:cNvPicPr/>
            <p:nvPr/>
          </p:nvPicPr>
          <p:blipFill>
            <a:blip r:embed="rId7"/>
            <a:stretch/>
          </p:blipFill>
          <p:spPr>
            <a:xfrm>
              <a:off x="0" y="5734080"/>
              <a:ext cx="1219320" cy="112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" name=""/>
          <p:cNvGrpSpPr/>
          <p:nvPr/>
        </p:nvGrpSpPr>
        <p:grpSpPr>
          <a:xfrm>
            <a:off x="179280" y="5877000"/>
            <a:ext cx="863640" cy="907560"/>
            <a:chOff x="179280" y="5877000"/>
            <a:chExt cx="863640" cy="907560"/>
          </a:xfrm>
        </p:grpSpPr>
        <p:sp>
          <p:nvSpPr>
            <p:cNvPr id="12" name=""/>
            <p:cNvSpPr/>
            <p:nvPr/>
          </p:nvSpPr>
          <p:spPr>
            <a:xfrm>
              <a:off x="179280" y="6603480"/>
              <a:ext cx="863640" cy="1810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00"/>
                  </a:solidFill>
                  <a:latin typeface="Humanst521 BT"/>
                </a:rPr>
                <a:t>DSC/CEEI/UFCG</a:t>
              </a: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28120" y="6164640"/>
              <a:ext cx="471600" cy="397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H="1" flipV="1">
              <a:off x="220680" y="5877000"/>
              <a:ext cx="470160" cy="398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30640" y="6178320"/>
              <a:ext cx="471240" cy="397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>
              <a:off x="221040" y="5889600"/>
              <a:ext cx="472680" cy="3992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143000" y="3213000"/>
            <a:ext cx="8001000" cy="0"/>
          </a:xfrm>
          <a:prstGeom prst="line">
            <a:avLst/>
          </a:prstGeom>
          <a:ln cap="sq" w="101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3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AAC4F-61F7-4699-9A15-9F82ECBABAFD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0" y="-27000"/>
            <a:ext cx="1618920" cy="6885000"/>
            <a:chOff x="0" y="-27000"/>
            <a:chExt cx="1618920" cy="6885000"/>
          </a:xfrm>
        </p:grpSpPr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0" y="-27000"/>
              <a:ext cx="161892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3"/>
            <a:stretch/>
          </p:blipFill>
          <p:spPr>
            <a:xfrm>
              <a:off x="0" y="1197000"/>
              <a:ext cx="161892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0" y="2421000"/>
              <a:ext cx="161892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5"/>
            <a:stretch/>
          </p:blipFill>
          <p:spPr>
            <a:xfrm>
              <a:off x="0" y="3500280"/>
              <a:ext cx="1618920" cy="115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6"/>
            <a:stretch/>
          </p:blipFill>
          <p:spPr>
            <a:xfrm>
              <a:off x="0" y="4581360"/>
              <a:ext cx="1618920" cy="115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7"/>
            <a:stretch/>
          </p:blipFill>
          <p:spPr>
            <a:xfrm>
              <a:off x="0" y="5734080"/>
              <a:ext cx="1618920" cy="112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" name=""/>
          <p:cNvGrpSpPr/>
          <p:nvPr/>
        </p:nvGrpSpPr>
        <p:grpSpPr>
          <a:xfrm>
            <a:off x="324000" y="5950080"/>
            <a:ext cx="863280" cy="907560"/>
            <a:chOff x="324000" y="5950080"/>
            <a:chExt cx="863280" cy="907560"/>
          </a:xfrm>
        </p:grpSpPr>
        <p:sp>
          <p:nvSpPr>
            <p:cNvPr id="66" name=""/>
            <p:cNvSpPr/>
            <p:nvPr/>
          </p:nvSpPr>
          <p:spPr>
            <a:xfrm>
              <a:off x="324000" y="6676560"/>
              <a:ext cx="863280" cy="1810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00"/>
                  </a:solidFill>
                  <a:latin typeface="Humanst521 BT"/>
                </a:rPr>
                <a:t>DSC/CEEI/UFCG</a:t>
              </a: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2480" y="6237720"/>
              <a:ext cx="471240" cy="397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 flipV="1">
              <a:off x="364680" y="5950080"/>
              <a:ext cx="469800" cy="398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75360" y="6251400"/>
              <a:ext cx="470880" cy="397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flipV="1">
              <a:off x="365760" y="5962680"/>
              <a:ext cx="472680" cy="3992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09680" y="160020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0b5b"/>
                </a:solidFill>
                <a:latin typeface="Tahoma"/>
              </a:rPr>
              <a:t>Introdução à Computa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057040" y="34290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Conceitos Básicos de Eletrônica Dig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(Parte I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24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57400" y="457200"/>
            <a:ext cx="662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0" y="-27000"/>
            <a:ext cx="1618920" cy="6885000"/>
            <a:chOff x="0" y="-27000"/>
            <a:chExt cx="1618920" cy="688500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0" y="-27000"/>
              <a:ext cx="161892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2"/>
            <a:stretch/>
          </p:blipFill>
          <p:spPr>
            <a:xfrm>
              <a:off x="0" y="1197000"/>
              <a:ext cx="161892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3"/>
            <a:stretch/>
          </p:blipFill>
          <p:spPr>
            <a:xfrm>
              <a:off x="0" y="2421000"/>
              <a:ext cx="161892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4"/>
            <a:stretch/>
          </p:blipFill>
          <p:spPr>
            <a:xfrm>
              <a:off x="0" y="3500280"/>
              <a:ext cx="1618920" cy="115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5"/>
            <a:stretch/>
          </p:blipFill>
          <p:spPr>
            <a:xfrm>
              <a:off x="0" y="4581360"/>
              <a:ext cx="1618920" cy="115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6"/>
            <a:stretch/>
          </p:blipFill>
          <p:spPr>
            <a:xfrm>
              <a:off x="0" y="5734080"/>
              <a:ext cx="1618920" cy="112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" name=""/>
          <p:cNvGrpSpPr/>
          <p:nvPr/>
        </p:nvGrpSpPr>
        <p:grpSpPr>
          <a:xfrm>
            <a:off x="324000" y="5950080"/>
            <a:ext cx="863280" cy="907560"/>
            <a:chOff x="324000" y="5950080"/>
            <a:chExt cx="863280" cy="907560"/>
          </a:xfrm>
        </p:grpSpPr>
        <p:sp>
          <p:nvSpPr>
            <p:cNvPr id="119" name=""/>
            <p:cNvSpPr/>
            <p:nvPr/>
          </p:nvSpPr>
          <p:spPr>
            <a:xfrm>
              <a:off x="324000" y="6676560"/>
              <a:ext cx="863280" cy="1810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00"/>
                  </a:solidFill>
                  <a:latin typeface="Humanst521 BT"/>
                </a:rPr>
                <a:t>DSC/CEEI/UFCG</a:t>
              </a: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72480" y="6237720"/>
              <a:ext cx="471240" cy="397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>
              <a:off x="364680" y="5950080"/>
              <a:ext cx="469800" cy="398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75360" y="6251400"/>
              <a:ext cx="470880" cy="397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 flipV="1">
              <a:off x="365760" y="5962680"/>
              <a:ext cx="472680" cy="3992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670120" y="1111320"/>
            <a:ext cx="6438960" cy="457200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771640" y="5805360"/>
          <a:ext cx="5867640" cy="91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5805360"/>
                    <a:ext cx="5867640" cy="9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1116000" y="265104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375"/>
              </a:spcBef>
              <a:buClr>
                <a:srgbClr val="200b5b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emplo em VHDL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714400" y="1206360"/>
            <a:ext cx="63435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-- O nome externo do arquivo: ORGATE.VH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LIBRARY IEEE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USE IEEE.STD_LOGIC_1164.ALL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ENTITY orgate I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PORT (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PB1, PB2   :  IN      STD_LOGIC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LED            :  OUT  STD_LOGIC 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END orgate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ARCHITECTURE a OF orgate I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LED &lt;= NOT ( NOT PB1 OR NOT PB2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END a;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1257480" y="44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cnologia de Lógica Programá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0C19A-E2F4-4E99-8FB5-E224D3D9284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257480" y="2115720"/>
            <a:ext cx="7635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to 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Compilação 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Simulação   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Verific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24000" y="2548080"/>
          <a:ext cx="8810640" cy="419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548080"/>
                    <a:ext cx="8810640" cy="41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831960" y="169704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441440" y="1849320"/>
            <a:ext cx="609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08240" y="1565280"/>
            <a:ext cx="78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 de um Projeto com o Max+Plus II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1289160" y="17748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cnologia de Lógica Programá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4B07C-6977-468B-B339-44809E917D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331640" y="2266920"/>
            <a:ext cx="756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epresenta uma nova idéia em filosofia de computação, na qual algum agente de hardware de propósito geral é configurado para realizar uma tarefa específica, mas pode ser reconfigurado sob demanda para realizar outras tarefas específic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ode ser considerada um tipo de implementação (modelo ou paradigma) de solução intermediária, dentre as tradicionais soluções em hardware (hardware fixo - HF) e em software (hardware programável - HP+SW).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619280" y="6093000"/>
            <a:ext cx="7048440" cy="7077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Fonte: REConfigurable Computing Definition. Disponível em: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http://www.acm.uiuc.edu/sigarch/projects/reconf/report_1.html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76200" y="1614600"/>
            <a:ext cx="786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mputação Reconfigurável</a:t>
            </a: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1257480" y="260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cnologia de Lógica Programá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869A9-E959-4CB7-8869-208FB2AEDA9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218960" y="2173320"/>
            <a:ext cx="7576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ndo esse tipo de computação pretende-se alcançar ou aproximar-se do desempenho das soluções implementadas em hardware fixo e da flexibilidade das soluções implementadas em software e hardware programá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ém do desempenho e da flexibilidade pode-se destacar outros fatores de motivação importantes como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iciência, custo, generalidade, tolerância à falh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e out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76200" y="1735200"/>
            <a:ext cx="786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mputação Reconfigurável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257480" y="3632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cnologia de Lógica Programá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D4114-47A5-4626-8A35-C6178B44041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373040" y="1812960"/>
            <a:ext cx="7591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gas gerações, de tecnologia de hardware, para projetos digita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nde número de chips contendo portas básic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ND e OR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anço tecnológic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jetos mais complexo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o de circuitos de alta densidade, que em geral incluem dispositivos como controladores, contadores, registradores e decodificador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senvolvimento de alternativas para obter flexibilidade em uma implementaçã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o de módulos programáveis (utilizam portas básicas e permitem assim a implementação 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s digita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 Estes módulos tem uma estrutura padrão e são personalizados para uma função particu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25748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cnologia de Lógica Programá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E6CCF-8E25-40BC-A331-20F5870245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99960" y="1676520"/>
            <a:ext cx="8477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95280" y="1752480"/>
            <a:ext cx="74041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mplos de  tipos e classes de dispositivos programáveis (configuráveis) com capacidade de implementar funções lógica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2160" algn="just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PLA (Programmable Logic Array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2160" algn="just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AL 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Programmable Array Logic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,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2160" algn="just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PLD's 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Complex Programmable Logic Device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2160" algn="just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PGA 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Mask Programmable Gate Array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2160" algn="just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PGA 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Field Programmable Gate Array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125748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cnologia de Lógica Programá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B181B-A62E-4A7A-8701-380B8DBD504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218960" y="1794960"/>
            <a:ext cx="7467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alta capacidade e a versatilidade dos dispositivos programáveis (Ex.: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FPGA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fazem destes uma alternativa considerável aos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ASIC'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Application Specific Integrated Circuit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ircuitos Integrados para Aplicações Específic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no projeto de sistemas digitais (desde circuitos combinacionais simples até circuitos seqüenciais complexos, p.ex.: microprocessadore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77080" y="4941720"/>
            <a:ext cx="1800360" cy="16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1371600" y="5338800"/>
            <a:ext cx="533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presas que fabricam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FPG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XILINX e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LTER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mais vendidas), AT&amp;T, ACTEL, dentre outra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1257480" y="3092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cnologia de Lógica Programá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17166-FAB1-45B7-B716-AA3FD75A60F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406600" y="246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58920" y="6127920"/>
            <a:ext cx="76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emplo de uma estrutura interna de um FPG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411200" y="1936800"/>
          <a:ext cx="739008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0" y="1936800"/>
                    <a:ext cx="7390080" cy="41036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97080" y="260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cnologia de Lógica Programá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CA8A8-3D9E-4DAE-B691-8903F730CC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276200" y="634536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mplo: Estrutura do FPGA FLEX 10KE - Alter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504800" y="617400"/>
            <a:ext cx="7219800" cy="5695920"/>
            <a:chOff x="1504800" y="617400"/>
            <a:chExt cx="7219800" cy="5695920"/>
          </a:xfrm>
        </p:grpSpPr>
        <p:pic>
          <p:nvPicPr>
            <p:cNvPr id="140" name="" descr=""/>
            <p:cNvPicPr/>
            <p:nvPr/>
          </p:nvPicPr>
          <p:blipFill>
            <a:blip r:embed="rId1"/>
            <a:stretch/>
          </p:blipFill>
          <p:spPr>
            <a:xfrm>
              <a:off x="1504800" y="617400"/>
              <a:ext cx="7219800" cy="5695920"/>
            </a:xfrm>
            <a:prstGeom prst="rect">
              <a:avLst/>
            </a:prstGeom>
            <a:ln cap="sq" w="12600">
              <a:solidFill>
                <a:srgbClr val="000000"/>
              </a:solidFill>
              <a:miter/>
            </a:ln>
          </p:spPr>
        </p:pic>
        <p:sp>
          <p:nvSpPr>
            <p:cNvPr id="141" name=""/>
            <p:cNvSpPr/>
            <p:nvPr/>
          </p:nvSpPr>
          <p:spPr>
            <a:xfrm>
              <a:off x="1504800" y="645840"/>
              <a:ext cx="628560" cy="266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32CFB-EF47-4D52-B0FF-DAF09841942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278000" y="638316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mplo: Estrutura do FPGA FLEX 10KE - Alter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430280" y="333360"/>
            <a:ext cx="7462800" cy="5913360"/>
            <a:chOff x="1430280" y="333360"/>
            <a:chExt cx="7462800" cy="591336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1430280" y="333360"/>
              <a:ext cx="7462800" cy="5913360"/>
            </a:xfrm>
            <a:prstGeom prst="rect">
              <a:avLst/>
            </a:prstGeom>
            <a:ln cap="sq" w="12600">
              <a:solidFill>
                <a:srgbClr val="000000"/>
              </a:solidFill>
              <a:miter/>
            </a:ln>
          </p:spPr>
        </p:pic>
        <p:sp>
          <p:nvSpPr>
            <p:cNvPr id="145" name=""/>
            <p:cNvSpPr/>
            <p:nvPr/>
          </p:nvSpPr>
          <p:spPr>
            <a:xfrm>
              <a:off x="1430280" y="357120"/>
              <a:ext cx="609840" cy="266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C2231-5889-4F7F-B887-13FB8BF66D0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258560" y="1628280"/>
            <a:ext cx="7677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orma usual de Programação de FPGA: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 HDL 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Hardware Description Language)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– linguagens de alto nível, semelhantes à linguagem C e PASCAL, que, a partir de instruções com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elseif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definem o comportamento desejado para o circuito. Exemplos: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VHD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Very High Speed Integrated Circuit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HD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Verilog HD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gramas escritos nessas linguagens são compilados usando-se uma ferramenta que pode gerar os bits de configuração para um dispositivo específico. Exemplos de ambientes (ferramentas) para projeto: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Max+Plus II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Quartus 3.0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24000" y="6087960"/>
            <a:ext cx="7885080" cy="642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istem também ferramentas que, a partir da captura do esquemático, geram os bits de configuração de um dispositivo reconfigurável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1293840" y="260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cnologia de Lógica Programá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9C7ED-AD55-45FA-8369-1EEF413C2EE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055960" y="2246400"/>
            <a:ext cx="6019560" cy="457200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// *********** ALU ***************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wire [15:0] a = h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wire [15:0] aend  =  ena ?    a  :   0  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wire [15:0] bend  =  enb ?    b  :   0  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wire [15:0] ainvd = inva ? ~aend : aend 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wire [15:0] ab = f==0 ?  ainvd &amp; bend :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f==1 ? ~bend :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f==2 ? ainvd | bend :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invd + bend + inc 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37040" y="1636560"/>
            <a:ext cx="348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 em Verilo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cnologia de Lógica Programá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8E86A-4D88-46DC-BCFC-4DF134F5C15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 M. Fechine</dc:creator>
  <dc:description/>
  <dc:language>en-US</dc:language>
  <cp:lastModifiedBy>Alberto Lima</cp:lastModifiedBy>
  <cp:lastPrinted>2003-02-17T02:27:11Z</cp:lastPrinted>
  <dcterms:modified xsi:type="dcterms:W3CDTF">2007-10-31T13:47:15Z</dcterms:modified>
  <cp:revision>1256</cp:revision>
  <dc:subject/>
  <dc:title>Introdução à Computação</dc:title>
</cp:coreProperties>
</file>